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AE0D-91AB-4D6B-8E43-2F5B1A953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7B4F-B33B-4DF5-9B61-964A47CC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3CDA-7D0E-4FC2-AC2B-AD7C13E4E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9575-BF63-40AE-98E5-0223EECCE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5AC4-31E4-4318-A160-883C9104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43D4-E96B-4B8A-A1D1-11208E50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7982-A621-4CCF-B2AD-51DBE607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BD5D-2A19-4042-A821-805FCE9D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A964-0449-401C-92A7-FE8A8B03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299F-ACC3-49DC-9C43-DF5140B7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8FDD-53C9-4A30-95BC-B6154481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3287-2DD7-4196-BBB8-CE2A40B4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62FF-B7B4-43AD-B006-F820FC66E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341360"/>
          <a:ext cx="8642160" cy="475308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DISEÑO 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uente deb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portar una carga móvil (carrito tirado por una cuerda) de 3[Kgr]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ner una luz de 35 [cm], con una altura mínima de 10 [cm] bajo el punto medio del puente, y un ancho mínimo de 15 [cms] para que pase el carr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ar con rampas de acceso.(pueden estar aparte de la estructura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mizar los costo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 tamaño (o el de sus partes) debe ser menor a la de los casilleros (45x43x22 cm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796000" y="3068640"/>
            <a:ext cx="1944720" cy="1511280"/>
          </a:xfrm>
          <a:prstGeom prst="cube">
            <a:avLst>
              <a:gd name="adj" fmla="val 59453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3068640"/>
            <a:ext cx="1944720" cy="1511280"/>
          </a:xfrm>
          <a:prstGeom prst="cube">
            <a:avLst>
              <a:gd name="adj" fmla="val 59453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27280" y="3427560"/>
            <a:ext cx="36720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427640" y="2779560"/>
            <a:ext cx="0" cy="6480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33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uz: 3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56000" y="278136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ura libre: 1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012000" y="3211200"/>
            <a:ext cx="576000" cy="576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99280" y="3357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cho: 1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50920" y="1341360"/>
          <a:ext cx="8642160" cy="364176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7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1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uente deb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construido sólo con el material seleccionado: papel (tubos de ½ hoja de oficio), cartón (perfil L 1x1 20 cm.), madera (palitos de brocheta) y cola fría la que será medida y tendrá un costo de 10 []/gram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solo puede apoyarse en la mesas no está permitido, pegarlo o fijarlo de otra maner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42920" y="1773360"/>
          <a:ext cx="7418520" cy="3395520"/>
        </p:xfrm>
        <a:graphic>
          <a:graphicData uri="http://schemas.openxmlformats.org/drawingml/2006/table">
            <a:tbl>
              <a:tblPr/>
              <a:tblGrid>
                <a:gridCol w="7418520"/>
              </a:tblGrid>
              <a:tr h="99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DE DISEÑ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8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jetivo: confección de planos que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mitan construi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mitan cubicar → hacer la cubicació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42920" y="1557360"/>
          <a:ext cx="7418520" cy="4887720"/>
        </p:xfrm>
        <a:graphic>
          <a:graphicData uri="http://schemas.openxmlformats.org/drawingml/2006/table">
            <a:tbl>
              <a:tblPr/>
              <a:tblGrid>
                <a:gridCol w="7418520"/>
              </a:tblGrid>
              <a:tr h="98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OS (Cap-10)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8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os de proyecto en base a vistas isométricas (sin perspectiva)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on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ior o plant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er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26920" y="1484280"/>
            <a:ext cx="756144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1557360"/>
            <a:ext cx="741708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5229360"/>
            <a:ext cx="74170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5445000"/>
            <a:ext cx="7417080" cy="1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43640" y="5229360"/>
            <a:ext cx="18734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32360" y="5229360"/>
            <a:ext cx="33847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92360" y="1844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1618920" y="1557000"/>
            <a:ext cx="144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80000" y="4365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04000" y="4653000"/>
            <a:ext cx="289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32000" y="4508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iones anteriores (fecha-dibuj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835280" y="4869000"/>
            <a:ext cx="72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134136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to:  Libre (A4, Carta, Doble carta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773360"/>
            <a:ext cx="208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4360" y="2205000"/>
            <a:ext cx="820872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º Documento (ej: proyecto, sección, grupo, plano P1-S1-G04-Pl-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visión (A: interna, B: entregado a cliente, 0-para construcción, 1-2-… modificaci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e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upo- S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bujante- Re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mentarios Artefacto Misterios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Trabajo en Equipo (Cap-6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20500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    r    u    p    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7242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Equip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484360" y="3284640"/>
            <a:ext cx="4248000" cy="1800000"/>
            <a:chOff x="2484360" y="3284640"/>
            <a:chExt cx="4248000" cy="1800000"/>
          </a:xfrm>
        </p:grpSpPr>
        <p:sp>
          <p:nvSpPr>
            <p:cNvPr id="55" name=""/>
            <p:cNvSpPr/>
            <p:nvPr/>
          </p:nvSpPr>
          <p:spPr>
            <a:xfrm>
              <a:off x="2484360" y="3284640"/>
              <a:ext cx="1150920" cy="1800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3280" y="3355920"/>
              <a:ext cx="0" cy="1728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5292720" y="3429000"/>
              <a:ext cx="287280" cy="165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64000" y="3284640"/>
              <a:ext cx="503280" cy="1800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5651280" y="3429000"/>
              <a:ext cx="1081080" cy="165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2682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Básico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184464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espe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278136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Valorar y aprovechar fortalez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371808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Apoyar en debilidad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4654440"/>
            <a:ext cx="8964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Orientar a meta fin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2682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lav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220356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Interdependencia Positiv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3139920"/>
            <a:ext cx="8964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esponsabilidad individu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4076640"/>
            <a:ext cx="8964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Interac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01336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Habilidades Socia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2682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ol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1844640"/>
            <a:ext cx="7345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Lí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2781360"/>
            <a:ext cx="7417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Secretar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3718080"/>
            <a:ext cx="7129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ff"/>
                </a:solidFill>
                <a:latin typeface="Times New Roman"/>
              </a:rPr>
              <a:t>Facilita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4654440"/>
            <a:ext cx="6985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Enl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7865600">
            <a:off x="4694040" y="3234960"/>
            <a:ext cx="4508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Times New Roman"/>
              </a:rPr>
              <a:t>ROT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2205000"/>
            <a:ext cx="4105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Planific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40360" y="3355920"/>
            <a:ext cx="4679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Metas clar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40360" y="4292640"/>
            <a:ext cx="424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o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40360" y="5229360"/>
            <a:ext cx="4537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mpromis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413000"/>
            <a:ext cx="3816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eunion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2205000"/>
            <a:ext cx="5867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Plantear clarame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3284640"/>
            <a:ext cx="4680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Saber escuch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4292640"/>
            <a:ext cx="6551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Buscar opcio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5229360"/>
            <a:ext cx="5329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Llegar a acuer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413000"/>
            <a:ext cx="3816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flicto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50920" y="1511280"/>
          <a:ext cx="8713800" cy="4581360"/>
        </p:xfrm>
        <a:graphic>
          <a:graphicData uri="http://schemas.openxmlformats.org/drawingml/2006/table">
            <a:tbl>
              <a:tblPr/>
              <a:tblGrid>
                <a:gridCol w="1001520"/>
                <a:gridCol w="771228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áted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pre-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A : Ensaye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M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Definición de Planos – Pruebas prelimin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Confección de Pla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Correcciones a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Diseño definitivo –Pruebas – Planos “As built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ega Informe Final- Presentac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0" y="3789360"/>
            <a:ext cx="9144000" cy="93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3-26T22:24:45Z</dcterms:modified>
  <cp:revision>29</cp:revision>
  <dc:subject/>
  <dc:title>EL63A-Taller de Proyecto en Control II</dc:title>
</cp:coreProperties>
</file>