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70F-BFA0-4B38-9BA7-3ECE6779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B60-FA7C-4F13-9666-394205E9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C6C-44D2-4B75-A9F8-408B05B0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60E-609D-4DB0-8F37-1B72A3A1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16B-BAE4-468B-AC80-6D7D184A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651-27B9-4BC2-B7C1-5BE14410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394-EEF0-441C-880A-672216A5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9E2-2C93-4325-8B37-8AAD9EFD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7CA-8E28-4D20-A323-508A09B6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5EC-6C67-4E79-BBD6-7018EE68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F7B-A7FF-4D87-95E1-7EB435CC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5D8-F37D-46CF-917E-719865DE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D501-F355-4152-B912-5E9ECC9AB3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229360"/>
            <a:ext cx="80643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49228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grupos (5 c/u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Desarrollo de temas en Cáted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Proyectos en horario de Laborato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F= 40%NP1 + 40%NP2 +  20%NCl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P1, NP2: Notas proyectos</a:t>
            </a: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Cl: Nota de Clase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06T00:23:30Z</dcterms:modified>
  <cp:revision>13</cp:revision>
  <dc:subject/>
  <dc:title>EL63A-Taller de Proyecto en Control II</dc:title>
</cp:coreProperties>
</file>