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30D-D207-438A-A5BD-DF5CEAE8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425-FF41-4439-A6E4-4C8C8EAE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51B-1636-433A-8AAA-C7C47CFC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FA8-F4C0-4ACD-A474-46576E41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74B-FD4F-4239-9A80-0FDFDD7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AE8-2426-4F35-91F4-36BD3DF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445-ED28-4C8C-96F4-5697CDC6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6EC-4B7B-4A72-AB3A-C4C7ADBA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C72-D845-427F-AFF8-CA1D82DC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33C-63E0-4017-A2F7-65D5751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FDD-D5D9-4BB9-97FC-F0AE9D23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6E8-8B86-4C6E-BE77-71FC3E9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DF52-131E-43ED-848A-A01325E0F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Jueves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e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3T21:30:12Z</dcterms:modified>
  <cp:revision>23</cp:revision>
  <dc:subject/>
  <dc:title>EL63A-Taller de Proyecto en Control II</dc:title>
</cp:coreProperties>
</file>