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1E7-D1CE-4CBA-B154-93D2556B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8D2-C8A8-4CB5-AE8A-E92AF0B8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FB3-0E25-4800-8D68-61165857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F68-6CC0-4B92-9FB5-EB17C092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B6A-3F11-457B-BCEF-8435EBB8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672-D5BD-470F-A171-5645293F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2E5-B410-4776-BAD8-6BF0D2A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F0D-EDCB-4399-83E9-D423DC03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A37-7094-443E-917F-D61C212B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0D3-0482-4DD6-9D01-DF4374E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B8F-1C35-4503-A768-33F11948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5EB-18D3-4737-B4DA-862A43E0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0B5-841E-46B3-A68D-82A7472E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3T21:30:12Z</dcterms:modified>
  <cp:revision>23</cp:revision>
  <dc:subject/>
  <dc:title>EL63A-Taller de Proyecto en Control II</dc:title>
</cp:coreProperties>
</file>