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FA2-CFCC-4FC4-9275-88C0D836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72F-BBBF-4420-9466-C87DD83E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446-F729-4BE7-A6FC-87136A39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D1A-36BE-4062-8AB3-1E9C7556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AB7-9184-4A63-A407-07D64864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7D2-34E9-4B9F-AF64-87BE878B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D62-03C2-4C79-985A-A8BE09E6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095-831E-4B9C-A8BB-2C200EAB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DBE-0A90-4A17-81FF-B1942E84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56C-5556-4C8C-94C9-4F00BBC3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DA2-0C12-4E2F-B087-B8B4669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7CD-E29B-4766-9884-603A47DA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B62D-4AD2-4FDE-AEDF-AD9A6706E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5230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3 materiales disponibles: Madera (palitos), papel (tubos), cartón (perfil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lase de Taller, se deben realizar los ensayes de: tracción, compresión y momento, determinando el valor lím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siguiente clase se debe entregar un informe que contenga la forma en que se a realizaron las pruebas, sus resultados y el material escogido, considerando los resultados de las pruebas y costos de cada u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557360"/>
          <a:ext cx="7777080" cy="32875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tubos de media hoja oficio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≈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n: Perfil “L” de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388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Pa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Hoja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297000">
            <a:off x="613692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03280" y="342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4436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 ≈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341360"/>
          <a:ext cx="8642160" cy="42483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1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400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7280" y="2565000"/>
            <a:ext cx="2086920" cy="2160720"/>
            <a:chOff x="4067280" y="2565000"/>
            <a:chExt cx="2086920" cy="2160720"/>
          </a:xfrm>
        </p:grpSpPr>
        <p:sp>
          <p:nvSpPr>
            <p:cNvPr id="106" name=""/>
            <p:cNvSpPr/>
            <p:nvPr/>
          </p:nvSpPr>
          <p:spPr>
            <a:xfrm>
              <a:off x="406728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6200000">
              <a:off x="425052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341360"/>
          <a:ext cx="8642160" cy="39592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Mad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422676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29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ito de Boch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642160" cy="43927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Tr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2565360"/>
            <a:ext cx="3024000" cy="2879280"/>
            <a:chOff x="2771640" y="2565360"/>
            <a:chExt cx="3024000" cy="2879280"/>
          </a:xfrm>
        </p:grpSpPr>
        <p:sp>
          <p:nvSpPr>
            <p:cNvPr id="119" name=""/>
            <p:cNvSpPr/>
            <p:nvPr/>
          </p:nvSpPr>
          <p:spPr>
            <a:xfrm>
              <a:off x="4145400" y="2735280"/>
              <a:ext cx="183600" cy="211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53440" y="2565360"/>
              <a:ext cx="2108520" cy="169560"/>
              <a:chOff x="2953440" y="2565360"/>
              <a:chExt cx="2108520" cy="16956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3440" y="2734920"/>
                <a:ext cx="21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954880" y="2565360"/>
                <a:ext cx="2103840" cy="169560"/>
                <a:chOff x="2954880" y="2565360"/>
                <a:chExt cx="2103840" cy="16956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95488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229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5056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37807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0514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3261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6029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487764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4238280" y="4766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70360" y="2734920"/>
              <a:ext cx="0" cy="21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1640" y="3666960"/>
              <a:ext cx="12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3960" y="485280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2600" y="298908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9" idx="3"/>
              <a:endCxn id="135" idx="2"/>
            </p:cNvCxnSpPr>
            <p:nvPr/>
          </p:nvCxnSpPr>
          <p:spPr>
            <a:xfrm flipV="1">
              <a:off x="432864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Compre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05000"/>
            <a:ext cx="3514680" cy="2933640"/>
            <a:chOff x="2700360" y="2205000"/>
            <a:chExt cx="3514680" cy="2933640"/>
          </a:xfrm>
        </p:grpSpPr>
        <p:sp>
          <p:nvSpPr>
            <p:cNvPr id="142" name=""/>
            <p:cNvSpPr/>
            <p:nvPr/>
          </p:nvSpPr>
          <p:spPr>
            <a:xfrm>
              <a:off x="4586400" y="22050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512960" y="2852640"/>
              <a:ext cx="183960" cy="2117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79640" y="4969080"/>
              <a:ext cx="2108160" cy="169560"/>
              <a:chOff x="3779640" y="4969080"/>
              <a:chExt cx="2108160" cy="1695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79640" y="4969080"/>
                <a:ext cx="21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782880" y="4969080"/>
                <a:ext cx="2103480" cy="169560"/>
                <a:chOff x="3782880" y="4969080"/>
                <a:chExt cx="2103480" cy="16956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7052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4302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1537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908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083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333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056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7828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971960" y="28526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3858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3493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0360" y="4074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43" idx="3"/>
              <a:endCxn id="158" idx="0"/>
            </p:cNvCxnSpPr>
            <p:nvPr/>
          </p:nvCxnSpPr>
          <p:spPr>
            <a:xfrm flipV="1" rot="10800000">
              <a:off x="334080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341360"/>
          <a:ext cx="8642160" cy="406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Mo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2520" y="2133720"/>
            <a:ext cx="3422520" cy="2338200"/>
            <a:chOff x="2792520" y="2133720"/>
            <a:chExt cx="3422520" cy="2338200"/>
          </a:xfrm>
        </p:grpSpPr>
        <p:sp>
          <p:nvSpPr>
            <p:cNvPr id="165" name=""/>
            <p:cNvSpPr/>
            <p:nvPr/>
          </p:nvSpPr>
          <p:spPr>
            <a:xfrm>
              <a:off x="5116680" y="32004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141800" y="1919160"/>
              <a:ext cx="187200" cy="2546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2440" y="2363760"/>
              <a:ext cx="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2520" y="42861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40118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37353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2520" y="346068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2520" y="31892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92520" y="29145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2520" y="26384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2520" y="23637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962440" y="3557160"/>
              <a:ext cx="21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6450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3286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5280" y="2133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66" idx="3"/>
              <a:endCxn id="179" idx="2"/>
            </p:cNvCxnSpPr>
            <p:nvPr/>
          </p:nvCxnSpPr>
          <p:spPr>
            <a:xfrm flipH="1" flipV="1" rot="5400000">
              <a:off x="395604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 Artefacto Miste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268280"/>
            <a:ext cx="72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3429000"/>
            <a:ext cx="72010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4941720"/>
          <a:ext cx="7416720" cy="1092240"/>
        </p:xfrm>
        <a:graphic>
          <a:graphicData uri="http://schemas.openxmlformats.org/drawingml/2006/table">
            <a:tbl>
              <a:tblPr/>
              <a:tblGrid>
                <a:gridCol w="1090440"/>
                <a:gridCol w="463680"/>
                <a:gridCol w="379440"/>
                <a:gridCol w="384120"/>
                <a:gridCol w="382680"/>
                <a:gridCol w="382320"/>
                <a:gridCol w="379440"/>
                <a:gridCol w="382680"/>
                <a:gridCol w="406440"/>
                <a:gridCol w="407880"/>
                <a:gridCol w="406440"/>
                <a:gridCol w="405000"/>
                <a:gridCol w="404640"/>
                <a:gridCol w="384120"/>
                <a:gridCol w="382680"/>
                <a:gridCol w="382680"/>
                <a:gridCol w="392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o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28640"/>
          <a:ext cx="8280000" cy="432144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r al alumno al diseño y trabajo en proyectos, planteando un desafío concreto con restricciones re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ejo de conceptos de ensayes y evaluación de materi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estimación de costos al diseño de un pu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r una estructura auto soportante que cumpla con las solicitaciones d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o de planos que permitan la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el puente y probarl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2060640"/>
          <a:ext cx="5904000" cy="28080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libre mínima de 10 [cm] a lo largo de toda la luz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773360"/>
          <a:ext cx="6265800" cy="31924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DE TRABAJO EN LABO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, ayud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implementos de Segur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3T21:30:12Z</dcterms:modified>
  <cp:revision>23</cp:revision>
  <dc:subject/>
  <dc:title>EL63A-Taller de Proyecto en Control II</dc:title>
</cp:coreProperties>
</file>