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FECD-4D58-4D2E-BD81-C7EB19A4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6D4-0473-49A9-9B79-863FC685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79C-966D-44C1-AD23-C0A70914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8B69-EEB6-4CA0-8C70-EB2B60B0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CFC6-127F-40E5-81DC-89BCE656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05C-4D7F-4EB6-8616-97212AC9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26B-3B6C-4491-A802-B2143EAC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6A4-FE3F-4320-8338-8FA3D29F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F196-C446-4C94-982E-459B7B4A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6C79-9876-49BD-BA7F-5FDD3B04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5D94-DA09-44DA-AB61-A494D4FE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0BC-BFCF-40A4-82F7-7FBA9173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D5EE-7B68-47C5-83E8-57896A1084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229360"/>
            <a:ext cx="80643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249228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Trabajo en grupos (5 c/u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Desarrollo de temas en Cáted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Trabajo en Proyectos en horario de Laborator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F= 40%NP1 + 40%NP2 +  20%NCl</a:t>
            </a:r>
            <a:br>
              <a:rPr sz="4000"/>
            </a:br>
            <a:br>
              <a:rPr sz="4000"/>
            </a:b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P1, NP2: Notas proyectos</a:t>
            </a:r>
            <a:br>
              <a:rPr sz="4000"/>
            </a:b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Cl: Nota de Clase</a:t>
            </a:r>
            <a:r>
              <a:rPr b="0" lang="es-E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06T00:23:30Z</dcterms:modified>
  <cp:revision>13</cp:revision>
  <dc:subject/>
  <dc:title>EL63A-Taller de Proyecto en Control II</dc:title>
</cp:coreProperties>
</file>