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F2A5-A9B6-4AB9-810A-CC54DDF7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A2C-F09D-4949-A849-466FFA47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C860-4D6A-488D-8B05-DAFD68A5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84F7-FD30-45E0-913B-D9984E90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086A-1919-4B35-B42F-CEB54970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22E9-11BF-4FE5-83A6-EAB40736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4E79-44C0-4E86-B692-D6F1C7BD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8DB9-CC1B-4862-BFC8-452EA8E2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7A7E-357B-4FED-9C29-58313A39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6CF-A293-4054-B4E9-C098717F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F490-B6E1-4B68-8FCA-46F112BA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9EA3-276C-42B3-8E93-9D0639FF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00B3-ECE9-4A19-A2D2-AD2C8527503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229360"/>
            <a:ext cx="80643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249228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Trabajo en grupos (5 c/u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Desarrollo de temas en Cáted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Trabajo en Proyectos en horario de Laborator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F= 40%NP1 + 40%NP2 +  20%NCl</a:t>
            </a:r>
            <a:br>
              <a:rPr sz="4000"/>
            </a:br>
            <a:br>
              <a:rPr sz="4000"/>
            </a:b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P1, NP2: Notas proyectos</a:t>
            </a:r>
            <a:br>
              <a:rPr sz="4000"/>
            </a:b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Cl: Nota de Clase</a:t>
            </a:r>
            <a:r>
              <a:rPr b="0" lang="es-E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06T00:23:30Z</dcterms:modified>
  <cp:revision>13</cp:revision>
  <dc:subject/>
  <dc:title>EL63A-Taller de Proyecto en Control II</dc:title>
</cp:coreProperties>
</file>