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D8F-D723-43F6-8C53-3749C963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FF7-F701-4526-860C-6F977BB2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CCA-8973-48F2-B163-D4BFFBE5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557-BCB4-40F9-8616-60B4B54A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1B6B-0480-4718-8BB1-7D179945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BD6-C784-4C82-8386-795588F7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D52-131C-485C-90A7-D9FF020D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F2C-A6C0-46E5-9D09-6004CD7E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F20-365C-4071-B1EE-7E7FCC6F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22A-0B94-4CAD-ADC6-843BC76F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4D28-12F9-4CD9-B125-624250A5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6FB-9EFA-4DE3-A68E-2AA8A6E4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84EF-7F23-4FDF-9C40-2B882E8D3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341360"/>
          <a:ext cx="8642160" cy="45230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isten 3 materiales disponibles: Madera (palitos), papel (tubos), cartón (perfile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lase de Taller, se deben realizar los ensayes de: tracción, compresión y momento, determinando el valor lími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siguiente clase se debe entregar un informe que contenga la forma en que se a realizaron las pruebas, sus resultados y el material escogido, considerando los resultados de las pruebas y costos de cada u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4360" y="1557360"/>
          <a:ext cx="7777080" cy="3287520"/>
        </p:xfrm>
        <a:graphic>
          <a:graphicData uri="http://schemas.openxmlformats.org/drawingml/2006/table">
            <a:tbl>
              <a:tblPr/>
              <a:tblGrid>
                <a:gridCol w="6553080"/>
                <a:gridCol w="122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: palitos de Broch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: tubos de media hoja oficio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≈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on: Perfil “L” de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341360"/>
          <a:ext cx="8642160" cy="3888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Pa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85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Hoja O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297000">
            <a:off x="613692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003280" y="3428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219280" y="4436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400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ø ≈ 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1341360"/>
          <a:ext cx="8642160" cy="42483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Car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51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2400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067280" y="2565000"/>
            <a:ext cx="2086920" cy="2160720"/>
            <a:chOff x="4067280" y="2565000"/>
            <a:chExt cx="2086920" cy="2160720"/>
          </a:xfrm>
        </p:grpSpPr>
        <p:sp>
          <p:nvSpPr>
            <p:cNvPr id="106" name=""/>
            <p:cNvSpPr/>
            <p:nvPr/>
          </p:nvSpPr>
          <p:spPr>
            <a:xfrm>
              <a:off x="406728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 rot="16200000">
              <a:off x="425052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341360"/>
          <a:ext cx="8642160" cy="39592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Mad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5297000">
            <a:off x="422676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29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lito de Boch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341360"/>
          <a:ext cx="8642160" cy="43927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Tra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71640" y="2565360"/>
            <a:ext cx="3024000" cy="2879280"/>
            <a:chOff x="2771640" y="2565360"/>
            <a:chExt cx="3024000" cy="2879280"/>
          </a:xfrm>
        </p:grpSpPr>
        <p:sp>
          <p:nvSpPr>
            <p:cNvPr id="119" name=""/>
            <p:cNvSpPr/>
            <p:nvPr/>
          </p:nvSpPr>
          <p:spPr>
            <a:xfrm>
              <a:off x="4145400" y="2735280"/>
              <a:ext cx="183600" cy="211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953440" y="2565360"/>
              <a:ext cx="2108520" cy="169560"/>
              <a:chOff x="2953440" y="2565360"/>
              <a:chExt cx="2108520" cy="169560"/>
            </a:xfrm>
          </p:grpSpPr>
          <p:sp>
            <p:nvSpPr>
              <p:cNvPr id="121" name=""/>
              <p:cNvSpPr/>
              <p:nvPr/>
            </p:nvSpPr>
            <p:spPr>
              <a:xfrm>
                <a:off x="2953440" y="2734920"/>
                <a:ext cx="210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2954880" y="2565360"/>
                <a:ext cx="2103840" cy="169560"/>
                <a:chOff x="2954880" y="2565360"/>
                <a:chExt cx="2103840" cy="16956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295488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3229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35056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37807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40514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43261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46029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487764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4238280" y="476676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70360" y="2734920"/>
              <a:ext cx="0" cy="21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71640" y="3666960"/>
              <a:ext cx="128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3960" y="485280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12600" y="298908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>
              <a:stCxn id="119" idx="3"/>
              <a:endCxn id="135" idx="2"/>
            </p:cNvCxnSpPr>
            <p:nvPr/>
          </p:nvCxnSpPr>
          <p:spPr>
            <a:xfrm flipV="1">
              <a:off x="432864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642160" cy="46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Compre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00360" y="2205000"/>
            <a:ext cx="3514680" cy="2933640"/>
            <a:chOff x="2700360" y="2205000"/>
            <a:chExt cx="3514680" cy="2933640"/>
          </a:xfrm>
        </p:grpSpPr>
        <p:sp>
          <p:nvSpPr>
            <p:cNvPr id="142" name=""/>
            <p:cNvSpPr/>
            <p:nvPr/>
          </p:nvSpPr>
          <p:spPr>
            <a:xfrm>
              <a:off x="4586400" y="22050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4512960" y="2852640"/>
              <a:ext cx="183960" cy="2117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779640" y="4969080"/>
              <a:ext cx="2108160" cy="169560"/>
              <a:chOff x="3779640" y="4969080"/>
              <a:chExt cx="2108160" cy="16956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3779640" y="4969080"/>
                <a:ext cx="21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782880" y="4969080"/>
                <a:ext cx="2103480" cy="169560"/>
                <a:chOff x="3782880" y="4969080"/>
                <a:chExt cx="2103480" cy="169560"/>
              </a:xfrm>
            </p:grpSpPr>
            <p:sp>
              <p:nvSpPr>
                <p:cNvPr id="147" name=""/>
                <p:cNvSpPr/>
                <p:nvPr/>
              </p:nvSpPr>
              <p:spPr>
                <a:xfrm flipV="1">
                  <a:off x="57052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54302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51537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87908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6083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4333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4056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7828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4971960" y="285264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2360" y="3858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3320" y="234936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0360" y="4074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43" idx="3"/>
              <a:endCxn id="158" idx="0"/>
            </p:cNvCxnSpPr>
            <p:nvPr/>
          </p:nvCxnSpPr>
          <p:spPr>
            <a:xfrm flipV="1" rot="10800000">
              <a:off x="334080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0920" y="1341360"/>
          <a:ext cx="8642160" cy="40626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Mo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92520" y="2133720"/>
            <a:ext cx="3422520" cy="2338200"/>
            <a:chOff x="2792520" y="2133720"/>
            <a:chExt cx="3422520" cy="2338200"/>
          </a:xfrm>
        </p:grpSpPr>
        <p:sp>
          <p:nvSpPr>
            <p:cNvPr id="165" name=""/>
            <p:cNvSpPr/>
            <p:nvPr/>
          </p:nvSpPr>
          <p:spPr>
            <a:xfrm>
              <a:off x="5116680" y="32004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4141800" y="1919160"/>
              <a:ext cx="187200" cy="2546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962440" y="2363760"/>
              <a:ext cx="0" cy="21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92520" y="42861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92520" y="40118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2520" y="37353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92520" y="346068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2520" y="31892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92520" y="29145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92520" y="26384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92520" y="23637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962440" y="3557160"/>
              <a:ext cx="21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3640" y="364500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360" y="3286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35280" y="21337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66" idx="3"/>
              <a:endCxn id="179" idx="2"/>
            </p:cNvCxnSpPr>
            <p:nvPr/>
          </p:nvCxnSpPr>
          <p:spPr>
            <a:xfrm flipH="1" flipV="1" rot="5400000">
              <a:off x="395604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8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idad Artefacto Mister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1268280"/>
            <a:ext cx="72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sta el Jueves a las 12:00 pueden poner en el foro 3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3429000"/>
            <a:ext cx="72010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Para que se utiliz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11280" y="4941720"/>
          <a:ext cx="7416720" cy="1092240"/>
        </p:xfrm>
        <a:graphic>
          <a:graphicData uri="http://schemas.openxmlformats.org/drawingml/2006/table">
            <a:tbl>
              <a:tblPr/>
              <a:tblGrid>
                <a:gridCol w="1090440"/>
                <a:gridCol w="463680"/>
                <a:gridCol w="379440"/>
                <a:gridCol w="384120"/>
                <a:gridCol w="382680"/>
                <a:gridCol w="382320"/>
                <a:gridCol w="379440"/>
                <a:gridCol w="382680"/>
                <a:gridCol w="406440"/>
                <a:gridCol w="407880"/>
                <a:gridCol w="406440"/>
                <a:gridCol w="405000"/>
                <a:gridCol w="404640"/>
                <a:gridCol w="384120"/>
                <a:gridCol w="382680"/>
                <a:gridCol w="382680"/>
                <a:gridCol w="3920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po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do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28640"/>
          <a:ext cx="8280000" cy="4321440"/>
        </p:xfrm>
        <a:graphic>
          <a:graphicData uri="http://schemas.openxmlformats.org/drawingml/2006/table">
            <a:tbl>
              <a:tblPr/>
              <a:tblGrid>
                <a:gridCol w="828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1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ir al alumno al diseño y trabajo en proyectos, planteando un desafío concreto con restricciones re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ejo de conceptos de ensayes y evaluación de materi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estimación de costos al diseño de un pue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ar una estructura auto soportante que cumpla con las solicitaciones dad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o de planos que permitan la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el puente y probarl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79640" y="2060640"/>
          <a:ext cx="5904000" cy="280800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libre mínima de 10 [cm] a lo largo de toda la luz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773360"/>
          <a:ext cx="6265800" cy="319248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S DE TRABAJO EN LABORATO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, ayuda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implementos de Segurid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13T21:30:12Z</dcterms:modified>
  <cp:revision>23</cp:revision>
  <dc:subject/>
  <dc:title>EL63A-Taller de Proyecto en Control II</dc:title>
</cp:coreProperties>
</file>