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7C60-44C6-4E4B-A204-856A52017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90B4-CB27-4A84-B95E-EBDE74191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6CC6-EF12-4B9E-A5E6-B36C719F6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2DE0-FC42-4F67-B580-A881D99C3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C032-002A-4518-996D-F220A834C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1B1D-419D-41BD-BFE3-DC84810D5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CCDE-BF7C-4DB1-92A5-25C2B7B84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E1B8-DF69-432C-99DF-DB2F3E2DA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08A4-13CC-4673-8B1E-53F5DA673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92F6-711F-4427-85DF-63EE6ECF9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85A0-FD10-44E7-93ED-A282881B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CF0F-63EC-4113-A7AF-15719270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EA535-ED86-4209-A5B3-FE9BC8629C5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77300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I1101- Introducción a la Ingeniería 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: 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¿Qué es la Ingeniería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igen del Térmi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95280" y="1628640"/>
            <a:ext cx="8532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spcAft>
                <a:spcPts val="27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0000ff"/>
                </a:solidFill>
                <a:latin typeface="Times New Roman"/>
              </a:rPr>
              <a:t>Ingenerare</a:t>
            </a:r>
            <a:r>
              <a:rPr b="1" lang="es-MX" sz="4400" spc="-1" strike="noStrike">
                <a:solidFill>
                  <a:srgbClr val="0000ff"/>
                </a:solidFill>
                <a:latin typeface="Times New Roman"/>
              </a:rPr>
              <a:t>:  Crear (latín)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“… 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es el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arte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 de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aprovechar 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los recursos de la naturaleza en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beneficio 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del hombre y de la sociedad”</a:t>
            </a:r>
            <a:r>
              <a:rPr b="0" lang="en-US" sz="4000" spc="-1" strike="noStrike" baseline="30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229360"/>
            <a:ext cx="8064360" cy="8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Thomas Tredgold,  fundador de</a:t>
            </a:r>
            <a:br>
              <a:rPr sz="2400"/>
            </a:b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The Institution of Civil Engineers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, Inglaterra 182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11280" y="2060640"/>
            <a:ext cx="82818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rte (no ciencia ni técnica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provechar recursos natur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Beneficiar al ser humano (étic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Beneficiar a la sociedad (Rol Socia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2060640"/>
            <a:ext cx="82818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Utiliza ciencia y técnic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ctualmente: trabajo en equip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549360"/>
            <a:ext cx="8281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¿Cóm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EI1101 Introducción a la Ingeni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1280" y="2492280"/>
            <a:ext cx="82818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s-CL" sz="3400" spc="-1" strike="noStrike">
                <a:solidFill>
                  <a:srgbClr val="0033cc"/>
                </a:solidFill>
                <a:latin typeface="Times New Roman"/>
              </a:rPr>
              <a:t>Trabajo en grupos (5 c/u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s-CL" sz="3400" spc="-1" strike="noStrike">
                <a:solidFill>
                  <a:srgbClr val="0033cc"/>
                </a:solidFill>
                <a:latin typeface="Times New Roman"/>
              </a:rPr>
              <a:t>Desarrollo de temas en Cátedr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s-CL" sz="3400" spc="-1" strike="noStrike">
                <a:solidFill>
                  <a:srgbClr val="0033cc"/>
                </a:solidFill>
                <a:latin typeface="Times New Roman"/>
              </a:rPr>
              <a:t>Trabajo en Proyectos en horario de Laboratori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95280" y="1628640"/>
            <a:ext cx="8532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5000"/>
              </a:lnSpc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ff"/>
                </a:solidFill>
                <a:latin typeface="Arial"/>
              </a:rPr>
              <a:t>NF= 40%NP1 + 40%NP2 +  20%NCl</a:t>
            </a:r>
            <a:br>
              <a:rPr sz="4000"/>
            </a:br>
            <a:br>
              <a:rPr sz="4000"/>
            </a:br>
            <a:r>
              <a:rPr b="1" lang="es-MX" sz="4000" spc="-1" strike="noStrike">
                <a:solidFill>
                  <a:srgbClr val="0000ff"/>
                </a:solidFill>
                <a:latin typeface="Arial"/>
              </a:rPr>
              <a:t>NP1, NP2: Notas proyectos</a:t>
            </a:r>
            <a:br>
              <a:rPr sz="4000"/>
            </a:br>
            <a:r>
              <a:rPr b="1" lang="es-MX" sz="4000" spc="-1" strike="noStrike">
                <a:solidFill>
                  <a:srgbClr val="0000ff"/>
                </a:solidFill>
                <a:latin typeface="Arial"/>
              </a:rPr>
              <a:t>NCl: Nota de Clase</a:t>
            </a:r>
            <a:r>
              <a:rPr b="0" lang="es-ES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7-03-06T00:23:30Z</dcterms:modified>
  <cp:revision>13</cp:revision>
  <dc:subject/>
  <dc:title>EL63A-Taller de Proyecto en Control II</dc:title>
</cp:coreProperties>
</file>