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3E67-37EF-4F0C-97CC-3A881F88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5BBC-A944-44EB-84FC-EDC76794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FB0-E4D9-4967-859C-3E8E0BB3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FC9-3611-495C-B037-DB175ED6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297B-D7AC-4DF2-9E5C-A2343CF8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D7B4-82C6-4266-A802-4E34AD5F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53F4-025B-4BF8-8100-056104D8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525D-FD24-42B0-A663-385157A5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0E77-3C62-4364-A2F1-BD533CEC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99C1-3D88-485C-9D51-BD994229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A80B-D864-4647-9542-DC83C7C1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5B2-276B-4137-8D41-C85784DB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08E7-D455-419B-8FE0-3B531DB6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BD91-8ADB-4D04-A08B-CB9BEAA1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2F75-DC98-4A5B-AB0F-0C9C1897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33F2-E461-465F-92C8-5B3B120F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48AC-EEF6-4A1F-8A82-00600E96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3F8-4E35-43AE-A784-A8015CCE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73D-68D7-4FA3-BFFD-91C9B4B9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3BF-6DF7-488B-9045-BD74E53B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B834-38C2-42A0-A1F6-94935C09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C5C-9150-4207-8D93-0026FCF9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D8A-CB24-4D0C-A3CB-B40D78C7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518-D36A-4D27-AB4B-0D94D2C7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4A45-B4BE-4EF3-8A14-DA8117313A76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449F-CFD2-4003-BEA5-ED31E292EC0D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troducció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Minera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9800" y="-38520"/>
            <a:ext cx="734076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ureza</a:t>
            </a:r>
            <a:br>
              <a:rPr sz="4400"/>
            </a:br>
            <a:br>
              <a:rPr sz="12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Objetos utilizados comúnm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ña :  2 a 2,5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neda de Cobre: 3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uchillo: 5 a 5,5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drio: 6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rcelana: 6,5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yador de Tungsteno: 8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Gravedad Específic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996920" y="1857240"/>
          <a:ext cx="515016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6920" y="1857240"/>
                    <a:ext cx="515016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uarz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Fórmula: SiO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:Incoloro, gris pálido, transparente o lechos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: No; fractura concoid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: Vítre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Usualmente en cristales anhedrales. Rara vez pirámides trigonales irregular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: 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00360" y="2781360"/>
            <a:ext cx="29862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upo de los Feldespa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Feldespato Potásico  KAlSi3O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Microcl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Ortocla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Sanid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Fórmula: (K, Na)AlSi3O8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: Blanco a rosado, a veces naranjo, café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: Distintivo. 2 sets en 90°, pobremente visible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: Aperlado, vítreo, opaco si está alterado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Cristales tabulares.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: 6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eldespato Potás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3504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Plagioclasa  CaAl2Si2O8 &lt;-&gt; NaAlSi3O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Anortita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Bytowni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Labradori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Andes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Oligoclas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giocla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:Blanco, rara vez rosado, ver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: Distintivo. 2 sets en 90°, pobremente visi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: Vítreo a opa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Cristales tabulares. Puede presentar estría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: 6-6,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Muscovi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ioti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finición de Minera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óli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tur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orgán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 orden inter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 composición química específ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oti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Fórmula: K(Mg,Fe)2(AlSi3O10)(OH)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: Negro, café oscur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: Perfecto en una dirección, generándose laminas delgad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: Vítreo a aperlado, brillan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Usualmente en cristales tabulares a veces de 6 l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: 2,5-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iotit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454356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Muscovi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Fórmula: KAl2(AlSi3O10)(OH)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:Incoloro a café pálido o ver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: Perfecto en una dirección, generándose laminas delgad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: Vítreo a aperlado, brillan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Usualmente en cristales tabulares a veces de 6 lad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: 2-2,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518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4883040" y="0"/>
          <a:ext cx="4260960" cy="360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3040" y="0"/>
                    <a:ext cx="426096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livin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Fórmula: (Mg, Fe)2SiO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:Verde oliva, verde amarillento, caf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: Pobre; Fractura distintiva en gr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: Vítreo cuando está fres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Usualmente en cristales anhedrales redondead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: 6-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livin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2387880" cy="2036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119400" y="4422600"/>
            <a:ext cx="25272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Piroxen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:Negro a verde oscur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: Dos sets que se intersectan a 87°/93°. Distintiv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: Vítreo cuando está fres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Cristales prismáticos achatados de 4 u 8 lados. Cara basal distintiv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: 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Anfíbol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:Negro a café, negro a verde oscuro (actinolita), azul oscuro (glaucofano-riebeckit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: Distintivo. 2 sets que se intersectan a 56°/124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: Vítreo cuando está fres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Cristales prismáticos alargados, Cara basal y clivaje distintiv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: 5-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610480" cy="6265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6320" y="3265560"/>
            <a:ext cx="419076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47840" y="1776240"/>
          <a:ext cx="4648320" cy="41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7840" y="1776240"/>
                    <a:ext cx="4648320" cy="41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efinición de Roc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Agregado de minerales y/o mineraloid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:Rojo a café, amaril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: Pob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: En gral Opaco, en buenos cristales vítre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Formas del sistema cúbico: dodecaedro y trapezoedr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:6- 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nerales formadores de ro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erales más abundantes en la corte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licat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bonat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lfat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lur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nerales de arcil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Reconocimiento de mineral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piedades Fís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For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Fractu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Gravedad Específica : Densid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ay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Otras propiedades: Magnetismo, fluorescencia,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ábit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531800" y="304308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ábito ac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42577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Arial"/>
              </a:rPr>
              <a:t>Clivaj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4724280" cy="3224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195880" y="3013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livaje en calc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52560"/>
            <a:ext cx="7772400" cy="27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ureza</a:t>
            </a:r>
            <a:br>
              <a:rPr sz="4400"/>
            </a:br>
            <a:br>
              <a:rPr sz="1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bla de Mohs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1. Talco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8. Topac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2. Yeso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9. Corind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3. Calcita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10. Diaman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4. Fluori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5. Apati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6. Ortocla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7. Cuarz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0:35:59Z</dcterms:created>
  <dc:creator>LVergarm</dc:creator>
  <dc:description/>
  <dc:language>en-US</dc:language>
  <cp:lastModifiedBy>usuario</cp:lastModifiedBy>
  <dcterms:modified xsi:type="dcterms:W3CDTF">2007-03-12T15:59:09Z</dcterms:modified>
  <cp:revision>21</cp:revision>
  <dc:subject/>
  <dc:title>Minerales formadores de roca</dc:title>
</cp:coreProperties>
</file>