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CA0-165D-42C1-99B9-0B16064A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A346-01CB-4385-8A26-0B0ECBE8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19B-D1B9-4830-8300-6C5F71E9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C305-7623-4A5C-B828-2376F412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683D-9DB9-41A0-BE6C-30D5999B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C790-C5C7-4A90-84A7-0B8A5D02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7701-9FF8-474F-9897-176DD238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0841-B562-48BD-AB96-0E7C421C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E5D6-C67B-4D10-AADF-CD94CF3F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D26F-A268-4943-AAB6-B06E1F6A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09AB-9A07-4A49-9362-129FD63F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EC7-D1DE-4ED8-BE04-4BBD5522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BEF5-3B34-4525-9384-CE86F2E2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B180-40AB-49CD-8706-6B3B0750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B54B-E4EC-49CA-87A5-2A7E5D9B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EE21-119C-42C9-8EB6-286C1C7C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2B67-D36C-4292-A6C1-8AC883CF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573B-83E9-4C8E-A776-9A7E7333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905-2A8C-403B-9FEE-DC27E4A0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669-CA31-443C-82A8-0E048EF5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768-E0CD-4A35-87D8-618D8968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8D4-616D-40E6-85A0-611B2C6C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C17-2751-426B-A952-F6077B32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66ED-E678-4808-A070-4FB07465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FB81-BA64-4C60-9B83-1D68604B1A94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AE8B-38AD-4FBD-8304-7674C7AF7469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troducció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Minera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29800" y="-38520"/>
            <a:ext cx="734076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ureza</a:t>
            </a:r>
            <a:br>
              <a:rPr sz="4400"/>
            </a:br>
            <a:br>
              <a:rPr sz="12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Objetos utilizados comúnm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ña :  2 a 2,5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neda de Cobre: 3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uchillo: 5 a 5,5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drio: 6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rcelana: 6,5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yador de Tungsteno: 8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Gravedad Específic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996920" y="1857240"/>
          <a:ext cx="515016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6920" y="1857240"/>
                    <a:ext cx="515016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uarz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Fórmula: SiO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Incoloro, gris pálido, transparente o lechos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No; fractura concoid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Vítre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Usualmente en cristales anhedrales. Rara vez pirámides trigonales irregular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 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00360" y="2781360"/>
            <a:ext cx="29862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upo de los Feldespa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Feldespato Potásico  KAlSi3O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Microcl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Ortocla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Sanid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Fórmula: (K, Na)AlSi3O8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 Blanco a rosado, a veces naranjo, café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Distintivo. 2 sets en 90°, pobremente visible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Aperlado, vítreo, opaco si está alterado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Cristales tabulares.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 6</a:t>
            </a:r>
            <a:br>
              <a:rPr sz="3200"/>
            </a:b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eldespato Potás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56000" y="3068640"/>
            <a:ext cx="35049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Plagioclasa  CaAl2Si2O8 &lt;-&gt; NaAlSi3O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Anortita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Bytowni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Labradori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Andesi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Oligoclas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gioclas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Blanco, rara vez rosado, verd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Distintivo. 2 sets en 90°, pobremente visi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Vítreo a opa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Cristales tabulares. Puede presentar estrí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 6-6,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Muscovi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ioti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finición de Mineral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óli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ur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orgán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 orden inter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 composición química específ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ioti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Fórmula: K(Mg,Fe)2(AlSi3O10)(OH)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 Negro, café oscur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Perfecto en una dirección, generándose laminas delgad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Vítreo a aperlado, brilla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Usualmente en cristales tabulares a veces de 6 l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 2,5-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iotit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411280" y="2276640"/>
            <a:ext cx="454356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Muscovi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Fórmula: KAl2(AlSi3O10)(OH)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Incoloro a café pálido o ve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Perfecto en una dirección, generándose laminas delgad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Vítreo a aperlado, brilla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Usualmente en cristales tabulares a veces de 6 lad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 2-2,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518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4883040" y="0"/>
          <a:ext cx="4260960" cy="360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3040" y="0"/>
                    <a:ext cx="426096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livi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Fórmula: (Mg, Fe)2SiO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Verde oliva, verde amarillento, caf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Pobre; Fractura distintiva en gr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Vítreo cuando está fres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Usualmente en cristales anhedrales redondead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 6-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livin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2387880" cy="2036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119400" y="4422600"/>
            <a:ext cx="25272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Piroxen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Negro a verde oscur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Dos sets que se intersectan a 87°/93°. Distintiv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Vítreo cuando está fres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Cristales prismáticos achatados de 4 u 8 lados. Cara basal distintiv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 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Anfíbol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Negro a café, negro a verde oscuro (actinolita), azul oscuro (glaucofano-riebeckit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Distintivo. 2 sets que se intersectan a 56°/124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Vítreo cuando está fres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Cristales prismáticos alargados, Cara basal y clivaje distintiv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 5-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610480" cy="6265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6320" y="3265560"/>
            <a:ext cx="419076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47840" y="1776240"/>
          <a:ext cx="4648320" cy="41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7840" y="1776240"/>
                    <a:ext cx="4648320" cy="41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efinición de Roca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Agregado de minerales y/o mineraloid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rana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:Rojo a café, amaril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: Pob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: En gral Opaco, en buenos cristales vítre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Formas del sistema cúbico: dodecaedro y trapezoedr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:6- 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nerales formadores de ro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erales más abundantes en la corte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lica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bona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lfa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lur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erales de arcil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875960"/>
            <a:ext cx="777240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Reconocimiento de mineral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piedades Fís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Hábito: For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Durez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liva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Fractu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Brill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Gravedad Específica : Densid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Col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Ray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53800" indent="-253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Otras propiedades: Magnetismo, fluorescencia, 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ábit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531800" y="3043080"/>
            <a:ext cx="25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bito ac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42577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4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Clivaj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4724280" cy="3224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195880" y="3013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vaje en calc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52560"/>
            <a:ext cx="777240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ureza</a:t>
            </a:r>
            <a:br>
              <a:rPr sz="4400"/>
            </a:br>
            <a:br>
              <a:rPr sz="12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bla de Mohs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1. Talco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8. Topac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2. Yeso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9. Corind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3. Calcita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10. Diama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4. Fluori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5. Apati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6. Ortoclas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Verdana"/>
              </a:rPr>
              <a:t>7. Cuarz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00:35:59Z</dcterms:created>
  <dc:creator>LVergarm</dc:creator>
  <dc:description/>
  <dc:language>en-US</dc:language>
  <cp:lastModifiedBy>usuario</cp:lastModifiedBy>
  <dcterms:modified xsi:type="dcterms:W3CDTF">2007-03-12T15:59:09Z</dcterms:modified>
  <cp:revision>21</cp:revision>
  <dc:subject/>
  <dc:title>Minerales formadores de roca</dc:title>
</cp:coreProperties>
</file>