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2.png" ContentType="image/png"/>
  <Override PartName="/ppt/media/image35.wmf" ContentType="image/x-wmf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6463-B1A1-486D-8E18-F24B95366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dule will cover bridges and how they are input into HEC-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priate for Class A low flow only.  Should be used only when piers are the predominant obstruction ( such as a RR trest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Table 5.3 of Hydraulic Reference Manual (page 5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pplicable for sub-critical flow only.  Should not probably be used where piers are large obstruction to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note that WSPRO and Yarnell are only applicable for sub-critical flows.  If piers are involved, Momentum and Yarnell approaches are best.  If both piers and friction are about equal, then momentum is b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not that important to know - except you must specify analysis methods for ea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not that important.  You will see in the output from time to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to enter after main cross sections are in (4, 3, 2, and 1).  Automatically brings up bounding cross sections based on station of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not that important.  You will see in the output from time to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same handout for locations of x-sections 2, 3,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not that important.  You will see in the output from time to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piers are large part of obstruction to flow, this method is probably not appropriate.  Also appropriate for supercritical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um is best for when piers and friction losses are predomi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Table 5.2 of Hydraulic Reference Manual - page 5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9EA-5483-4B6F-AF34-16C3E0C2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D8A-950C-47DB-ABC2-EA0AADE1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E01-4A03-439C-A489-02C5D13C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680-534B-45D2-9CB7-E1295B2A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8F7-557D-4EA7-908A-C3A1AFB9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CC0-911C-4919-A449-52D63607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041E-2759-47C9-BCB6-2937775A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F81-F401-4D10-A0C2-9DB5232A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FBA-CD80-4AB3-B897-9E35EA5A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820-D595-43EF-BC6E-4A5FD4D3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BCD6-4471-4FC1-9C08-48D98E7F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A5F-343F-41B8-A4EB-C9431B70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ADEE-3B22-42E8-9B72-F470F17FF3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of 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Bridges</a:t>
            </a:r>
            <a:endParaRPr b="0" lang="en-US" sz="7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ow Flow Bridge Modeling</a:t>
            </a:r>
            <a:br>
              <a:rPr sz="4400"/>
            </a:b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Class A Low Flow - Yarnell Equation</a:t>
            </a:r>
            <a:endParaRPr b="0" lang="en-US" sz="3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2,600 lab experiments on different pier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entering pier shape coefficient,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only be used where majority of losses are due to p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22F-B603-44BC-99E7-B4CB768C27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ow Flow Bridge Modeling</a:t>
            </a:r>
            <a:br>
              <a:rPr sz="40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Yarnell’s Pier Coefficient, K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-circular nose and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-cylinder piers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ng diaphrag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-cylinder piers without diaphrag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 degree triangular nose and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 nose and tai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 pile trestle b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F69-1E76-4BD2-ACE3-E9D89AE94E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ow Flow Bridge Modeling</a:t>
            </a:r>
            <a:br>
              <a:rPr sz="4400"/>
            </a:b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Class A Low Flow - WSPRO</a:t>
            </a:r>
            <a:endParaRPr b="0" lang="en-US" sz="3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Highway Administrations method of analyzing bri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energy equation in an iterative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FBE-342D-4BF7-B277-2805BB68E8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ow Flow Bridge Modeling</a:t>
            </a:r>
            <a:br>
              <a:rPr sz="4400"/>
            </a:b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Class A Low Flow - Summary</a:t>
            </a:r>
            <a:endParaRPr b="0" lang="en-US" sz="3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&amp; Momentum equations are appropriate for most bri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rnell should only be used when piers are the major obstacles to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rnell cannot be used when there are no p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ve approach is to select all methods and use highest energy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C8A0-ACEF-4037-B63F-AAF09F264C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High Flow - Pressure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74" name="brid-pres2" descr=""/>
          <p:cNvPicPr/>
          <p:nvPr/>
        </p:nvPicPr>
        <p:blipFill>
          <a:blip r:embed="rId1"/>
          <a:stretch/>
        </p:blipFill>
        <p:spPr>
          <a:xfrm>
            <a:off x="304920" y="1081080"/>
            <a:ext cx="8610480" cy="47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9C3B-1C59-4CCE-9F86-5191F784E8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High Flow - Pressure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76" name="brid-pres1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FA6B-A972-4428-A0DB-D011DECA94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High Flow - Pressure &amp; Weir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78" name="brid-sub" descr=""/>
          <p:cNvPicPr/>
          <p:nvPr/>
        </p:nvPicPr>
        <p:blipFill>
          <a:blip r:embed="rId1"/>
          <a:stretch/>
        </p:blipFill>
        <p:spPr>
          <a:xfrm>
            <a:off x="685800" y="755640"/>
            <a:ext cx="7848720" cy="53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D17-0165-4978-936A-E2FB994937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High Flow Bridge Modeling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ridge deck is a small obstruction to the flow and not acting like a pressurized orifice, use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ergy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overtopped and tailwater is not submerging flow, use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essure/weir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overtopped and highly submerged, use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ergy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A2E-2E22-414C-B391-9C20464459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High Flow - Weir Flow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828800"/>
            <a:ext cx="861048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 Total flow over the wei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lnSpc>
                <a:spcPct val="7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Coefficient of discharge for weir flow (~2.5 to 3.1 for free flow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Effective length of the wei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Difference between energy elev. upstream and road cr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ault Max Submergence = 0.95 (95%) (see next sl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max submergence reached, program reverts to energy equation for solu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62120" y="762120"/>
                <a:ext cx="24937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LH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9C6-67AE-4294-897C-848CA9B332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High Flow - Submergence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4724280"/>
            <a:ext cx="861048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ault Max Submergence = 0.95 (95%) (see next slid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max submergence reached, program reverts to the energy equation for the solu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920" y="685800"/>
                <a:ext cx="79358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bmerge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ree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Reduction Fac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28600" y="2133720"/>
                <a:ext cx="3828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mergenc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8" name="submer2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495680" cy="325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77F-A65E-44EF-BE2A-3AAD3FE3D70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2 Types of Flow @ Bridges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low - Flow where the water surface does not reach the low b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Flow - Flow where the water surface reaches the deck or hig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ub-types for both low and high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both types of flow occur in single simulation with different pro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717-D721-46F7-947D-76D7810948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High Flow - Submergence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90" name="submergence" descr=""/>
          <p:cNvPicPr/>
          <p:nvPr/>
        </p:nvPicPr>
        <p:blipFill>
          <a:blip r:embed="rId1"/>
          <a:stretch/>
        </p:blipFill>
        <p:spPr>
          <a:xfrm>
            <a:off x="1219320" y="792000"/>
            <a:ext cx="678168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5A7-BA04-4D35-9F73-2BFD376776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6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BEC-2B64-43A2-A96F-E4BE14E51E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3886200" cy="349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1219320"/>
            <a:ext cx="4038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 the Brdg/Culv button from the geometry data windo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0856-96EC-4397-B1BE-3B2FEA7638B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219320"/>
            <a:ext cx="2819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brings up the Bridge Culvert Data windo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5333760" cy="524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B99-1AC3-477E-B358-6A6A735C551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19320"/>
            <a:ext cx="2819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options menu, select “Add a Bridge and/or Culvert”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410080" cy="53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FE5E-9EDF-42D6-855F-89E00B53524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219320"/>
            <a:ext cx="28195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brings up a window asking for the river station of the bridge.  It will locate the bridge numerically between cross-sect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81280" y="1219320"/>
            <a:ext cx="5257800" cy="416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C60-D7E8-4D6C-9CA3-37D1F5D4CAB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219320"/>
            <a:ext cx="3048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brings up a window with the adjacent upstream and downstream cross-sections plott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29000" y="762120"/>
            <a:ext cx="5486400" cy="53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050-F4F4-4E14-B9EE-3CA28F552AC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219320"/>
            <a:ext cx="30481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xt, select the Deck/Roadway button from the Bridge data windo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3733920" cy="336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B48-3BE2-4619-AB80-B5D4320695D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219320"/>
            <a:ext cx="3276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ce the weir coefficient and max submergence window are showing the default valu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0133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0A3-FD43-4D9B-8F4F-AD819508D7E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14" name="brid-sheet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6802560" cy="55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3959-CFE0-407E-B2A0-712A56A18C2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ow Flow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2" name="brid-low" descr=""/>
          <p:cNvPicPr/>
          <p:nvPr/>
        </p:nvPicPr>
        <p:blipFill>
          <a:blip r:embed="rId1"/>
          <a:stretch/>
        </p:blipFill>
        <p:spPr>
          <a:xfrm>
            <a:off x="609480" y="642960"/>
            <a:ext cx="769644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60D-AA25-4159-9623-E7F3DDF2DF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219320"/>
            <a:ext cx="30481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the data for the required values.  Note that the U.S. and D.S. sideslopes are for cosmetic purposes only unless using the WSPRO method for low flo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4941720" cy="541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6BC-C065-4AB2-965C-33ACB4ADB8E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219320"/>
            <a:ext cx="30481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he “Copy Up to Down” button to repeat the station-high chord-low chord data from the upstream to the downstream side, if applicab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9880" y="1066680"/>
            <a:ext cx="45943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258-4DB2-48F5-B0EF-5F94F9F71D1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219320"/>
            <a:ext cx="30481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selecting OK from the bridge deck window, it replots the U.S. and D.S. x-sections showing the bridge deck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29000" y="763560"/>
            <a:ext cx="5486400" cy="53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01B-D545-4222-9EB3-545B1F5373D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219320"/>
            <a:ext cx="30481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ers can be added by selecting the Pier button from the bridge data windo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267080" cy="384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EAC-F054-4603-B116-D69C640D9E3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219320"/>
            <a:ext cx="30481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brings up the Pier Data Editor where you can add the data for the pier(s)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5410080" cy="51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8C22-F1BB-4520-909D-4A815C065DE3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219320"/>
            <a:ext cx="3048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ier is then shown graphically on the plo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76720" y="914400"/>
            <a:ext cx="5333760" cy="524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884-7F0E-4EFC-B218-6AE0B2EEADF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219320"/>
            <a:ext cx="30481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odeling options, including low flow and high flow modeling methods, are available by selecting the Bridge Modeling Approach butt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4419720" cy="39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030-BDF0-4054-A7A0-6847E96EC29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219320"/>
            <a:ext cx="30481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brings up Bridge Modeling Approach Editor window.  Notice the option to compute each type of low flow method and the option to select which one you us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51210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EDE-70A5-4339-A333-A102E5AF43A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4902120" cy="5105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715000" y="3352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e following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4114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rifice Coef. - between 0.7 and 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571640" y="4495680"/>
            <a:ext cx="10666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572000" y="3657600"/>
            <a:ext cx="9144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8E3-3A34-4F10-A219-8BC4AF22F263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High Flow - Orifice Discharge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46" name="cd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010640" cy="550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C88-4D42-4830-96F4-84D6460740D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ow Flow Bridge Modeling</a:t>
            </a:r>
            <a:br>
              <a:rPr sz="44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3 Types of Flow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6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A Low F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ub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6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B Low F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asses  through critical dep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6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C Low F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uper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E7B-3868-41CE-9CD3-5046331F97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219320"/>
            <a:ext cx="30481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several other options in the options menu from the bridge data window …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5029200" cy="42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5BD7-E39A-4CF1-A674-D12ED5D7F722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219320"/>
            <a:ext cx="304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well as the view menu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81280" y="1143000"/>
            <a:ext cx="5257800" cy="45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8D6A-4881-49FD-B2EA-98BFF060983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dding the Brid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447920"/>
            <a:ext cx="25905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eometric data schematic is also updated automaticall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8120" y="990720"/>
            <a:ext cx="5867280" cy="515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0A49-852B-4164-8F01-A972B41839CB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ocating Cross-Sections  Near Bridge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31C-C8EB-4BD2-9EE7-34FD1013735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ross-Sections  Near Bridge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58" name="CR-ER1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534160" cy="45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182-9426-42D7-9FCE-7DD46033E49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ross-Sections  Near Bridge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60" name="CR-ER2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CDC-648F-4A2B-96F4-52E6EC70102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ross-Sections  Near Bridge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62" name="CR2" descr=""/>
          <p:cNvPicPr/>
          <p:nvPr/>
        </p:nvPicPr>
        <p:blipFill>
          <a:blip r:embed="rId1"/>
          <a:stretch/>
        </p:blipFill>
        <p:spPr>
          <a:xfrm>
            <a:off x="1371600" y="709560"/>
            <a:ext cx="6477120" cy="550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7AB-0AC1-434D-B814-F6D87C0BED7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ross-Sections  Near Bridge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8600" y="4724280"/>
                <a:ext cx="84582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5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65" name="ER1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7015320" cy="40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E8A-6292-4E1E-8DC5-99126287295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ross-Sections  Near Bridge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28600" y="4800600"/>
                <a:ext cx="89154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b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68" name="CR1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417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616-EC21-4411-93CF-A11ADDF6F586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Cross-Sections  Near Bridge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2952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 of Thumb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2514600"/>
            <a:ext cx="2819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 = 2: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 = 1: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6FE1-C6CC-4E11-BF63-8596EF48AE21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ow Flow Bridge Hydraulics</a:t>
            </a:r>
            <a:br>
              <a:rPr sz="4400"/>
            </a:b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4 methods of modeling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2040" indent="-392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5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hysically based, accounts for friction losses and geometry changes through bridge, as well as losses due to flow transition &amp; turbu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5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ment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hysically based, accounts for friction losses and geometry changes through bri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5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HWA WS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energy based as well as some empirical attributes.  Developed for bridges that constrict wide floodplains with heavily vegetated overbank areas.  Subcritical flow o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2040" indent="-392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5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Yarne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empirical formula developed to model effects of bridge piers. Subcritical flow o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0AB-1172-458C-922F-03D144D6432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Bridge Cross Sections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73" name="brid-xs" descr=""/>
          <p:cNvPicPr/>
          <p:nvPr/>
        </p:nvPicPr>
        <p:blipFill>
          <a:blip r:embed="rId1"/>
          <a:stretch/>
        </p:blipFill>
        <p:spPr>
          <a:xfrm>
            <a:off x="0" y="1828800"/>
            <a:ext cx="9067680" cy="25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2EE-BAEF-43D0-8124-38AA77FDF1C2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Bridge Cross Sections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75" name="bridxs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5943600" cy="550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086-F7C0-4027-B1B1-98A2487CE1F4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Bridge Cross Sections</a:t>
            </a:r>
            <a:br>
              <a:rPr sz="40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Example Computation of Le and Lc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3360" y="2151000"/>
          <a:ext cx="6677280" cy="25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2151000"/>
                    <a:ext cx="667728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1219320" y="502920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assumes ER=2 and CR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77C-3125-4306-AC9C-00A065BBA18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Expansion &amp; Contraction Coefficients</a:t>
            </a:r>
            <a:endParaRPr b="0" lang="en-US" sz="3600" spc="-1" strike="noStrike">
              <a:solidFill>
                <a:srgbClr val="ff0066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2057400"/>
          <a:ext cx="8534160" cy="234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53416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3D8-E8D7-40C8-8F8A-2EF0F2876975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Bridge Modeling</a:t>
            </a:r>
            <a:br>
              <a:rPr sz="4000"/>
            </a:br>
            <a:r>
              <a:rPr b="1" lang="en-US" sz="3100" spc="-1" strike="noStrike">
                <a:solidFill>
                  <a:srgbClr val="ff0066"/>
                </a:solidFill>
                <a:latin typeface="Arial"/>
              </a:rPr>
              <a:t>Expansion and Contraction Coefficients</a:t>
            </a:r>
            <a:br>
              <a:rPr sz="3100"/>
            </a:br>
            <a:r>
              <a:rPr b="1" lang="en-US" sz="3100" spc="-1" strike="noStrike">
                <a:solidFill>
                  <a:srgbClr val="ff0066"/>
                </a:solidFill>
                <a:latin typeface="Arial"/>
              </a:rPr>
              <a:t>at the 4 cross-sections for a bridge (example)</a:t>
            </a:r>
            <a:endParaRPr b="0" lang="en-US" sz="31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Expan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Section 4 (furthest US)  0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798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Section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0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798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Section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0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798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Section 1(furthest D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0.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CC6-AC09-42E5-AE62-3D49FEBBF2E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Ineffective Flows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186" name="brid-ineff1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6172200" cy="1657440"/>
          </a:xfrm>
          <a:prstGeom prst="rect">
            <a:avLst/>
          </a:prstGeom>
          <a:ln w="0">
            <a:noFill/>
          </a:ln>
        </p:spPr>
      </p:pic>
      <p:pic>
        <p:nvPicPr>
          <p:cNvPr id="187" name="brid-ineff2" descr=""/>
          <p:cNvPicPr/>
          <p:nvPr/>
        </p:nvPicPr>
        <p:blipFill>
          <a:blip r:embed="rId2"/>
          <a:stretch/>
        </p:blipFill>
        <p:spPr>
          <a:xfrm>
            <a:off x="1371600" y="2666880"/>
            <a:ext cx="6858000" cy="1841760"/>
          </a:xfrm>
          <a:prstGeom prst="rect">
            <a:avLst/>
          </a:prstGeom>
          <a:ln w="0">
            <a:noFill/>
          </a:ln>
        </p:spPr>
      </p:pic>
      <p:pic>
        <p:nvPicPr>
          <p:cNvPr id="188" name="brid-xs" descr=""/>
          <p:cNvPicPr/>
          <p:nvPr/>
        </p:nvPicPr>
        <p:blipFill>
          <a:blip r:embed="rId3"/>
          <a:stretch/>
        </p:blipFill>
        <p:spPr>
          <a:xfrm>
            <a:off x="1600200" y="4648320"/>
            <a:ext cx="5562720" cy="15332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019920" y="3962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t XS’s 2 &amp;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04D-D284-4905-886E-ED63C2628248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The End</a:t>
            </a:r>
            <a:endParaRPr b="0" lang="en-US" sz="6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FA27-3AE4-4B6B-B903-9CB6AA707AF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ow Flow Bridge Hydraulics</a:t>
            </a:r>
            <a:br>
              <a:rPr sz="44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ppropriate Methods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553760"/>
            <a:ext cx="84582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366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piers are small obstruction to flow, friction losses predominate -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nergy, Momentum, or WS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r and friction losses predominate -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me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 passes through critical depth in vicinity of bridge -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nergy or Mome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r losses are dominant -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Yar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critical flow without piers -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Energy or Mome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6600" indent="-336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 3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critical flow with piers -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Mome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56B-827F-440F-8EB0-FBC28A2F0B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ow Flow Bridge Modeling</a:t>
            </a:r>
            <a:br>
              <a:rPr sz="44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lass A Low Flow - Energy Method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ction losses are computed as length times average friction sl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y losses are empirical coefficient times change in velocity head (expansion and contraction los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account for pier drag fo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A266-AA68-4D7D-9BB0-D07A75B0A3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Low Flow Bridge Modeling</a:t>
            </a:r>
            <a:br>
              <a:rPr sz="4400"/>
            </a:br>
            <a:r>
              <a:rPr b="1" lang="en-US" sz="3000" spc="-1" strike="noStrike">
                <a:solidFill>
                  <a:srgbClr val="ff0066"/>
                </a:solidFill>
                <a:latin typeface="Arial"/>
              </a:rPr>
              <a:t>Class A Low Flow - Momentum Method</a:t>
            </a:r>
            <a:endParaRPr b="0" lang="en-US" sz="3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ction losses are external skin friction = wetted perimeter times length times shear 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entering coefficient of drag for piers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“Options” menu under “Bridge &amp; Culvert Data” window for momentum equation options.  Usually accept program de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29B-F595-4D8E-A45D-311BC9AA18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ow Flow Bridge Modeling</a:t>
            </a:r>
            <a:br>
              <a:rPr sz="4000"/>
            </a:b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Coefficients for Piers</a:t>
            </a:r>
            <a:endParaRPr b="0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6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rcular P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2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6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ongated piers with semi circular ends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3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6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liptical piers with 2:1 length to wid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.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6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liptical piers with 4:1 length to wid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.3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6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liptical piers with 8:1 length to wid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.2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6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quare nose pi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6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angular nose with 30 degree ang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6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angular nose with 60 degree ang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3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6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angular nose with 90 degree ang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6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angular nose with 120 degree ang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7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699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C-RAS FY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078-60DB-4EB7-977E-433AB5660D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1999</a:t>
            </a: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7:49:26Z</dcterms:created>
  <dc:creator>Dennis W. Reep</dc:creator>
  <dc:description/>
  <dc:language>en-US</dc:language>
  <cp:lastModifiedBy>Dennis W. Reep</cp:lastModifiedBy>
  <cp:lastPrinted>1999-05-05T18:17:14Z</cp:lastPrinted>
  <dcterms:modified xsi:type="dcterms:W3CDTF">1999-05-21T13:40:36Z</dcterms:modified>
  <cp:revision>178</cp:revision>
  <dc:subject>Bridge input, methods, etc.</dc:subject>
  <dc:title>HEC-RAS 2.2 Bridges</dc:title>
</cp:coreProperties>
</file>