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9E127-1886-4F45-A537-1570A1C3E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D954A-D952-41C0-A72B-33DE91464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6F99C-5356-4B50-B2BC-095977A06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6FCA0-6F5A-4FEB-A771-FF1EF7A92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B145A-472F-4D7D-9C1C-59A773E5B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0A15E-9163-4FD5-9FA5-9B50837CC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3EB7C-9736-4300-B7F8-EED17CC75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5D5BC-35BE-4993-90DC-4EA30F564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C0797-C235-4F52-9E25-DBD198AFA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1F511-D430-472F-91D5-A5C0B1DF2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FE828-4E86-4CD0-B484-757DA3B2C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14DE6-F099-4768-A848-EE240E9AF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AE64E-7F42-4A57-B22F-297F2E4F5C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rcRect l="0" t="7745" r="0" b="0"/>
          <a:stretch/>
        </p:blipFill>
        <p:spPr>
          <a:xfrm>
            <a:off x="2209680" y="0"/>
            <a:ext cx="5059440" cy="649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26T12:49:12Z</dcterms:created>
  <dc:creator>IDIEM</dc:creator>
  <dc:description/>
  <dc:language>en-US</dc:language>
  <cp:lastModifiedBy> ivan</cp:lastModifiedBy>
  <cp:lastPrinted>2000-07-02T22:20:01Z</cp:lastPrinted>
  <dcterms:modified xsi:type="dcterms:W3CDTF">2005-06-09T03:51:30Z</dcterms:modified>
  <cp:revision>35</cp:revision>
  <dc:subject/>
  <dc:title>Sin título de diapositiva</dc:title>
</cp:coreProperties>
</file>