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DAD-778F-4BDE-8079-963ED339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3389-6D1B-43A3-B835-9812A957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EB1A-709A-4549-A53A-D74340E20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5A95-8134-4610-A999-F1402E95B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9A47-F1EC-4940-93D0-77CE83B7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564-C95F-4D88-8E24-A38423FB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41D-9436-45B3-8C6D-4D94A531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A280-78C3-4447-8C8C-5A37884D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337E-BDD1-49CC-A354-E75E0834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5227-C8ED-4B63-895E-13F50E71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8F83-BBB0-42A7-8732-583B3796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D872-3FF7-4D55-A21A-48A05CB7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AD33-E1E9-421E-AF55-A285A53D1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7745" r="0" b="0"/>
          <a:stretch/>
        </p:blipFill>
        <p:spPr>
          <a:xfrm>
            <a:off x="2209680" y="0"/>
            <a:ext cx="505944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6T12:49:12Z</dcterms:created>
  <dc:creator>IDIEM</dc:creator>
  <dc:description/>
  <dc:language>en-US</dc:language>
  <cp:lastModifiedBy> ivan</cp:lastModifiedBy>
  <cp:lastPrinted>2000-07-02T22:20:01Z</cp:lastPrinted>
  <dcterms:modified xsi:type="dcterms:W3CDTF">2005-06-09T03:51:30Z</dcterms:modified>
  <cp:revision>35</cp:revision>
  <dc:subject/>
  <dc:title>Sin título de diapositiva</dc:title>
</cp:coreProperties>
</file>