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F690-545D-4584-9B52-605DA33851E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9C7-85C6-4E4E-B8F1-509E7133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C6B-8E88-47F0-8750-B8A3DC8A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0EE-DC14-47D4-ABFA-DDCA2EAE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97E-C5A1-4B73-A8A5-CC8D2C1A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D2A2-B563-4DFB-A641-4C5F955F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DBB9-8567-4169-8DB9-F5FA1B1B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B0B0-BFCF-44D0-8C56-BD732E8E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4825-4A3A-4FFD-B4E0-6EE62FA1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F078-1FB9-4EA3-B9C1-315D1543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8322-656B-45BD-981D-6EA39A0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2CD4-B9E4-4F96-A466-B8B69F0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C40-F5F6-4041-A5EB-1D8D1FB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15EA-ABA5-402D-8379-90D0A1A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537A-C2AE-46CB-B6A7-5CCFEEF0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E9F9-F3A9-41C0-BA19-7B0DA76D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DB18-9225-4A94-8AE4-9791DA1F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47E1-EADD-4E86-9B52-EF1A2E1B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D07-90EF-47FE-9BC9-3F7C4966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224-6EC1-47E7-933B-53E36897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AA6A-9F70-4E1C-95EA-7CBAC0F1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A4A-1D0C-4C80-95FC-81520BDC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B62-E747-4A9E-8EFE-44B15BB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ACE-FCBC-46F3-9A77-A30353F9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5A3-E7A9-4C49-8CBF-EE3CE747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C356-84C1-4394-A301-60C9072064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E6FE-6F08-4A64-AF3B-2BDDBB8A2A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weblogs en la U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46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62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80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>
              <a:stCxn id="185" idx="2"/>
              <a:endCxn id="180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0" idx="0"/>
              <a:endCxn id="186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0" idx="7"/>
              <a:endCxn id="187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0" idx="5"/>
              <a:endCxn id="183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0" idx="3"/>
              <a:endCxn id="182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0" idx="2"/>
              <a:endCxn id="181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80" idx="6"/>
              <a:endCxn id="184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95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96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197" idx="2"/>
              <a:endCxn id="196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198" idx="2"/>
              <a:endCxn id="196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0" idx="2"/>
              <a:endCxn id="196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199" idx="2"/>
              <a:endCxn id="196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3" name=""/>
          <p:cNvSpPr/>
          <p:nvPr/>
        </p:nvSpPr>
        <p:spPr>
          <a:xfrm>
            <a:off x="668880" y="32148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7400" y="5958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02440" y="32148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63280" y="59580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41760" y="3689280"/>
            <a:ext cx="9280080" cy="3007800"/>
            <a:chOff x="-41760" y="3689280"/>
            <a:chExt cx="9280080" cy="3007800"/>
          </a:xfrm>
        </p:grpSpPr>
        <p:grpSp>
          <p:nvGrpSpPr>
            <p:cNvPr id="226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7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25960" y="612756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67400" y="5652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16720" y="6054480"/>
              <a:ext cx="155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41760" y="3692520"/>
              <a:ext cx="2512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1880" y="3689280"/>
              <a:ext cx="5667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97480" y="431136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00000" y="5257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7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77640" y="3917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4140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1936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8800" y="3841920"/>
            <a:ext cx="6674760" cy="2406600"/>
            <a:chOff x="1828800" y="3841920"/>
            <a:chExt cx="6674760" cy="2406600"/>
          </a:xfrm>
        </p:grpSpPr>
        <p:sp>
          <p:nvSpPr>
            <p:cNvPr id="286" name=""/>
            <p:cNvSpPr/>
            <p:nvPr/>
          </p:nvSpPr>
          <p:spPr>
            <a:xfrm>
              <a:off x="2899800" y="384192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8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242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96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58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78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14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394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62720" y="4967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62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17520" y="38275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092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924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3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120" y="3291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952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784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5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491080" y="3062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tat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9320" y="4267080"/>
            <a:ext cx="7467480" cy="2355480"/>
            <a:chOff x="1219320" y="4267080"/>
            <a:chExt cx="7467480" cy="2355480"/>
          </a:xfrm>
        </p:grpSpPr>
        <p:sp>
          <p:nvSpPr>
            <p:cNvPr id="42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520" y="4495680"/>
              <a:ext cx="10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5200" y="556272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4400" y="42670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76720" y="42814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24080" y="5181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60360" y="5257800"/>
              <a:ext cx="1082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234080" y="3733920"/>
            <a:ext cx="6215760" cy="609480"/>
            <a:chOff x="1234080" y="3733920"/>
            <a:chExt cx="6215760" cy="609480"/>
          </a:xfrm>
        </p:grpSpPr>
        <p:sp>
          <p:nvSpPr>
            <p:cNvPr id="441" name=""/>
            <p:cNvSpPr/>
            <p:nvPr/>
          </p:nvSpPr>
          <p:spPr>
            <a:xfrm>
              <a:off x="1234080" y="3733920"/>
              <a:ext cx="62157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74200" y="4114800"/>
            <a:ext cx="2977200" cy="2592360"/>
            <a:chOff x="3274200" y="4114800"/>
            <a:chExt cx="2977200" cy="2592360"/>
          </a:xfrm>
        </p:grpSpPr>
        <p:grpSp>
          <p:nvGrpSpPr>
            <p:cNvPr id="44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45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640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088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5508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30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420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2204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9400" y="4114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331440" y="4114800"/>
            <a:ext cx="2805840" cy="2592360"/>
            <a:chOff x="3331440" y="4114800"/>
            <a:chExt cx="2805840" cy="2592360"/>
          </a:xfrm>
        </p:grpSpPr>
        <p:grpSp>
          <p:nvGrpSpPr>
            <p:cNvPr id="48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48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48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4996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2684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4104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886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3144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4508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64000" y="4114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34960" y="4114800"/>
            <a:ext cx="2859840" cy="2592360"/>
            <a:chOff x="3234960" y="4114800"/>
            <a:chExt cx="2859840" cy="2592360"/>
          </a:xfrm>
        </p:grpSpPr>
        <p:grpSp>
          <p:nvGrpSpPr>
            <p:cNvPr id="51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51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96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2612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032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788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496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260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877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54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56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56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34880" y="2286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57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91600" y="3138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57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52000" y="4510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57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29400" y="5486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2913480" y="3232080"/>
            <a:ext cx="3472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89200" y="4073400"/>
            <a:ext cx="58042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9120" y="1600200"/>
            <a:ext cx="5626440" cy="368280"/>
            <a:chOff x="1149120" y="1600200"/>
            <a:chExt cx="5626440" cy="368280"/>
          </a:xfrm>
        </p:grpSpPr>
        <p:sp>
          <p:nvSpPr>
            <p:cNvPr id="584" name=""/>
            <p:cNvSpPr/>
            <p:nvPr/>
          </p:nvSpPr>
          <p:spPr>
            <a:xfrm>
              <a:off x="114912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6676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5768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58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61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61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62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62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62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62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63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63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63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64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64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64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65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65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65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65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66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66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67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67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67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004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72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416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134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3480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7012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7224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8564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5440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3856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1012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69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2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5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6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77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78200" y="4738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68680" y="3672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68360" y="3048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8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79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13320" y="3689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24600" y="297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464000" y="2819520"/>
            <a:ext cx="3259080" cy="2971800"/>
            <a:chOff x="4464000" y="2819520"/>
            <a:chExt cx="3259080" cy="2971800"/>
          </a:xfrm>
        </p:grpSpPr>
        <p:sp>
          <p:nvSpPr>
            <p:cNvPr id="79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080" y="3003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64000" y="3290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21160" y="45864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80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7708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047760" y="2285640"/>
            <a:ext cx="4958280" cy="2972160"/>
            <a:chOff x="3047760" y="2285640"/>
            <a:chExt cx="4958280" cy="2972160"/>
          </a:xfrm>
        </p:grpSpPr>
        <p:sp>
          <p:nvSpPr>
            <p:cNvPr id="82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57480" y="2514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71680" y="37479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19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165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6560" y="30481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76240" y="31240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0" name=""/>
          <p:cNvGrpSpPr/>
          <p:nvPr/>
        </p:nvGrpSpPr>
        <p:grpSpPr>
          <a:xfrm>
            <a:off x="3139920" y="3505320"/>
            <a:ext cx="1278000" cy="1523880"/>
            <a:chOff x="3139920" y="3505320"/>
            <a:chExt cx="1278000" cy="1523880"/>
          </a:xfrm>
        </p:grpSpPr>
        <p:sp>
          <p:nvSpPr>
            <p:cNvPr id="841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39920" y="4038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464360" y="3504960"/>
            <a:ext cx="455040" cy="1600200"/>
            <a:chOff x="4464360" y="3504960"/>
            <a:chExt cx="455040" cy="1600200"/>
          </a:xfrm>
        </p:grpSpPr>
        <p:sp>
          <p:nvSpPr>
            <p:cNvPr id="844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643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495320" y="3505320"/>
            <a:ext cx="1950120" cy="1600200"/>
            <a:chOff x="4495320" y="3505320"/>
            <a:chExt cx="1950120" cy="1600200"/>
          </a:xfrm>
        </p:grpSpPr>
        <p:sp>
          <p:nvSpPr>
            <p:cNvPr id="847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67440" y="3994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190760" y="3581280"/>
            <a:ext cx="1003680" cy="1524240"/>
            <a:chOff x="4190760" y="3581280"/>
            <a:chExt cx="1003680" cy="1524240"/>
          </a:xfrm>
        </p:grpSpPr>
        <p:sp>
          <p:nvSpPr>
            <p:cNvPr id="850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90760" y="3886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853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3840" y="4357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5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el que entre y encola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7-03-21T18:49:46Z</dcterms:modified>
  <cp:revision>124</cp:revision>
  <dc:subject/>
  <dc:title>Sistemas Distribuídos</dc:title>
</cp:coreProperties>
</file>