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534-BD39-417B-9A1D-F71F169F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A35-2E4C-417B-9659-D6710E60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29D-C295-4725-AC18-EDDA9C91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FCE-FC22-44D3-BDBE-E6E9BDDC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9F06-70E1-48F3-94F1-8E2DF314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E101-3D62-4845-A592-2846EF51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FD63-C3CB-4EE5-878A-DACD6250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5186-B5CE-49F5-A4D9-3E57CF6F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9BB0-C172-43B0-BE1B-4B44E299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52A0-4C92-40F2-A9BB-27F5C7FF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C3A0-0339-4D34-A87A-5EC38C1D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734-494A-4EFD-849E-F2E89064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5562-9DCF-4F94-99E4-31CC108C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2E2E-2EB2-490D-9834-555453D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8231-7797-491E-819D-33E9F121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AEB6-D7D1-4A68-954D-ADA7DFFE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A7ED-8234-4772-A447-DDA54455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8A9-AEF5-4F23-B502-A88A49D7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49C-B2E8-4821-88A4-767A2F6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74D-8038-417D-A4A3-93E70D3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614-4CF3-4496-A5B2-A91BBC8D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F83-7ABD-41DB-8AFE-83F45A0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917-A81B-41F5-9964-FC855A4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B95-E8B7-4F7E-B656-96BCF1A3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30FC-3459-466A-A80D-47FC8473141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60A0-FD94-4CFD-9BB2-EE0E800AD72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(audio, audio/video)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a inspección se lleva a cabo del mismo modo que en la </a:t>
            </a:r>
            <a:r>
              <a:rPr b="1" i="1" lang="es-CL" sz="2400" spc="-1" strike="noStrike">
                <a:solidFill>
                  <a:srgbClr val="40458c"/>
                </a:solidFill>
                <a:latin typeface="Tahoma"/>
              </a:rPr>
              <a:t>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és de la reunión, el moderador y el autor se reú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15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registrador le entrega al autor y al resto de los participantes, una lista preliminar (borrador) de los defectos encontrados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, pero no abuse,…..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s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n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7-04-05T12:19:01Z</dcterms:modified>
  <cp:revision>46</cp:revision>
  <dc:subject/>
  <dc:title>Software Technical Reviews</dc:title>
</cp:coreProperties>
</file>