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EB2-DE7A-4121-9C61-D8310965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888-C57F-4E39-BD86-24DFFD58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1C8-5DB5-483D-B8EB-04D0F0F7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B8C-D0D7-488F-8127-089D0C42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2E8-6873-4549-B132-E1D858C7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670-EDE8-4272-9AEF-48E2256F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170-28BB-47FE-886A-15FBAA88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9D6-EE7A-42AE-B039-63DC1DCC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EC9-8EA7-4ECA-81EC-59D34D01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78D-DFD9-48B4-A6C7-E119B4D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A70-295F-4351-BD9A-7266B456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E42-DAC4-45D4-9940-5A894C8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6EA9-7A7D-4E46-8626-5F9E7AA795DC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11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Objet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accion f1 = new Fraccion(“nº/nº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rea objeto de clase Fracción con numerador y denominador indi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 ? referencia (dirección, ubicación, puntero, “flecha”) a ob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raccion f1; //declarar referencia a ob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1 = new Fraccion(“nº/nº”);//asignar dir de ob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92360" y="3284640"/>
            <a:ext cx="718560" cy="590760"/>
            <a:chOff x="1692360" y="3284640"/>
            <a:chExt cx="718560" cy="590760"/>
          </a:xfrm>
        </p:grpSpPr>
        <p:sp>
          <p:nvSpPr>
            <p:cNvPr id="123" name=""/>
            <p:cNvSpPr/>
            <p:nvPr/>
          </p:nvSpPr>
          <p:spPr>
            <a:xfrm>
              <a:off x="1692360" y="3284640"/>
              <a:ext cx="718560" cy="286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93440" y="3476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474920" y="4867200"/>
            <a:ext cx="50472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011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4795920"/>
            <a:ext cx="79236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49388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7800" y="5300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85280" y="479592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515628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6520" y="5587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operador new crea objeto (reserva memoria para una frac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70828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objeto se inicializa con nº y nº (invocando a método “construc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076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operador new devuelve referencia (dirección) de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37372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4º asignación guarda dirección en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14560" y="3357720"/>
            <a:ext cx="683280" cy="703800"/>
            <a:chOff x="1114560" y="3357720"/>
            <a:chExt cx="683280" cy="703800"/>
          </a:xfrm>
        </p:grpSpPr>
        <p:sp>
          <p:nvSpPr>
            <p:cNvPr id="139" name=""/>
            <p:cNvSpPr/>
            <p:nvPr/>
          </p:nvSpPr>
          <p:spPr>
            <a:xfrm>
              <a:off x="1114560" y="3357720"/>
              <a:ext cx="672840" cy="66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12200" y="335772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8920" y="3718080"/>
              <a:ext cx="366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116000" y="1989000"/>
            <a:ext cx="673200" cy="66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5013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08000" y="4724280"/>
            <a:ext cx="683280" cy="703800"/>
            <a:chOff x="1908000" y="4724280"/>
            <a:chExt cx="683280" cy="703800"/>
          </a:xfrm>
        </p:grpSpPr>
        <p:sp>
          <p:nvSpPr>
            <p:cNvPr id="145" name=""/>
            <p:cNvSpPr/>
            <p:nvPr/>
          </p:nvSpPr>
          <p:spPr>
            <a:xfrm>
              <a:off x="1908000" y="4724280"/>
              <a:ext cx="672840" cy="66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5640" y="472428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2360" y="5084640"/>
              <a:ext cx="366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116000" y="5950080"/>
            <a:ext cx="50472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17440" y="609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6021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27280" y="5877000"/>
            <a:ext cx="683280" cy="703800"/>
            <a:chOff x="2627280" y="5877000"/>
            <a:chExt cx="683280" cy="703800"/>
          </a:xfrm>
        </p:grpSpPr>
        <p:sp>
          <p:nvSpPr>
            <p:cNvPr id="152" name=""/>
            <p:cNvSpPr/>
            <p:nvPr/>
          </p:nvSpPr>
          <p:spPr>
            <a:xfrm>
              <a:off x="2627280" y="5877000"/>
              <a:ext cx="672840" cy="66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4920" y="587700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1640" y="6237360"/>
              <a:ext cx="366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1.suma(f2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objeto.método(parámetr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ás preciso: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ferencia.método(parámetr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uma dos objetos de clase Fracc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sultado: objeto de clase Frac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ipo del resultado: referencia a objeto de clase Fracc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836720" y="4437000"/>
            <a:ext cx="50472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8160" y="4581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4294080"/>
            <a:ext cx="22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4365720"/>
            <a:ext cx="100836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4365720"/>
            <a:ext cx="100800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4510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5640" y="4726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4726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6720" y="5229360"/>
            <a:ext cx="50472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5373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5086440"/>
            <a:ext cx="223200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5157720"/>
            <a:ext cx="100836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5157720"/>
            <a:ext cx="100800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5302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5640" y="5518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5518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6720" y="6021360"/>
            <a:ext cx="50472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8520" y="6165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5878440"/>
            <a:ext cx="22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5950080"/>
            <a:ext cx="100836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950080"/>
            <a:ext cx="100800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60944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5640" y="63104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63104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29080" y="3214800"/>
            <a:ext cx="50472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5080" y="3286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=f1.suma(f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3141720"/>
            <a:ext cx="223200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91280" y="3213000"/>
            <a:ext cx="100800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3213000"/>
            <a:ext cx="100800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3280" y="3573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90920" y="3573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.toString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2160" indent="-54216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trega String en la forma “nº/nº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2160" indent="-54216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sultado: objeto de clase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2160" indent="-54216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po del resultado: referencia a objeto de clase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321300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Courier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.simpl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trega Fracción simpl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sultado: objeto de clase Fra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po del resultado: referencia a objeto de clase F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73408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.simple().toString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trega fracción simplificada en la forma “nº/nº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8720" y="2637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f a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2852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2563920"/>
            <a:ext cx="108108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1520" y="263700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  <a:ea typeface="ＭＳ Ｐゴシック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  <a:ea typeface="ＭＳ Ｐゴシック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34160" y="2637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581360"/>
            <a:ext cx="22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4653000"/>
            <a:ext cx="100800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4653000"/>
            <a:ext cx="100800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68360" y="4797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9640" y="5013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280" y="5013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cribir un programa que promedie y obtenga la mayor fracción de una lista, de acuerdo al diálogo siguien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omedio y mayor de fr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ara terminar ingrese fraccion con valor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ccion(nº/nº) ? 1/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uenta=1 suma=1/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ccion(nº/nº) ? 1/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uenta=2 suma=6/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ccion(nº/nº) ? 0/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yor=1/2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omedio=3/8 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(simplificad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. suponga que la clase Fraccion contiene también los método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71640" y="5516640"/>
          <a:ext cx="7200720" cy="1008000"/>
        </p:xfrm>
        <a:graphic>
          <a:graphicData uri="http://schemas.openxmlformats.org/drawingml/2006/table">
            <a:tbl>
              <a:tblPr/>
              <a:tblGrid>
                <a:gridCol w="2201760"/>
                <a:gridCol w="49989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equals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ue si x=y (false si 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compareTo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(x=y), nº&lt;0 (x&lt;y), nº&gt;0 (x&gt;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accion cero=new Fraccion(“0/1”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=new Fraccion(“0/1”),max=new Fraccion(“0/1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ccion f=new Fraccion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readLine(“fraccion(nº/nº)? 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equals(cero)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 = s.suma(f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cuenta=”+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 suma=" + s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compareTo(max)&gt;0) max=f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+max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accion cuenta=new Fraccion(“”+n+”/1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accion prom=s.div(cuenta).simple();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promedio="+prom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2. Abreviad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acc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ero=new Fraccion(“0/1”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=cero,max=cer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ccion f = new Fraccion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readLine(“fraccion(Nº/Nº)?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equals(cero)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cuenta=”+ (++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 suma=" + (s=s.suma(f))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compareTo(max)&gt;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=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+max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promedio=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s.div(new Fraccion(n+”/1”)).simple()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Asignación (de referencia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signar (copiar) referencias (y no obje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 dos referencias apuntando al mismo obj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tenido original de max se pierde (objeto apuntado “desaparece” y su memoria se libe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: max=f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340000" y="3357720"/>
            <a:ext cx="4351680" cy="1736640"/>
            <a:chOff x="2340000" y="3357720"/>
            <a:chExt cx="4351680" cy="1736640"/>
          </a:xfrm>
        </p:grpSpPr>
        <p:sp>
          <p:nvSpPr>
            <p:cNvPr id="214" name=""/>
            <p:cNvSpPr/>
            <p:nvPr/>
          </p:nvSpPr>
          <p:spPr>
            <a:xfrm>
              <a:off x="3996000" y="3357720"/>
              <a:ext cx="223200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46920" y="3429000"/>
              <a:ext cx="1008000" cy="3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67280" y="3429000"/>
              <a:ext cx="1008000" cy="3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87640" y="357336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34560" y="386064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ume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38606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denomin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40000" y="3430440"/>
              <a:ext cx="50508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41800" y="3575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11640" y="4222800"/>
              <a:ext cx="50472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13080" y="43671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059280" y="3718080"/>
              <a:ext cx="79200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96000" y="4222800"/>
              <a:ext cx="2232000" cy="43164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46920" y="4294080"/>
              <a:ext cx="1008000" cy="3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7280" y="4294080"/>
              <a:ext cx="1008000" cy="3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34560" y="47260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ume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02200" y="47260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denomin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59280" y="4365720"/>
              <a:ext cx="792000" cy="1443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275280" y="4365720"/>
              <a:ext cx="215640" cy="21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75280" y="4294080"/>
              <a:ext cx="215640" cy="289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-446400" y="5373720"/>
            <a:ext cx="993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a.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programa crea (y elimina) dos objetos en cada it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ccion f=new Fraccion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=s.suma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95280" y="1413000"/>
          <a:ext cx="8229600" cy="4851360"/>
        </p:xfrm>
        <a:graphic>
          <a:graphicData uri="http://schemas.openxmlformats.org/drawingml/2006/table">
            <a:tbl>
              <a:tblPr/>
              <a:tblGrid>
                <a:gridCol w="2417760"/>
                <a:gridCol w="1779480"/>
                <a:gridCol w="2608560"/>
                <a:gridCol w="1423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tax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x,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 de u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f,g,h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nº,n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nº/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new Fraccion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0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new Fraccion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n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nº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new Fraccion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pia de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=new Fraccion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suma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x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sumar(g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4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resta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x-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restar(g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0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multiplica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x*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multiplicar(g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dividi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x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dividir(g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2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simplificar(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simplif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simplificar(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asignar(“nº/nº”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nº/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.asignar(“1/2”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=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asigna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.asignar(f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=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-195840" y="1052640"/>
            <a:ext cx="91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ando la cla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c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con los sgtes métodos a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578880" y="6181560"/>
            <a:ext cx="9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a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étodos Fraccion son otros “constructores” (con otros parámet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gtes métodos (todos void) modifican el objeto (1er opera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cc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ero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raccion(0,1),//ctor c/2 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raccion()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/default ctor (s/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raccion(0)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/ctor c/1 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x=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ew Fraccion(cero);//copy ctor(c/otra re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.asign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U.readLine(“fraccion(Nº/Nº)?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equals(cero)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.sumar(f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uenta=”+ (++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 suma=" + s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compareTo(max)&gt;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.asignar(f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+max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.dividir( new Fraccion(n)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.simplificar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promedio="+s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Programar el diálogo indicado en el siguiente 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Calculadora de fra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fraccion 1 (Nº/Nº) ? 3/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fraccion 2 (Nº/Nº) ? 7/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operación (+,-,*,/)? +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resultado=52/3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simplificado=13/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Problemas 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cribir un programa que obtenga una lista de fracciones y muestre la fracción más alejada del promedio (y su número de apari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rogramar una calculadora de fracciones con el dia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urier New"/>
              </a:rPr>
              <a:t>Calculadora de fra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eración (=,+,-,*,/,q)? = (ingresar valo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ccion (Nº/Nº) ? 3/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sultado=3/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eración (=,+,-,*,/,q)? 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ccion (Nº/Nº) ? 3/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sultado=3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eración (=,+,-,*,/,q)?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 datos de tipo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fraccion 1: a1/b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=U.readLine(“fraccion 1(Nº/Nº)?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 = s.indexOf(“/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1 = Integer.parseInt(s.substring(0,i)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1 = Integer.parseInt(s.substring(i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1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fraccion 2: a2/b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 = U.readLine(“fraccion 2(Nº/Nº)?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s.indexOf(“/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2 = Integer.parseInt(s.substring(0,i)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2 = Integer.parseInt(s.substring(i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2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y realizar oper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,b;//numerador y denominador de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U.readChar(“operació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-,*,/)?”)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+’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1*b2+b1*a2; b=b1*b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-’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1*b2-b1*a2; b=b1*b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*’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1*a2; b=b1*b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/’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1*b2; b=b1*a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aul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abortar(“operación indefinid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//mostrar result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//fracción sin simplific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U.println("resultado="+ a +"/"+ 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//fraccion simplifica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U.println("simplificado="+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/U.mcd(a,b) + "/" + b/U.mcd(a,b)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class 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//métodos práct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adLine(x).charAt(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métodos trá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abortar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ystem.out.println(x);//escribir epitafio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ystem.exit(0)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;       //suicidarse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más méto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ax=x&gt;y?x:y, min=x&lt;y?x: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in==0 ? max : mcd(min, max % mi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.. //otros méto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Usando clase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Fracción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definida con los siguientes métod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2133720"/>
          <a:ext cx="8291520" cy="4076640"/>
        </p:xfrm>
        <a:graphic>
          <a:graphicData uri="http://schemas.openxmlformats.org/drawingml/2006/table">
            <a:tbl>
              <a:tblPr/>
              <a:tblGrid>
                <a:gridCol w="2017800"/>
                <a:gridCol w="1971720"/>
                <a:gridCol w="3106800"/>
                <a:gridCol w="1195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tax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x,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 de 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f,g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“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/nº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nº/n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new Fraccion(“1/2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=new Fraccion(“2/6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suma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x+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suma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resta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x-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resta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mult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x*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mult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div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x/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div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simp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simplific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.simp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ing“nº/nº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.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“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/6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obtener fr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ccion f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1=new Fraccion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readLine(“fraccion1(Nº/Nº)?”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2=new Fraccion(U.readLine(“fraccion2(Nº/Nº)?”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y realizar operac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witch(U.readChar(“operación (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,-,*,/)?”)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‘+’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=f1.suma(f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‘-’: f=f1.resta(f2);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‘*’: f=f1.mult(f2); 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‘/’: f=f1.div(f2);  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ault: U.abortar(“operación indefinida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mostrar result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resultado="+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.toString(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.simpl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toString(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10T14:58:22Z</dcterms:modified>
  <cp:revision>92</cp:revision>
  <dc:subject/>
  <dc:title>Clase12</dc:title>
</cp:coreProperties>
</file>