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FAD34-D0B2-42B6-9487-5FEAD90AA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D7782-A6E2-4A00-82A0-1201C6766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495BF-3BE0-48F3-A11B-F674EC6D0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53556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56998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13716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53556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56998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3F9B7-2AA8-4AAC-8955-2E909FD70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681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BC56A-CC4A-4895-B45A-CD6116418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53556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6998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3716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53556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56998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0162E-8DE6-47DB-BE50-F5E426D10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56B99-62ED-4C72-8B30-588E2BC24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93071-D916-4397-9378-E8E9F6ECF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681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50E85-DB90-480D-A7FD-62F34D0CF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B183A-FA9F-48C7-B945-5F02320FE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0FC61-D1FA-444E-BA51-38E9EB1BB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2995C-2037-4B8D-8797-995E920CE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905120"/>
            <a:ext cx="380880" cy="4952880"/>
          </a:xfrm>
          <a:prstGeom prst="rtTriangle">
            <a:avLst/>
          </a:prstGeom>
          <a:gradFill rotWithShape="0">
            <a:gsLst>
              <a:gs pos="0">
                <a:srgbClr val="b3d1f0"/>
              </a:gs>
              <a:gs pos="50000">
                <a:srgbClr val="fefefe"/>
              </a:gs>
              <a:gs pos="100000">
                <a:srgbClr val="b3d1f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 flipH="1">
            <a:off x="8686080" y="1905120"/>
            <a:ext cx="453960" cy="4952880"/>
          </a:xfrm>
          <a:prstGeom prst="rtTriangle">
            <a:avLst/>
          </a:prstGeom>
          <a:gradFill rotWithShape="0">
            <a:gsLst>
              <a:gs pos="0">
                <a:srgbClr val="b3d1f0"/>
              </a:gs>
              <a:gs pos="50000">
                <a:srgbClr val="fefefe"/>
              </a:gs>
              <a:gs pos="100000">
                <a:srgbClr val="b3d1f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>
          <a:xfrm>
            <a:off x="-360" y="655272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>
          <a:xfrm>
            <a:off x="1371240" y="6552720"/>
            <a:ext cx="716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>
          <a:xfrm>
            <a:off x="8686800" y="6324480"/>
            <a:ext cx="457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1822cd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93650-8EF0-46FC-9189-F527D1A97DFA}" type="slidenum">
              <a:rPr b="0" lang="es-ES_tradnl" sz="1400" spc="-1" strike="noStrike">
                <a:solidFill>
                  <a:srgbClr val="1822cd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0"/>
            <a:ext cx="9144000" cy="1125000"/>
            <a:chOff x="0" y="0"/>
            <a:chExt cx="9144000" cy="1125000"/>
          </a:xfrm>
        </p:grpSpPr>
        <p:grpSp>
          <p:nvGrpSpPr>
            <p:cNvPr id="6" name=""/>
            <p:cNvGrpSpPr/>
            <p:nvPr/>
          </p:nvGrpSpPr>
          <p:grpSpPr>
            <a:xfrm>
              <a:off x="6480" y="783000"/>
              <a:ext cx="9137520" cy="244080"/>
              <a:chOff x="6480" y="783000"/>
              <a:chExt cx="9137520" cy="244080"/>
            </a:xfrm>
          </p:grpSpPr>
          <p:sp>
            <p:nvSpPr>
              <p:cNvPr id="7" name=""/>
              <p:cNvSpPr/>
              <p:nvPr/>
            </p:nvSpPr>
            <p:spPr>
              <a:xfrm flipV="1">
                <a:off x="6480" y="796680"/>
                <a:ext cx="9137520" cy="59400"/>
              </a:xfrm>
              <a:prstGeom prst="rect">
                <a:avLst/>
              </a:prstGeom>
              <a:solidFill>
                <a:srgbClr val="b3d1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600" bIns="12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480" y="857160"/>
                <a:ext cx="9137520" cy="144000"/>
              </a:xfrm>
              <a:prstGeom prst="rect">
                <a:avLst/>
              </a:prstGeom>
              <a:gradFill rotWithShape="0">
                <a:gsLst>
                  <a:gs pos="0">
                    <a:srgbClr val="3568c7"/>
                  </a:gs>
                  <a:gs pos="100000">
                    <a:srgbClr val="a7bde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480" y="783000"/>
                <a:ext cx="9137520" cy="14760"/>
              </a:xfrm>
              <a:prstGeom prst="rect">
                <a:avLst/>
              </a:prstGeom>
              <a:gradFill rotWithShape="0">
                <a:gsLst>
                  <a:gs pos="0">
                    <a:srgbClr val="1822cd"/>
                  </a:gs>
                  <a:gs pos="100000">
                    <a:srgbClr val="868c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V="1">
                <a:off x="6480" y="997920"/>
                <a:ext cx="9137520" cy="28440"/>
              </a:xfrm>
              <a:prstGeom prst="rect">
                <a:avLst/>
              </a:prstGeom>
              <a:gradFill rotWithShape="0">
                <a:gsLst>
                  <a:gs pos="0">
                    <a:srgbClr val="a7bde6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6480" y="852480"/>
                <a:ext cx="9137520" cy="28440"/>
              </a:xfrm>
              <a:prstGeom prst="rect">
                <a:avLst/>
              </a:prstGeom>
              <a:gradFill rotWithShape="0">
                <a:gsLst>
                  <a:gs pos="0">
                    <a:srgbClr val="b3d1f0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0"/>
              <a:ext cx="9144000" cy="783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3240" y="1027440"/>
              <a:ext cx="9140760" cy="9756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680" y="760320"/>
              <a:ext cx="9139320" cy="47520"/>
            </a:xfrm>
            <a:prstGeom prst="rect">
              <a:avLst/>
            </a:prstGeom>
            <a:solidFill>
              <a:srgbClr val="777777">
                <a:alpha val="3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" name="PlaceHolder 4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22cd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6" name="PlaceHolder 5"/>
          <p:cNvSpPr>
            <a:spLocks noGrp="1"/>
          </p:cNvSpPr>
          <p:nvPr>
            <p:ph type="body"/>
          </p:nvPr>
        </p:nvSpPr>
        <p:spPr>
          <a:xfrm>
            <a:off x="457200" y="1125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799"/>
              </a:spcBef>
              <a:buClr>
                <a:srgbClr val="3568c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428840" indent="-228600">
              <a:spcBef>
                <a:spcPts val="799"/>
              </a:spcBef>
              <a:buClr>
                <a:srgbClr val="f0615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71560" indent="-228600">
              <a:spcBef>
                <a:spcPts val="799"/>
              </a:spcBef>
              <a:buClr>
                <a:srgbClr val="1822c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7156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7156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0" y="0"/>
            <a:ext cx="9144000" cy="4038480"/>
            <a:chOff x="0" y="0"/>
            <a:chExt cx="9144000" cy="4038480"/>
          </a:xfrm>
        </p:grpSpPr>
        <p:sp>
          <p:nvSpPr>
            <p:cNvPr id="54" name=""/>
            <p:cNvSpPr/>
            <p:nvPr/>
          </p:nvSpPr>
          <p:spPr>
            <a:xfrm>
              <a:off x="0" y="0"/>
              <a:ext cx="9144000" cy="35053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0" y="3505320"/>
              <a:ext cx="9137520" cy="380160"/>
              <a:chOff x="0" y="3505320"/>
              <a:chExt cx="9137520" cy="380160"/>
            </a:xfrm>
          </p:grpSpPr>
          <p:sp>
            <p:nvSpPr>
              <p:cNvPr id="56" name=""/>
              <p:cNvSpPr/>
              <p:nvPr/>
            </p:nvSpPr>
            <p:spPr>
              <a:xfrm flipV="1">
                <a:off x="0" y="3527280"/>
                <a:ext cx="9137520" cy="92520"/>
              </a:xfrm>
              <a:prstGeom prst="rect">
                <a:avLst/>
              </a:prstGeom>
              <a:solidFill>
                <a:srgbClr val="b3d1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3620880"/>
                <a:ext cx="9137520" cy="224280"/>
              </a:xfrm>
              <a:prstGeom prst="rect">
                <a:avLst/>
              </a:prstGeom>
              <a:gradFill rotWithShape="0">
                <a:gsLst>
                  <a:gs pos="0">
                    <a:srgbClr val="3568c7"/>
                  </a:gs>
                  <a:gs pos="100000">
                    <a:srgbClr val="a7bde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505320"/>
                <a:ext cx="9137520" cy="23040"/>
              </a:xfrm>
              <a:prstGeom prst="rect">
                <a:avLst/>
              </a:prstGeom>
              <a:gradFill rotWithShape="0">
                <a:gsLst>
                  <a:gs pos="0">
                    <a:srgbClr val="1822cd"/>
                  </a:gs>
                  <a:gs pos="100000">
                    <a:srgbClr val="868c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760" bIns="-23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flipV="1">
                <a:off x="0" y="3840480"/>
                <a:ext cx="9137520" cy="44280"/>
              </a:xfrm>
              <a:prstGeom prst="rect">
                <a:avLst/>
              </a:prstGeom>
              <a:gradFill rotWithShape="0">
                <a:gsLst>
                  <a:gs pos="0">
                    <a:srgbClr val="a7bde6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3613680"/>
                <a:ext cx="9137520" cy="44280"/>
              </a:xfrm>
              <a:prstGeom prst="rect">
                <a:avLst/>
              </a:prstGeom>
              <a:gradFill rotWithShape="0">
                <a:gsLst>
                  <a:gs pos="0">
                    <a:srgbClr val="b3d1f0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" name=""/>
            <p:cNvSpPr/>
            <p:nvPr/>
          </p:nvSpPr>
          <p:spPr>
            <a:xfrm>
              <a:off x="3240" y="3886200"/>
              <a:ext cx="9140760" cy="15228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0" y="3470400"/>
            <a:ext cx="9139320" cy="74520"/>
          </a:xfrm>
          <a:prstGeom prst="rect">
            <a:avLst/>
          </a:prstGeom>
          <a:solidFill>
            <a:srgbClr val="777777">
              <a:alpha val="3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22cd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857160" algn="ctr">
              <a:spcBef>
                <a:spcPts val="601"/>
              </a:spcBef>
              <a:buClr>
                <a:srgbClr val="3568c7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200240" algn="ctr">
              <a:spcBef>
                <a:spcPts val="499"/>
              </a:spcBef>
              <a:buClr>
                <a:srgbClr val="f06157"/>
              </a:buClr>
              <a:buFont typeface="Time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542960" algn="ctr">
              <a:spcBef>
                <a:spcPts val="499"/>
              </a:spcBef>
              <a:buClr>
                <a:srgbClr val="1822cd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54296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54296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007720" y="1868040"/>
            <a:ext cx="71406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072720"/>
                <a:tab algn="l" pos="1008072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Verdana"/>
              </a:rPr>
              <a:t>Clase 10:</a:t>
            </a:r>
            <a:br>
              <a:rPr sz="4000"/>
            </a:br>
            <a:r>
              <a:rPr b="1" lang="en-GB" sz="4000" spc="-1" strike="noStrike">
                <a:solidFill>
                  <a:srgbClr val="1822cd"/>
                </a:solidFill>
                <a:latin typeface="Verdana"/>
              </a:rPr>
              <a:t>Repaso</a:t>
            </a:r>
            <a:endParaRPr b="1" lang="en-US" sz="40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02" name=""/>
          <p:cNvSpPr/>
          <p:nvPr/>
        </p:nvSpPr>
        <p:spPr>
          <a:xfrm>
            <a:off x="826920" y="5514840"/>
            <a:ext cx="8137800" cy="13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8064360"/>
                <a:tab algn="l" pos="9072720"/>
                <a:tab algn="l" pos="10080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Valeria Herskovic – vherskov@dcc.uchile.c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8064360"/>
                <a:tab algn="l" pos="9072720"/>
                <a:tab algn="l" pos="10080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CC1001 Computación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26920" y="115560"/>
            <a:ext cx="806616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22cd"/>
                </a:solidFill>
                <a:latin typeface="Verdana"/>
              </a:rPr>
              <a:t>6. Recursión (Métodos recursivos)</a:t>
            </a:r>
            <a:endParaRPr b="1" lang="en-US" sz="32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static public double 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potencia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(double x,int y)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if(y==0) return 1; //caso bas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if(y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Arial"/>
              </a:rPr>
              <a:t>&lt;0) return 1/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Arial"/>
              </a:rPr>
              <a:t>potencia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Arial"/>
              </a:rPr>
              <a:t>(x,-y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Arial"/>
              </a:rPr>
              <a:t>double p=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Arial"/>
              </a:rPr>
              <a:t>potencia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Arial"/>
              </a:rPr>
              <a:t>(x,y/2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Arial"/>
              </a:rPr>
              <a:t>if(y%2==0) return p*p; else return x*p*p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Arial"/>
              </a:rPr>
              <a:t>static public voi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Arial"/>
              </a:rPr>
              <a:t>printBinario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Arial"/>
              </a:rPr>
              <a:t>(int x)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Arial"/>
              </a:rPr>
              <a:t>if(x/2==0) U.print(x); //caso bas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Arial"/>
              </a:rPr>
              <a:t>else{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Arial"/>
              </a:rPr>
              <a:t>printBinario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Arial"/>
              </a:rPr>
              <a:t>(x/2); U.print(x%2);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Arial"/>
              </a:rPr>
              <a:t>static public voi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Arial"/>
              </a:rPr>
              <a:t>printBinario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Arial"/>
              </a:rPr>
              <a:t>(int x)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Arial"/>
              </a:rPr>
              <a:t>if(x/2!=0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Arial"/>
              </a:rPr>
              <a:t>printBinario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Arial"/>
              </a:rPr>
              <a:t>(x/2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Arial"/>
              </a:rPr>
              <a:t>U.print(x%2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22cd"/>
                </a:solidFill>
                <a:latin typeface="Verdana"/>
              </a:rPr>
              <a:t>7. Operadores Especiales</a:t>
            </a:r>
            <a:endParaRPr b="1" lang="en-US" sz="32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double suma, mayor, numero; int n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uma = mayor = n = 0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while(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umero=U.readDouble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"nº?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!=0){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U.println(“prom=”+(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suma+=numero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)/++n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mayor=max(n,mayor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U.println(“mayor=“+mayor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static public double max(double x,double y){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x&gt;y ? x : y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22cd"/>
                </a:solidFill>
                <a:latin typeface="Verdana"/>
              </a:rPr>
              <a:t>7. Instrucciones Especiales</a:t>
            </a:r>
            <a:endParaRPr b="1" lang="en-US" sz="32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static public boolean primo(int x)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if(x%2==0 &amp;&amp; x&gt;2) return false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(int i=3,r=(int)Math.sqrt(x) ;  i&lt;=r ; i+=2) //i=3,5,...,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if(x%i==0) return false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static public int diasMes(int m,int a)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tch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m)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ase 1:case 3:case 5:case 7:case 8:case 10:case 12:return 31;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ase 4:case 6:case 9:case 11: 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return 30;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case 2: return bisiesto(a) ? 29 : 28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23640" y="115560"/>
            <a:ext cx="828036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22cd"/>
                </a:solidFill>
                <a:latin typeface="Verdana"/>
              </a:rPr>
              <a:t>8. Cadenas de caracteres(Strings)</a:t>
            </a:r>
            <a:endParaRPr b="1" lang="en-US" sz="32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//obtener una respuesta “si” o “no”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static public String 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siNo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(String x)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String r=U.readLine(x+” si o no?”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.trim().toLowerCase(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return r.equals(“si”)||r.equals(“no”)) ?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r : 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siNo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(x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//reemplazar todos los x por y en z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String 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reemplazar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(String x,String y,String z)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int i=z.indexOf(x);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if(i&lt;0)return z; //caso bas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return z.substring(0,i) + 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+ 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reemplazar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(x,y,z.substring(i+x.length())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22cd"/>
                </a:solidFill>
                <a:latin typeface="Verdana"/>
              </a:rPr>
              <a:t>9. Archivos</a:t>
            </a:r>
            <a:endParaRPr b="1" lang="en-US" sz="32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//copiar archivos contando caracteres y líne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BufferedReader I=new BufferedReader(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new FileReader(U.readLine(“input?”))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PrintWriter O=new PrintWriter(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new FileWriter(U.readLine(“output?”)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nt nc=0,int nl=0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String linea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while((linea=I.readLine())!= null){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O.println(linea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++nl; nc+=linea.length(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O.close(); I.close();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U.println(nl+“ líneas “+nc+” caracteres”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1822cd"/>
                </a:solidFill>
                <a:latin typeface="Verdana"/>
              </a:rPr>
              <a:t>¿</a:t>
            </a:r>
            <a:r>
              <a:rPr b="1" lang="en-US" sz="3600" spc="-1" strike="noStrike">
                <a:solidFill>
                  <a:srgbClr val="1822cd"/>
                </a:solidFill>
                <a:latin typeface="Verdana"/>
              </a:rPr>
              <a:t>Preguntas?</a:t>
            </a: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22cd"/>
                </a:solidFill>
                <a:latin typeface="Verdana"/>
              </a:rPr>
              <a:t>Control 1</a:t>
            </a:r>
            <a:endParaRPr b="1" lang="en-US" sz="32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3568c7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Verdana"/>
              </a:rPr>
              <a:t>Lectura/escritur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3568c7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Verdana"/>
              </a:rPr>
              <a:t>Asignació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3568c7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Verdana"/>
              </a:rPr>
              <a:t>Funcion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3568c7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Verdana"/>
              </a:rPr>
              <a:t>Selección de instrucciones (if-else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3568c7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Verdana"/>
              </a:rPr>
              <a:t>Repetición de instrucciones (while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3568c7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Verdana"/>
              </a:rPr>
              <a:t>Recursió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3568c7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Verdana"/>
              </a:rPr>
              <a:t>Operadores/instrucciones especial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Verdana"/>
              </a:rPr>
              <a:t>Control 2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3568c7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Verdana"/>
              </a:rPr>
              <a:t>String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3568c7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Verdana"/>
              </a:rPr>
              <a:t>Archivo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22cd"/>
                </a:solidFill>
                <a:latin typeface="Verdana"/>
              </a:rPr>
              <a:t>1. Lectura/Escritura</a:t>
            </a:r>
            <a:endParaRPr b="1" lang="en-US" sz="32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8930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mport java.io.*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class Circulo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atic public void main(String[]arg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rows IOExcep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U.println(“Calcular perímetro/área círculo”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ouble r=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U.readDouble(“radio?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“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.println(“perímetro=“ + 2*Math.PI*r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.println(“área=“ + Math.PI*Math.pow(r,2)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22cd"/>
                </a:solidFill>
                <a:latin typeface="Verdana"/>
              </a:rPr>
              <a:t>2. Instrucción de Asignación</a:t>
            </a:r>
            <a:endParaRPr b="1" lang="en-US" sz="32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int n=U.readInt(“Nº 3 dígitos?”)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int d1=n/100,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d3=n%10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int d2=n%100/10;//int d2=n/10%10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U.println(“Nºinvertido=” + d3 + d2 + d1)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int f=U.readInt(“Fecha(AAAAMMDD)?“);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U.println(“Resultado=“+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f%100 +“/”+ f%10000/100 +“/”+ f/10000)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22cd"/>
                </a:solidFill>
                <a:latin typeface="Verdana"/>
              </a:rPr>
              <a:t>2. Instrucción de Asignación</a:t>
            </a:r>
            <a:endParaRPr b="1" lang="en-US" sz="32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3568c7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Declaración: </a:t>
            </a: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tipo nombre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jempl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14360" indent="-457200">
              <a:lnSpc>
                <a:spcPct val="80000"/>
              </a:lnSpc>
              <a:spcBef>
                <a:spcPts val="550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</a:rPr>
              <a:t>int a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14360" indent="-457200">
              <a:lnSpc>
                <a:spcPct val="80000"/>
              </a:lnSpc>
              <a:spcBef>
                <a:spcPts val="550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</a:rPr>
              <a:t>boolean valor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lo 1 vez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14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int a = 15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14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int a = U.readInt(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ada variable tiene nombre únic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314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int c; c=U.readInt(“Ingrese c”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14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14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double  c = 15.3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3568c7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signación: </a:t>
            </a:r>
            <a:r>
              <a:rPr b="0" lang="es-ES_tradnl" sz="28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nombre = expresió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f06157"/>
              </a:buClr>
              <a:buFont typeface="Courier New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b = 4 * a * c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568c7"/>
                </a:solidFill>
                <a:latin typeface="Courier New"/>
                <a:ea typeface="ＭＳ Ｐゴシック"/>
              </a:rPr>
              <a:t>1+2. </a:t>
            </a:r>
            <a:r>
              <a:rPr b="0" lang="es-ES_tradnl" sz="28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tipo nombre = expresión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4932360" y="2781360"/>
            <a:ext cx="598320" cy="665280"/>
            <a:chOff x="4932360" y="2781360"/>
            <a:chExt cx="598320" cy="665280"/>
          </a:xfrm>
        </p:grpSpPr>
        <p:sp>
          <p:nvSpPr>
            <p:cNvPr id="112" name=""/>
            <p:cNvSpPr/>
            <p:nvPr/>
          </p:nvSpPr>
          <p:spPr>
            <a:xfrm>
              <a:off x="4932360" y="2781360"/>
              <a:ext cx="598320" cy="665280"/>
            </a:xfrm>
            <a:prstGeom prst="line">
              <a:avLst/>
            </a:prstGeom>
            <a:ln w="127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flipV="1">
              <a:off x="4932360" y="2781360"/>
              <a:ext cx="598320" cy="665280"/>
            </a:xfrm>
            <a:prstGeom prst="line">
              <a:avLst/>
            </a:prstGeom>
            <a:ln w="127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6877080" y="4076640"/>
            <a:ext cx="598320" cy="665280"/>
            <a:chOff x="6877080" y="4076640"/>
            <a:chExt cx="598320" cy="665280"/>
          </a:xfrm>
        </p:grpSpPr>
        <p:sp>
          <p:nvSpPr>
            <p:cNvPr id="115" name=""/>
            <p:cNvSpPr/>
            <p:nvPr/>
          </p:nvSpPr>
          <p:spPr>
            <a:xfrm>
              <a:off x="6877080" y="4076640"/>
              <a:ext cx="598320" cy="665280"/>
            </a:xfrm>
            <a:prstGeom prst="line">
              <a:avLst/>
            </a:prstGeom>
            <a:ln w="127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flipV="1">
              <a:off x="6877080" y="4076640"/>
              <a:ext cx="598320" cy="665280"/>
            </a:xfrm>
            <a:prstGeom prst="line">
              <a:avLst/>
            </a:prstGeom>
            <a:ln w="127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22cd"/>
                </a:solidFill>
                <a:latin typeface="Verdana"/>
              </a:rPr>
              <a:t>3. Funciones</a:t>
            </a:r>
            <a:endParaRPr b="1" lang="en-US" sz="32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int a=U.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azar(1,100)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,b=U.azar(1,100),c=U.azar(1,100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U.println(U.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minimo(a,b,c)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+ " “ + U.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medio(a,b,c)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+ " " +U.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maximo(a,b,c)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lass U{  //en archivo U.jav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atic public 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za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int x,int y)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x + (int)(Math.random()*(y-x+1));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atic public 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inimo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int x,int y,int z)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Math.min(Math.min(x,y),z);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atic public 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ximo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int x,int y,int z)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Math.max(Math.max(x,y),z);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atic public 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edio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int x,int y,int z)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return x+y+z - minimo(x,y,z)-maximo(x,y,z);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1822cd"/>
                </a:solidFill>
                <a:latin typeface="Verdana"/>
              </a:rPr>
              <a:t>Funciones</a:t>
            </a: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716256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public static void main(String args[]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int a = 15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int b = 20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int max = maximo(a,b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System.out.println(“Mayor= ”+max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public static int maximo(int x, int y)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if (x&gt;y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return x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return y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"/>
          <p:cNvSpPr/>
          <p:nvPr/>
        </p:nvSpPr>
        <p:spPr>
          <a:xfrm>
            <a:off x="6553080" y="0"/>
            <a:ext cx="0" cy="6858000"/>
          </a:xfrm>
          <a:prstGeom prst="line">
            <a:avLst/>
          </a:prstGeom>
          <a:ln w="50760">
            <a:solidFill>
              <a:srgbClr val="f061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337520" y="1273320"/>
            <a:ext cx="609480" cy="380880"/>
          </a:xfrm>
          <a:prstGeom prst="rect">
            <a:avLst/>
          </a:prstGeom>
          <a:solidFill>
            <a:srgbClr val="cc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958440" y="12733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337520" y="1730520"/>
            <a:ext cx="609480" cy="380880"/>
          </a:xfrm>
          <a:prstGeom prst="rect">
            <a:avLst/>
          </a:prstGeom>
          <a:solidFill>
            <a:srgbClr val="cc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58440" y="1730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31800" y="1501920"/>
            <a:ext cx="1828800" cy="380880"/>
          </a:xfrm>
          <a:prstGeom prst="rect">
            <a:avLst/>
          </a:prstGeom>
          <a:noFill/>
          <a:ln w="38160">
            <a:solidFill>
              <a:srgbClr val="1822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31800" y="1882800"/>
            <a:ext cx="1828800" cy="380880"/>
          </a:xfrm>
          <a:prstGeom prst="rect">
            <a:avLst/>
          </a:prstGeom>
          <a:noFill/>
          <a:ln w="38160">
            <a:solidFill>
              <a:srgbClr val="1822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155680" y="2187720"/>
            <a:ext cx="1981440" cy="380880"/>
          </a:xfrm>
          <a:prstGeom prst="rect">
            <a:avLst/>
          </a:prstGeom>
          <a:noFill/>
          <a:ln w="38160">
            <a:solidFill>
              <a:srgbClr val="1822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451320" y="2416320"/>
            <a:ext cx="1295280" cy="838080"/>
          </a:xfrm>
          <a:prstGeom prst="line">
            <a:avLst/>
          </a:prstGeom>
          <a:ln w="50760">
            <a:solidFill>
              <a:srgbClr val="1822c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32200" y="2416320"/>
            <a:ext cx="1981080" cy="838080"/>
          </a:xfrm>
          <a:prstGeom prst="line">
            <a:avLst/>
          </a:prstGeom>
          <a:ln w="50760">
            <a:solidFill>
              <a:srgbClr val="1822c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415640" y="12733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415640" y="17305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184880" y="3254400"/>
            <a:ext cx="609840" cy="380880"/>
          </a:xfrm>
          <a:prstGeom prst="rect">
            <a:avLst/>
          </a:prstGeom>
          <a:solidFill>
            <a:srgbClr val="cc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805440" y="32544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404200" y="3254400"/>
            <a:ext cx="609480" cy="380880"/>
          </a:xfrm>
          <a:prstGeom prst="rect">
            <a:avLst/>
          </a:prstGeom>
          <a:solidFill>
            <a:srgbClr val="cc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8024760" y="32544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263360" y="32544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482680" y="32544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714360" y="3678120"/>
            <a:ext cx="181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if (15&gt;20) --&gt; 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79520" y="3559320"/>
            <a:ext cx="1523880" cy="380880"/>
          </a:xfrm>
          <a:prstGeom prst="rect">
            <a:avLst/>
          </a:prstGeom>
          <a:noFill/>
          <a:ln w="38160">
            <a:solidFill>
              <a:srgbClr val="1822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55480" y="4245120"/>
            <a:ext cx="1524240" cy="380880"/>
          </a:xfrm>
          <a:prstGeom prst="rect">
            <a:avLst/>
          </a:prstGeom>
          <a:noFill/>
          <a:ln w="38160">
            <a:solidFill>
              <a:srgbClr val="1822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730200" y="4321080"/>
            <a:ext cx="109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return 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536920" y="2416320"/>
            <a:ext cx="2717640" cy="2057400"/>
          </a:xfrm>
          <a:custGeom>
            <a:avLst/>
            <a:gdLst/>
            <a:ahLst/>
            <a:rect l="l" t="t" r="r" b="b"/>
            <a:pathLst>
              <a:path w="1712" h="1296">
                <a:moveTo>
                  <a:pt x="0" y="1296"/>
                </a:moveTo>
                <a:cubicBezTo>
                  <a:pt x="680" y="1236"/>
                  <a:pt x="1360" y="1176"/>
                  <a:pt x="1536" y="960"/>
                </a:cubicBezTo>
                <a:cubicBezTo>
                  <a:pt x="1712" y="744"/>
                  <a:pt x="1136" y="160"/>
                  <a:pt x="1056" y="0"/>
                </a:cubicBezTo>
              </a:path>
            </a:pathLst>
          </a:custGeom>
          <a:noFill/>
          <a:ln w="50760">
            <a:solidFill>
              <a:srgbClr val="1822cd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413480" y="2187720"/>
            <a:ext cx="609840" cy="380880"/>
          </a:xfrm>
          <a:prstGeom prst="rect">
            <a:avLst/>
          </a:prstGeom>
          <a:solidFill>
            <a:srgbClr val="cc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05800" y="218772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m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491960" y="2187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82480" y="2644920"/>
            <a:ext cx="120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Mayor=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55480" y="2568600"/>
            <a:ext cx="5486400" cy="380880"/>
          </a:xfrm>
          <a:prstGeom prst="rect">
            <a:avLst/>
          </a:prstGeom>
          <a:noFill/>
          <a:ln w="38160">
            <a:solidFill>
              <a:srgbClr val="1822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79520" y="2187720"/>
            <a:ext cx="1666800" cy="380880"/>
          </a:xfrm>
          <a:prstGeom prst="rect">
            <a:avLst/>
          </a:prstGeom>
          <a:noFill/>
          <a:ln w="38160">
            <a:solidFill>
              <a:srgbClr val="1822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500"/>
                            </p:stCondLst>
                            <p:childTnLst>
                              <p:par>
                                <p:cTn id="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3000"/>
                            </p:stCondLst>
                            <p:childTnLst>
                              <p:par>
                                <p:cTn id="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500"/>
                            </p:stCondLst>
                            <p:childTnLst>
                              <p:par>
                                <p:cTn id="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4000"/>
                            </p:stCondLst>
                            <p:childTnLst>
                              <p:par>
                                <p:cTn id="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000"/>
                            </p:stCondLst>
                            <p:childTnLst>
                              <p:par>
                                <p:cTn id="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500"/>
                            </p:stCondLst>
                            <p:childTnLst>
                              <p:par>
                                <p:cTn id="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000"/>
                            </p:stCondLst>
                            <p:childTnLst>
                              <p:par>
                                <p:cTn id="7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500"/>
                            </p:stCondLst>
                            <p:childTnLst>
                              <p:par>
                                <p:cTn id="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2000"/>
                            </p:stCondLst>
                            <p:childTnLst>
                              <p:par>
                                <p:cTn id="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2500"/>
                            </p:stCondLst>
                            <p:childTnLst>
                              <p:par>
                                <p:cTn id="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500"/>
                            </p:stCondLst>
                            <p:childTnLst>
                              <p:par>
                                <p:cTn id="9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000"/>
                            </p:stCondLst>
                            <p:childTnLst>
                              <p:par>
                                <p:cTn id="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500"/>
                            </p:stCondLst>
                            <p:childTnLst>
                              <p:par>
                                <p:cTn id="10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2000"/>
                            </p:stCondLst>
                            <p:childTnLst>
                              <p:par>
                                <p:cTn id="1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2500"/>
                            </p:stCondLst>
                            <p:childTnLst>
                              <p:par>
                                <p:cTn id="10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3000"/>
                            </p:stCondLst>
                            <p:childTnLst>
                              <p:par>
                                <p:cTn id="1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50560" y="115560"/>
            <a:ext cx="871380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22cd"/>
                </a:solidFill>
                <a:latin typeface="Verdana"/>
              </a:rPr>
              <a:t>4. Selección instrucciones (if-else)</a:t>
            </a:r>
            <a:endParaRPr b="1" lang="en-US" sz="32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static public int 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diasMes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(int m,int a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(m==1||m==3||m==5||m==7||m==8||m==10||m==12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return 31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else if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(m==4||m==6||m==8||m==11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return 30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if(m==2)//if(cond simple) sin els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(bisiesto(a)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return 29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return 28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return 0;//mes incorrect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static public 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bisiesto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(int x)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return x%4==0 &amp;&amp; x%100!=0 || x%400==0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22cd"/>
                </a:solidFill>
                <a:latin typeface="Verdana"/>
              </a:rPr>
              <a:t>5. Repetición instrucciones (while)</a:t>
            </a:r>
            <a:endParaRPr b="1" lang="en-US" sz="32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int g=-20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(g&lt;=40)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U.println(g+”ºC=“+(9.0/5.0*g+32)+”ºF”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g=g+5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//patrones de proceso de listas de números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int mayor=0;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int mayor=0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int n=U.readInt(“nº?”);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while(true)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(n!=0){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  int n=U.readInt(“nº?”);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if(n&gt;mayor) mayor=n;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  if(n==0) 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break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n=U.readInt(“nº?”);       mayor=Math.max(mayor,n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}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U.println(“mayor=“+mayor);U.println(“mayor=“+mayor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4T14:27:06Z</dcterms:created>
  <dc:creator>V. Herskovic</dc:creator>
  <dc:description/>
  <dc:language>en-US</dc:language>
  <cp:lastModifiedBy>Valeria Herskovic</cp:lastModifiedBy>
  <cp:lastPrinted>2005-03-11T14:50:06Z</cp:lastPrinted>
  <dcterms:modified xsi:type="dcterms:W3CDTF">2007-04-04T12:24:17Z</dcterms:modified>
  <cp:revision>80</cp:revision>
  <dc:subject/>
  <dc:title>Clase12</dc:title>
</cp:coreProperties>
</file>