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A51-0007-41E4-8EED-6DF830FA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DDD9-FBC8-4364-A474-62DBD544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FF02-808E-40BC-84BB-764466D6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B13-FA81-46DB-953D-F79FBFDE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79D-2FC7-49B3-BDC3-9BEEF263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667-55B0-4A7F-B024-645F7A5B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AF7D-5BCC-4284-9C1F-359F4398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C5BB-2F8F-4211-AACE-6FE27E88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FB5-FEB6-440A-A675-43FDBACA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E75-F6DD-440E-842F-E17C4F46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AB9E-6C3E-4BFA-A09D-AEA0D46A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8BE-7756-4734-AEA1-D4E76B47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8929-A9A7-4E24-9ABE-925A721AFE11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10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Repaso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0661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6. Recursión (Métodos recursivos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y==0) return 1; //caso 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&lt;0) return 1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x,-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double p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x,y/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if(y%2==0) return p*p; else return x*p*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if(x/2==0) U.print(x); //caso 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else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x/2); U.print(x%2)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if(x/2!=0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x/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U.print(x%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7. Operadores Especial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, mayor, numero; int 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 = mayor = n = 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!=0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=”+(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/++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yor=max(n,mayor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mayor=“+mayor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max(double x,double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7. Instrucciones Especial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boolean primo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x%2==0 &amp;&amp; x&gt;2) 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nt i=3,r=(int)Math.sqrt(x) ;  i&lt;=r ; i+=2) //i=3,5,...,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x%i==0) 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diasMes(int m,int a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1:case 3:case 5:case 7:case 8:case 10:case 12:return 31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4:case 6:case 9:case 11: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return 30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case 2: return bisiesto(a) ? 29 : 28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280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8. Cadenas de caracteres(Strings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 x,String y,String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i=z.indexOf(x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i&lt;0)return z; //caso 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9. Archiv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piar archivos contando caracteres y lín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Reader(U.readLine(“input?”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Writer(U.readLine(“output?”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int nl=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nl; nc+=linea.length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1822cd"/>
                </a:solidFill>
                <a:latin typeface="Verdana"/>
              </a:rPr>
              <a:t>¿</a:t>
            </a: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Preguntas?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Control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ectura/escri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sign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petición de instrucciones (whi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peradores/instrucciones especi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Verdana"/>
              </a:rPr>
              <a:t>Control 2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t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rchiv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1. Lectura/Escritur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ircu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Calcular perímetro/área círcul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r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.readDouble(“radio?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“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perímetro=“ + 2*Math.PI*r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área=“ + Math.PI*Math.pow(r,2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2. Instrucción de Asigna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Nºinvertido=” + d3 + d2 + d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f=U.readInt(“Fecha(AAAAMMDD)?“)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Resultado=“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%100 +“/”+ f%10000/100 +“/”+ f/10000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2. Instrucción de Asigna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claración: 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tipo nombr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int a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boolean valor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 1 v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a = 1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a = 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variable tiene nombre ún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 c; c=U.readInt(“Ingrese c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double  c = 15.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ignación: 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mbre = expres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 = 4 * a * c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568c7"/>
                </a:solidFill>
                <a:latin typeface="Courier New"/>
                <a:ea typeface="ＭＳ Ｐゴシック"/>
              </a:rPr>
              <a:t>1+2. 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po nombre = expres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932360" y="2781360"/>
            <a:ext cx="598320" cy="665280"/>
            <a:chOff x="4932360" y="2781360"/>
            <a:chExt cx="598320" cy="665280"/>
          </a:xfrm>
        </p:grpSpPr>
        <p:sp>
          <p:nvSpPr>
            <p:cNvPr id="112" name=""/>
            <p:cNvSpPr/>
            <p:nvPr/>
          </p:nvSpPr>
          <p:spPr>
            <a:xfrm>
              <a:off x="4932360" y="2781360"/>
              <a:ext cx="598320" cy="665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932360" y="2781360"/>
              <a:ext cx="598320" cy="665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77080" y="4076640"/>
            <a:ext cx="598320" cy="665280"/>
            <a:chOff x="6877080" y="4076640"/>
            <a:chExt cx="598320" cy="665280"/>
          </a:xfrm>
        </p:grpSpPr>
        <p:sp>
          <p:nvSpPr>
            <p:cNvPr id="115" name=""/>
            <p:cNvSpPr/>
            <p:nvPr/>
          </p:nvSpPr>
          <p:spPr>
            <a:xfrm>
              <a:off x="6877080" y="4076640"/>
              <a:ext cx="598320" cy="665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877080" y="4076640"/>
              <a:ext cx="598320" cy="665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3. Fun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a=U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,b=U.azar(1,100),c=U.azar(1,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U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inimo(a,b,c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+ " “ + U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(a,b,c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+ " " +U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ximo(a,b,c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U{  //en archivo U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 + (int)(Math.random()*(y-x+1))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in(Math.min(x,y),z)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ax(Math.max(x,y),z)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x+y+z - minimo(x,y,z)-maximo(x,y,z)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Funcion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162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 a = 1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 b = 2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 max = maximo(a,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System.out.println(“Mayor= ”+ma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ublic static int maximo(int x, 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f (x&gt;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0"/>
            <a:ext cx="0" cy="6858000"/>
          </a:xfrm>
          <a:prstGeom prst="line">
            <a:avLst/>
          </a:prstGeom>
          <a:ln w="5076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7520" y="1273320"/>
            <a:ext cx="60948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58440" y="127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37520" y="1730520"/>
            <a:ext cx="60948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58440" y="173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1800" y="1501920"/>
            <a:ext cx="182880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1800" y="1882800"/>
            <a:ext cx="182880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55680" y="2187720"/>
            <a:ext cx="198144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51320" y="2416320"/>
            <a:ext cx="1295280" cy="838080"/>
          </a:xfrm>
          <a:prstGeom prst="line">
            <a:avLst/>
          </a:prstGeom>
          <a:ln w="5076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2200" y="2416320"/>
            <a:ext cx="1981080" cy="838080"/>
          </a:xfrm>
          <a:prstGeom prst="line">
            <a:avLst/>
          </a:prstGeom>
          <a:ln w="5076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15640" y="12733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15640" y="173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84880" y="3254400"/>
            <a:ext cx="60984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05440" y="325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04200" y="3254400"/>
            <a:ext cx="60948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24760" y="325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63360" y="3254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82680" y="3254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14360" y="367812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f (15&gt;20) --&gt;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9520" y="3559320"/>
            <a:ext cx="152388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5480" y="4245120"/>
            <a:ext cx="152424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30200" y="43210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turn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36920" y="2416320"/>
            <a:ext cx="2717640" cy="2057400"/>
          </a:xfrm>
          <a:custGeom>
            <a:avLst/>
            <a:gdLst/>
            <a:ahLst/>
            <a:rect l="l" t="t" r="r" b="b"/>
            <a:pathLst>
              <a:path w="1712" h="1296">
                <a:moveTo>
                  <a:pt x="0" y="1296"/>
                </a:moveTo>
                <a:cubicBezTo>
                  <a:pt x="680" y="1236"/>
                  <a:pt x="1360" y="1176"/>
                  <a:pt x="1536" y="960"/>
                </a:cubicBezTo>
                <a:cubicBezTo>
                  <a:pt x="1712" y="744"/>
                  <a:pt x="1136" y="160"/>
                  <a:pt x="1056" y="0"/>
                </a:cubicBezTo>
              </a:path>
            </a:pathLst>
          </a:custGeom>
          <a:noFill/>
          <a:ln w="50760">
            <a:solidFill>
              <a:srgbClr val="1822c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13480" y="2187720"/>
            <a:ext cx="60984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05800" y="2187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91960" y="2187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82480" y="26449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yor=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5480" y="2568600"/>
            <a:ext cx="548640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9520" y="2187720"/>
            <a:ext cx="166680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4. Selección instrucciones (if-else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nt m,int 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m==4||m==6||m==8||m==1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5. Repetición instrucciones (while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g&lt;=40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atrones de proceso de listas de número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U.println(“mayor=“+may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4-04T12:24:17Z</dcterms:modified>
  <cp:revision>80</cp:revision>
  <dc:subject/>
  <dc:title>Clase12</dc:title>
</cp:coreProperties>
</file>