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4B8-E93A-41C5-80A8-A981DCB3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377-EB34-416F-A0F2-4E091716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78C-3E33-4B49-B8B3-65711C54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3E8-7410-46EA-A9E3-022DE557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089-D3E6-41A6-92B7-1B8B837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65A-6A13-4BF1-B39A-EE8A9EB7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9D5-46BA-47C7-9E34-6B0E2FC9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4BF-4DFB-4811-AF5B-8998A306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5C5-5768-4B4B-9DD4-2F3310EC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9CD-CE9D-404F-9DFE-BFAB9CBB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ACE-6F33-4EFB-9BF6-88A9DCD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4B3-8618-4614-B9DB-ADBB478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F3D9-E5EF-4D15-93E5-ED4D1647EA4D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10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Repas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066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6. Recursión (Métodos recursivo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==0) return 1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x/2==0) U.print(x)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/2); U.print(x%2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if(x/2!=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(x/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7. Operadores Especial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++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,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7. Instrucciones Especial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boolean primo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%2==0 &amp;&amp; x&gt;2)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i=3,r=(int)Math.sqrt(x) ;  i&lt;=r ; i+=2) //i=3,5,...,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%i==0)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diasMes(int m,int a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return 31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case 6:case 9:case 11: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3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case 2: return bisiesto(a) ? 29 : 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280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8. Cadenas de caracteres(String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9. Archiv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¿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Preguntas?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trol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ectura/escri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sign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Verdana"/>
              </a:rPr>
              <a:t>Control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rch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1. Lectura/Escritur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alcular perímetro/área círcul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readDouble(“radio?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2*Math.PI*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Math.PI*Math.pow(r,2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2. Instrucción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Nºinvertido=” + d3 + d2 + d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=U.readInt(“Fecha(AAAAMMDD)?“)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Resultado=“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%100 +“/”+ f%10000/100 +“/”+ f/1000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2. Instrucción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claración: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oolean val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1 v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1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a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variable tiene nombre ún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c; c=U.readInt(“Ingrese c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ouble  c = 15.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ignación: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ombre = expr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 = 4 * a * 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568c7"/>
                </a:solidFill>
                <a:latin typeface="Courier New"/>
                <a:ea typeface="ＭＳ Ｐゴシック"/>
              </a:rPr>
              <a:t>1+2.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ipo nombre = expres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32360" y="2781360"/>
            <a:ext cx="598320" cy="665280"/>
            <a:chOff x="4932360" y="2781360"/>
            <a:chExt cx="598320" cy="665280"/>
          </a:xfrm>
        </p:grpSpPr>
        <p:sp>
          <p:nvSpPr>
            <p:cNvPr id="112" name=""/>
            <p:cNvSpPr/>
            <p:nvPr/>
          </p:nvSpPr>
          <p:spPr>
            <a:xfrm>
              <a:off x="4932360" y="278136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932360" y="278136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77080" y="4076640"/>
            <a:ext cx="598320" cy="665280"/>
            <a:chOff x="6877080" y="4076640"/>
            <a:chExt cx="598320" cy="665280"/>
          </a:xfrm>
        </p:grpSpPr>
        <p:sp>
          <p:nvSpPr>
            <p:cNvPr id="115" name=""/>
            <p:cNvSpPr/>
            <p:nvPr/>
          </p:nvSpPr>
          <p:spPr>
            <a:xfrm>
              <a:off x="6877080" y="407664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877080" y="4076640"/>
              <a:ext cx="598320" cy="665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3. 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=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,b=U.azar(1,100),c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+ " “ + 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 " " +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in(Math.min(x,y)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ath.max(x,y)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+y+z - minimo(x,y,z)-maximo(x,y,z);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a = 1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b = 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 max = maximo(a,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System.out.println(“Mayor= ”+ma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ublic static int maximo(int x, 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f (x&gt;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0"/>
            <a:ext cx="0" cy="6858000"/>
          </a:xfrm>
          <a:prstGeom prst="line">
            <a:avLst/>
          </a:prstGeom>
          <a:ln w="50760">
            <a:solidFill>
              <a:srgbClr val="f06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7520" y="127332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8440" y="127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37520" y="173052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58440" y="173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800" y="1501920"/>
            <a:ext cx="1828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1800" y="1882800"/>
            <a:ext cx="1828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55680" y="2187720"/>
            <a:ext cx="198144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51320" y="2416320"/>
            <a:ext cx="1295280" cy="838080"/>
          </a:xfrm>
          <a:prstGeom prst="line">
            <a:avLst/>
          </a:prstGeom>
          <a:ln w="507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2200" y="2416320"/>
            <a:ext cx="1981080" cy="838080"/>
          </a:xfrm>
          <a:prstGeom prst="line">
            <a:avLst/>
          </a:prstGeom>
          <a:ln w="507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15640" y="1273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15640" y="173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84880" y="3254400"/>
            <a:ext cx="60984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5440" y="32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04200" y="3254400"/>
            <a:ext cx="60948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24760" y="325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3360" y="3254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82680" y="3254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4360" y="36781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f (15&gt;20) --&gt;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9520" y="3559320"/>
            <a:ext cx="152388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5480" y="4245120"/>
            <a:ext cx="152424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0200" y="432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turn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6920" y="2416320"/>
            <a:ext cx="2717640" cy="2057400"/>
          </a:xfrm>
          <a:custGeom>
            <a:avLst/>
            <a:gdLst/>
            <a:ahLst/>
            <a:rect l="l" t="t" r="r" b="b"/>
            <a:pathLst>
              <a:path w="1712" h="1296">
                <a:moveTo>
                  <a:pt x="0" y="1296"/>
                </a:moveTo>
                <a:cubicBezTo>
                  <a:pt x="680" y="1236"/>
                  <a:pt x="1360" y="1176"/>
                  <a:pt x="1536" y="960"/>
                </a:cubicBezTo>
                <a:cubicBezTo>
                  <a:pt x="1712" y="744"/>
                  <a:pt x="1136" y="160"/>
                  <a:pt x="1056" y="0"/>
                </a:cubicBezTo>
              </a:path>
            </a:pathLst>
          </a:custGeom>
          <a:noFill/>
          <a:ln w="50760">
            <a:solidFill>
              <a:srgbClr val="1822c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13480" y="2187720"/>
            <a:ext cx="60984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05800" y="2187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91960" y="218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2480" y="26449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=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5480" y="2568600"/>
            <a:ext cx="54864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9520" y="2187720"/>
            <a:ext cx="1666800" cy="380880"/>
          </a:xfrm>
          <a:prstGeom prst="rect">
            <a:avLst/>
          </a:prstGeom>
          <a:noFill/>
          <a:ln w="3816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4. Selección instrucciones (if-else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m,int 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4||m==6||m==8||m==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5. Repetición instrucciones (while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atrones de proceso de listas de númer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U.println(“mayor=“+may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04T12:24:17Z</dcterms:modified>
  <cp:revision>80</cp:revision>
  <dc:subject/>
  <dc:title>Clase12</dc:title>
</cp:coreProperties>
</file>