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99E-320C-4370-9C73-96A8B5D0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0977-A7D4-4D9A-8F8F-9E97D724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ED1-DB3B-4A0F-949F-42E5A271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C37-4851-417B-852D-C440959E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1F1-69E0-4045-8D5A-070EFC45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FCB-798C-4DEC-A541-1272305D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3F2-1C14-4505-8465-8743217D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2D5-EFAC-4A6D-9BD6-DB1F8138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BFC-3409-403B-B470-27482A17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216-6E0D-4AF6-A062-1BB55678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FFA-71B7-4552-BD7B-A06EF205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020-8AC4-4E3C-A16E-38F5FB25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AC9C-E68B-4C5B-B261-28BEF5E56F56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9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Archivo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ndo “expresión idiomática” para leer hasta el final del arch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LeerArchivo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edReader a = 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FileReader(“archivo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(linea=a.readLine())!=nul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BufferedReader a=new BufferedReader(...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: objeto de clase BufferedReader que representa al arch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bre” (prepara, inicializa) archivo para lec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88720" indent="-36576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rchivo no existe,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88720" indent="-36576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existe, ubica el cursor al comienzo del arch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ierra” el arch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se omite, se cierra al terminar progr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799"/>
              </a:spcBef>
              <a:buClr>
                <a:srgbClr val="3568c7"/>
              </a:buClr>
              <a:buFont typeface="Courier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a.readLine(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1160" indent="-490680">
              <a:lnSpc>
                <a:spcPct val="8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e una línea del arch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08880" indent="-4204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trega un string con los caracteres de la lín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08880" indent="-4204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vanza cursor al comienzo de la línea sigu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readLine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ee (y entrega) una línea  del archivo en disc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hola como estás\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^ (cursor de archiv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si detecta fin del archivo, es decir, si trata de leer cuando el cursor está apuntando a la marca de fin de archivo, entonces entrega el valor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(no el string “null” ni el string “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3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piar un archivo en otro, obteniendo del usuario los nombres de los arch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tring arch1 = U.readLine(“input?”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tring arch2 = U.readLine(“output?”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new FileReader(arch1)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PrintWriter b=new PrintWriter(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new FileWriter(arch2)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while((linea=a.readLine())!=null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.println(linea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.close()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4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ostrar las líneas (numeradas) de un archivo que contengan un st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new FileReader(U.readLine(“archivo?”)))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String linea, s=U.readLine(“string?”)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for(int n=1;(linea=a.readLine())!=null; ++n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if(linea.indexOf(s)&gt;=0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U.println(“línea nº”+n+”:”+linea)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rcici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vidir el archivo “CC1001.txt”, que contiene la lista alfabética de los alumnos de la sección, en dos mitades que deben grabarse en los archivos “CC1001A.txt” y “CC10001B.txt”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 el archivo tiene una cantidad impar de líneas, entonces la primera mitad debe contener una línea más que la segunda mit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ndicació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Realice dos recorridos del archiv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primero para contar el número de lín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gundo para separar en dos arch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ontar número de lín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FileReader(“CC1001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=a.read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linea==null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=n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revia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FileReader(“CC1001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//para visibilidad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espués de f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n=0; a.readLine()!=null; ++n);//o{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separar en dos mit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Writ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=new PrintWriter(new FileWriter(“CC1001A.txt”)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=new PrintWriter(new FileWriter(“CC1001B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new BufferedReader(new FileReader(“CC1001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n; ++i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=a.read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i &lt;= (n+1)/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close(); c.close(); 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revian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n; ++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&lt;=(n+1)/2 ? b : c).println(a.readLin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.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//separar en dos mitades (solución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new BufferedReader(newFileReader(“CC1001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opiar primera mit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Writ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=new PrintWriter(new FileWriter(“CC1001A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(n+1)/2; ++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println(a.readLin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opiar segunda mit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=new PrintWriter(new FileWriter(“CC1001B.txt”)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n/2; ++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println(a.readLin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Lectura (desde teclado)  y escritura (en pantalla)</a:t>
            </a:r>
            <a:r>
              <a:rPr b="0" lang="es-ES_tradnl" sz="3200" spc="-1" strike="noStrike">
                <a:solidFill>
                  <a:srgbClr val="1822cd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s de us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 = U.readLine(“string?”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   i = U.readInt(“Nºentero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d = U.readDouble(“Nº real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har   c = U.readChar(“caracter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s+“ “+i+“ “+d+“ “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mostrar arch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w FileReader(U.readLine(“archivo?”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s=a.readLine())!=nul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(antes de empezar…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y: silenci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2.00-14.00 Clase auxili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eves 14.30 Hora de Consult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recc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: fun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endaciones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rea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1822cd"/>
                </a:solidFill>
                <a:latin typeface="Verdana"/>
              </a:rPr>
              <a:t>Métodos para leer strings, números y caracteres desde el teclado</a:t>
            </a:r>
            <a:endParaRPr b="1" lang="en-US" sz="19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class 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ufferedRea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clad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w BufferedReader(new InputStreamReader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Lin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(x); return teclado.read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Integer.parseInt(readLine(x));//String a i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Double.parseDouble(readLine(x));//String a dou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Cha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readLine(x).charAt(0);//primer carac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{System.out.print(x)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{System.out.println(x)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.. //otros métodos útiles desarrollados en CC1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Archivos en disco: motiva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25360"/>
          <a:ext cx="8229600" cy="4970520"/>
        </p:xfrm>
        <a:graphic>
          <a:graphicData uri="http://schemas.openxmlformats.org/drawingml/2006/table">
            <a:tbl>
              <a:tblPr/>
              <a:tblGrid>
                <a:gridCol w="2163600"/>
                <a:gridCol w="2745000"/>
                <a:gridCol w="3321000"/>
              </a:tblGrid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(R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 de mem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látil (contenido se pier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anente (contenido se mantie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lo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ápid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6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t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empo acce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ante (a cualquier lug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 (depende de cercanía a cabez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ato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0 veces 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a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ada (máx 4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or (máx 500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eer líneas que terminan con la palabra “fin” y grabarlas en un archivo en disco de nombre “archivo.txt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rearArchivo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Writer a=new PrintWrit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Writer(“archivo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=U.readLine(“linea(o fin)?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linea.equals(“fin”) 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serta (deja disponibles) clases predefinidas para leer y escribir arch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00960" indent="-3697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ases PrintWriter y FileWriter para escribir arch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960" indent="-3697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ases BufferedReader y FileReader para leer arch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dica que si se produce una excepción (“error”) de lectura/escritura (falla al leer o escribir), se muestra un mensaje y se aborta (termina) el progr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PrintWriter a=new PrintWriter(...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: objeto en memoria de clase PrintWriter que representa al archivo (y contiene sus principales características: ubicación, tamaño, cursor,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rchivo.txt”: nombre externo del archivo (en el disc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61440" indent="-43884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sufijo .txt se usa para archivos que contienen texto (caracter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bre” (prepara, inicializa) archivo para 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61440" indent="-43884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rchivo no existe, se crea, y si ya existe, se regra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1440" indent="-43884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bica el cursor del archivo al comienzo del espacio asignado (para grabación de inform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.println(line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e (graba) una línea en el arch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aba caracteres del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aba una marca de fin de línea (carácter espe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newlin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o \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bica cursor después de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new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.println(“hola como estás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e en el archivo en disc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hola como estás\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^ (cursor de archiv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print: método que sólo graba caracteres (y no newli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Courier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ierra” el arch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graba marca de fin de archivo (eo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ibera recursos (memoria) asociada al objeto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bjeto a queda indefin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.println(“chao”); a.close(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chao\n</a:t>
            </a: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Courier New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 :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marca de fin de archivo (distinta a cualquier carácte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ostrar el archivo “archivo.tx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LeerArchivo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Reader a = 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Reader(“archivo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read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linea==null 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4-02T12:04:27Z</dcterms:modified>
  <cp:revision>85</cp:revision>
  <dc:subject/>
  <dc:title>Clase12</dc:title>
</cp:coreProperties>
</file>