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4CC-05F0-4961-BA22-FEEEF37B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477-D99F-4E3B-8E9D-7DED3EBC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1A7-2D64-424B-BCA4-F510A680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7F2-FEA0-4215-B447-2BA9CDAA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00A-2D28-4B0F-A158-91B71988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8A7-EF14-4ABF-A9FD-20F78D25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AC6-F3BB-483D-B4A4-3A5352E0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615-64F1-44B1-B205-AA30B4C5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577-2168-4747-8C02-5EB184AB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AFC-FF11-4703-96C9-EBB6990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7B1-7939-4C74-B092-043F120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56C-8743-45AF-B083-D6D584F5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813E-6243-467C-9189-F704B6FAE902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9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Archiv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ndo “expresión idiomática” para leer hasta el final del arch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Lee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 = 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(linea=a.readLine())!=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BufferedReader a=new BufferedReader(..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: objeto de clase BufferedReader que representa a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bre” (prepara, inicializa) archivo para lec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88720" indent="-36576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rchivo no existe,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8720" indent="-36576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existe, ubica el cursor al comienzo del arch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ierra” e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se omite, se cierra al terminar progr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99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a.readLine(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e una línea del arch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08880" indent="-420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trega un string con los caracteres de la lí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8880" indent="-420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vanza cursor al comienzo de la línea sigu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readLin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ee (y entrega) una línea  del archivo en disc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hola como estás\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^ (cursor de archiv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si detecta fin del archivo, es decir, si trata de leer cuando el cursor está apuntando a la marca de fin de archivo, entonces entrega el valor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(no el string “null” ni el string “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piar un archivo en otro, obteniendo del usuario los nombres de los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arch1 = U.readLine(“input?”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arch2 = U.readLine(“output?”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ew FileReader(arch1)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PrintWriter b=new PrintWriter(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ew FileWriter(arch2)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while((linea=a.readLine())!=nul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.println(linea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.close()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4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ostrar las líneas (numeradas) de un archivo que contengan un st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new FileReader(U.readLine(“archivo?”))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String linea, s=U.readLine(“string?”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for(int n=1;(linea=a.readLine())!=null; ++n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f(linea.indexOf(s)&gt;=0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U.println(“línea nº”+n+”:”+linea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vidir el archivo “CC1001.txt”, que contiene la lista alfabética de los alumnos de la sección, en dos mitades que deben grabarse en los archivos “CC1001A.txt” y “CC10001B.txt”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 el archivo tiene una cantidad impar de líneas, entonces la primera mitad debe contener una línea más que la segunda mit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ndicació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Realice dos recorridos del archiv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primero para contar el número de lín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gundo para separar en dos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ntar número de lí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a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linea==null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=n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revia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//para visibilidad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espués de 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n=0; a.readLine()!=null; ++n);//o{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separar en dos mit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A.txt”)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=new PrintWriter(new FileWriter(“CC1001B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new BufferedReader(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; ++i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a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i &lt;= (n+1)/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 c.close(); 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revia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&lt;=(n+1)/2 ? b : c)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//separar en dos mitades (solución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new BufferedReader(new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piar primera mi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A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(n+1)/2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piar segunda mi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B.txt”)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/2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Lectura (desde teclado)  y escritura (en pantalla)</a:t>
            </a:r>
            <a:r>
              <a:rPr b="0" lang="es-ES_tradnl" sz="3200" spc="-1" strike="noStrike">
                <a:solidFill>
                  <a:srgbClr val="1822c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s de u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U.readLine(“string?”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   i = U.readInt(“Nºenter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d = U.readDouble(“Nº real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  c = U.readChar(“caracter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s+“ “+i+“ “+d+“ “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mostrar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 FileReader(U.readLine(“archivo?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s=a.readLine())!=nul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(antes de empezar…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y: silenci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2.00-14.00 Clase auxili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eves 14.30 Hora de Consult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c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: fun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endaciones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rea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1822cd"/>
                </a:solidFill>
                <a:latin typeface="Verdana"/>
              </a:rPr>
              <a:t>Métodos para leer strings, números y caracteres desde el teclado</a:t>
            </a:r>
            <a:endParaRPr b="1" lang="en-US" sz="19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class 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ufferedRea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clad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BufferedReader(new InputStreamReader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(x); return teclado.read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teger.parseInt(readLine(x));//String a i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Double.parseDouble(readLine(x));//String a dou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h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eadLine(x).charAt(0);//primer carac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System.out.print(x)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System.out.println(x)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.. //otros métodos útiles desarrollados en CC1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rchivos en disco: motiv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2536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745000"/>
                <a:gridCol w="33210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látil 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anente 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e 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 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0 veces 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ada (máx 4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or (máx 5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er líneas que terminan con la palabra “fin” y grabarlas en un archivo en disco de nombre “archivo.txt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rea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a=new PrintWrit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Writ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U.readLine(“linea(o fin)?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linea.equals(“fin”) 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erta (deja disponibles) clases predefinidas para leer y escribir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0960" indent="-3697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ases PrintWriter y FileWriter para escribir arch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960" indent="-3697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ases BufferedReader y FileReader para leer arch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dica que si se produce una excepción (“error”) de lectura/escritura (falla al leer o escribir), se muestra un mensaje y se aborta (termina) el progr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rintWriter a=new PrintWriter(..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: objeto en memoria de clase PrintWriter que representa al archivo (y contiene sus principales características: ubicación, tamaño, cursor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rchivo.txt”: nombre externo del archivo (en el disc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sufijo .txt se usa para archivos que contienen texto (caracter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bre” (prepara, inicializa) archivo para 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rchivo no existe, se crea, y si ya existe, se regr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bica el cursor del archivo al comienzo del espacio asignado (para grabación de 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.println(line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e (graba) una línea en e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ba caracteres del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ba una marca de fin de línea (carácter espe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newlin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o \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bica cursor después de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new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.println(“hola como estás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e en el archivo en disc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hola como estás\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^ (cursor de archiv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print: método que sólo graba caracteres (y no newli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ierra” el arch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ba marca de fin de archivo (eo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bera recursos (memoria) asociada al objeto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bjeto a queda indefin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println(“chao”); a.close(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chao\n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 :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marca de fin de archivo (distinta a cualquier carácte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ostrar el archivo “archivo.tx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Lee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Reader a = 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Read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read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linea==null 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02T12:04:27Z</dcterms:modified>
  <cp:revision>85</cp:revision>
  <dc:subject/>
  <dc:title>Clase12</dc:title>
</cp:coreProperties>
</file>