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A80-FE4A-485F-A45E-8CF16231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377-9BE9-4119-A778-C2F6A47D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D44-D091-4C9A-8A4D-B0F150F0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5783-1429-4F54-AFEA-70A5143F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50C-6DBC-4936-9A7C-B38B5413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32560"/>
            <a:ext cx="264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DFB-BDB9-45EF-A83E-AC16F68F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448-E122-431A-ACAF-10B697BB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8F2-8BD5-4DE6-8097-5AE31BC3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649-9D3A-4549-BB88-0ED5E5EB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73B-22A9-4550-B5EA-AFA16C1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25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315-BDF1-406C-BE20-71C9F8B9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2560"/>
            <a:ext cx="82296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EDA2-9927-47AE-BFF0-771F73EA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FEB3-3372-43B1-B3F6-BCEA850B6303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9: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Archiv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514840"/>
            <a:ext cx="8137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ndo “expresión idiomática” para leer hasta el final del arch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Lee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 = 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((linea=a.readLine())!=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BufferedReader a=new BufferedReader(..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: objeto de clase BufferedReader que representa a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bre” (prepara, inicializa) archivo para lec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88720" indent="-36576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rchivo no existe,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88720" indent="-36576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existe, ubica el cursor al comienzo del arch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ierra” e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77680" indent="-438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se omite, se cierra al terminar progr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99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a.readLine(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ee una línea del arch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08880" indent="-420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trega un string con los caracteres de la lín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8880" indent="-420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vanza cursor al comienzo de la línea sigu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readLin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ee (y entrega) una línea  del archivo en disc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hola como estás\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^ (cursor de archiv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si detecta fin del archivo, es decir, si trata de leer cuando el cursor está apuntando a la marca de fin de archivo, entonces entrega el valor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(no el string “null” ni el string “”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3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piar un archivo en otro, obteniendo del usuario los nombres de los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arch1 = U.readLine(“input?”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arch2 = U.readLine(“output?”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ew FileReader(arch1)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PrintWriter b=new PrintWriter(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new FileWriter(arch2)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while((linea=a.readLine())!=nul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.println(linea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b.close()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4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Mostrar las líneas (numeradas) de un archivo que contengan un st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new FileReader(U.readLine(“archivo?”))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String linea, s=U.readLine(“string?”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for(int n=1;(linea=a.readLine())!=null; ++n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if(linea.indexOf(s)&gt;=0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U.println(“línea nº”+n+”:”+linea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vidir el archivo “CC1001.txt”, que contiene la lista alfabética de los alumnos de la sección, en dos mitades que deben grabarse en los archivos “CC1001A.txt” y “CC10001B.txt”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 el archivo tiene una cantidad impar de líneas, entonces la primera mitad debe contener una línea más que la segunda mit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ndicació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Realice dos recorridos del archiv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primero para contar el número de lín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gundo para separar en dos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ntar número de líne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a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linea==null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=n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revia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;//para visibilidad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espués de f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n=0; a.readLine()!=null; ++n);//o{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separar en dos mita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A.txt”)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=new PrintWriter(new FileWriter(“CC1001B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new BufferedReader(new 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; ++i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a.readLin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i &lt;= (n+1)/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 c.close(); 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reviand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&lt;=(n+1)/2 ? b : c)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//separar en dos mitades (solución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=new BufferedReader(newFileReader(“CC1001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piar primera mi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Writ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A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(n+1)/2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copiar segunda mit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=new PrintWriter(new FileWriter(“CC1001B.txt”)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(int i=1; i&lt;=n/2; ++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println(a.readLine(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822cd"/>
                </a:solidFill>
                <a:latin typeface="Verdana"/>
              </a:rPr>
              <a:t>Lectura (desde teclado)  y escritura (en pantalla)</a:t>
            </a:r>
            <a:r>
              <a:rPr b="0" lang="es-ES_tradnl" sz="3200" spc="-1" strike="noStrike">
                <a:solidFill>
                  <a:srgbClr val="1822cd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s de us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 = U.readLine(“string?”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   i = U.readInt(“Nºenter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d = U.readDouble(“Nº real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har   c = U.readChar(“caracter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s+“ “+i+“ “+d+“ “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mostrar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fferedReader a=new BufferedReader(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 FileReader(U.readLine(“archivo?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s=a.readLine())!=nul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s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(antes de empezar…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y: silenci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2.00-14.00 Clase auxili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eves 14.30 Hora de Consult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recc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: funcio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endaciones contr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rea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1822cd"/>
                </a:solidFill>
                <a:latin typeface="Verdana"/>
              </a:rPr>
              <a:t>Métodos para leer strings, números y caracteres desde el teclado</a:t>
            </a:r>
            <a:endParaRPr b="1" lang="en-US" sz="19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urier New"/>
              </a:rPr>
              <a:t>class 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ufferedRead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clad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BufferedReader(new InputStreamReader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Lin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(x); return teclado.readLine(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Integer.parseInt(readLine(x));//String a i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Doub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Double.parseDouble(readLine(x));//String a dou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Ch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readLine(x).charAt(0);//primer carac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System.out.print(x)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 x){System.out.println(x);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... //otros métodos útiles desarrollados en CC1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Archivos en disco: motivació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25360"/>
          <a:ext cx="8229600" cy="4970520"/>
        </p:xfrm>
        <a:graphic>
          <a:graphicData uri="http://schemas.openxmlformats.org/drawingml/2006/table">
            <a:tbl>
              <a:tblPr/>
              <a:tblGrid>
                <a:gridCol w="2163600"/>
                <a:gridCol w="2745000"/>
                <a:gridCol w="3321000"/>
              </a:tblGrid>
              <a:tr h="7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(R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de mem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látil (contenido se pier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anente (contenido se mantie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lo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ápid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6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ta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</a:t>
                      </a:r>
                      <a:r>
                        <a:rPr b="0" lang="es-ES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-3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eg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empo acce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e (a cualquier lug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 (depende de cercanía a cabez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ato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~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0 veces 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ada (máx 4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or (máx 500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1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er líneas que terminan con la palabra “fin” y grabarlas en un archivo en disco de nombre “archivo.txt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Crea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Writer a=new PrintWrit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Writ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=U.readLine(“linea(o fin)?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linea.equals(“fin”) 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serta (deja disponibles) clases predefinidas para leer y escribir archiv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0960" indent="-3697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ases PrintWriter y FileWriter para escribir arch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00960" indent="-36972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ases BufferedReader y FileReader para leer archiv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dica que si se produce una excepción (“error”) de lectura/escritura (falla al leer o escribir), se muestra un mensaje y se aborta (termina) el progra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PrintWriter a=new PrintWriter(...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: objeto en memoria de clase PrintWriter que representa al archivo (y contiene sus principales características: ubicación, tamaño, cursor,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rchivo.txt”: nombre externo del archivo (en el disc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sufijo .txt se usa para archivos que contienen texto (caracter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9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bre” (prepara, inicializa) archivo para 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rchivo no existe, se crea, y si ya existe, se regr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61440" indent="-438840">
              <a:lnSpc>
                <a:spcPct val="9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bica el cursor del archivo al comienzo del espacio asignado (para grabación de inform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3568c7"/>
              </a:buClr>
              <a:buFont typeface="Courier New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urier New"/>
              </a:rPr>
              <a:t>a.println(line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ribe (graba) una línea en el arch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ba caracteres del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ba una marca de fin de línea (carácter especia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newlin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o \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bica cursor después de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new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a.println(“hola como estás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e en el archivo en disc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hola como estás\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^ (cursor de archiv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print: método que sólo graba caracteres (y no newli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Courier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70560" indent="-52272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ierra” el arch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ba marca de fin de archivo (eo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bera recursos (memoria) asociada al objeto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87720" indent="-44784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bjeto a queda indefin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println(“chao”); a.close(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</a:rPr>
              <a:t>chao\n</a:t>
            </a: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Courier New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0000"/>
                </a:solidFill>
                <a:uFillTx/>
                <a:latin typeface="Verdana"/>
              </a:rPr>
              <a:t>X</a:t>
            </a:r>
            <a:r>
              <a:rPr b="0" i="1" lang="es-ES_tradnl" sz="3200" spc="-1" strike="noStrike">
                <a:solidFill>
                  <a:srgbClr val="000000"/>
                </a:solidFill>
                <a:latin typeface="Verdana"/>
              </a:rPr>
              <a:t> :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marca de fin de archivo (distinta a cualquier carácter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 2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ostrar el archivo “archivo.tx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LeerArchivo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Reader a = new BufferedReader(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Reader(“archivo.txt”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line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readLin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linea==null ) 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line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a.clos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4-02T12:04:27Z</dcterms:modified>
  <cp:revision>85</cp:revision>
  <dc:subject/>
  <dc:title>Clase12</dc:title>
</cp:coreProperties>
</file>