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8EE0-11E5-4753-A185-6B148AD2A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8325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1EFB-20AF-4DF2-ABD3-BBF3113A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9884-9497-41DD-AEB7-03C4063D8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312A-F050-4AED-A330-7C275794E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9573-CC96-4D2A-A44F-E8B9C25C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8325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894A-15AE-407E-8BA1-A30B33E1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F552-8B6C-4D41-A4D9-9DB054E5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E237-ACE6-43AB-AE58-AFB83DC0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1F75-5C13-44E8-929A-9CEEE2D4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AEEF-7C68-479E-A0FA-49642664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A456-8929-4386-9A07-4C80EC98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58FF-4382-43EA-BD54-8212E554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CFB1-82AA-43EF-83E1-128407C23DDE}" type="slidenum">
              <a: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125000"/>
            <a:chOff x="0" y="0"/>
            <a:chExt cx="9144000" cy="1125000"/>
          </a:xfrm>
        </p:grpSpPr>
        <p:grpSp>
          <p:nvGrpSpPr>
            <p:cNvPr id="6" name=""/>
            <p:cNvGrpSpPr/>
            <p:nvPr/>
          </p:nvGrpSpPr>
          <p:grpSpPr>
            <a:xfrm>
              <a:off x="6480" y="783000"/>
              <a:ext cx="9137520" cy="244080"/>
              <a:chOff x="6480" y="783000"/>
              <a:chExt cx="9137520" cy="24408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796680"/>
                <a:ext cx="9137520" cy="5940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857160"/>
                <a:ext cx="9137520" cy="14400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783000"/>
                <a:ext cx="9137520" cy="1476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99792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85248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783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027440"/>
              <a:ext cx="9140760" cy="9756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760320"/>
              <a:ext cx="9139320" cy="47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6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07720" y="1868040"/>
            <a:ext cx="7140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Clase 9:</a:t>
            </a:r>
            <a:br>
              <a:rPr sz="4000"/>
            </a:b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Archivos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5514840"/>
            <a:ext cx="8137800" cy="13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aleria Herskovic – vherskov@dcc.uchile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C1001 Computación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 2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sando “expresión idiomática” para leer hasta el final del arch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LeerArchivo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void main(String[]arg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ows IOExce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fferedReader a = new BufferedReader(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 FileReader(“archivo.txt”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line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((linea=a.readLine())!=nul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linea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.clos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Explicacione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BufferedReader a=new BufferedReader(...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77680" indent="-438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: objeto de clase BufferedReader que representa al archi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77680" indent="-438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bre” (prepara, inicializa) archivo para lect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88720" indent="-36576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rchivo no existe, abor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88720" indent="-36576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existe, ubica el cursor al comienzo del arch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920" indent="-51192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77680" indent="-438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ierra” el archi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77680" indent="-438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 se omite, se cierra al terminar progra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Explicacione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799"/>
              </a:spcBef>
              <a:buClr>
                <a:srgbClr val="3568c7"/>
              </a:buClr>
              <a:buFont typeface="Courier Ne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urier New"/>
              </a:rPr>
              <a:t>a.readLine(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11160" indent="-490680">
              <a:lnSpc>
                <a:spcPct val="8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ee una línea del archiv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208880" indent="-4204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trega un string con los caracteres de la líne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08880" indent="-4204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vanza cursor al comienzo de la línea siguien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.readLine(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ee (y entrega) una línea  del archivo en disc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hola como estás\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^ (cursor de archiv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 si detecta fin del archivo, es decir, si trata de leer cuando el cursor está apuntando a la marca de fin de archivo, entonces entrega el valor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(no el string “null” ni el string “”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blema 3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piar un archivo en otro, obteniendo del usuario los nombres de los archiv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String arch1 = U.readLine(“input?”)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String arch2 = U.readLine(“output?”)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BufferedReader a=new BufferedReader(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new FileReader(arch1))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PrintWriter b=new PrintWriter(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new FileWriter(arch2))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String linea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while((linea=a.readLine())!=null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b.println(linea)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b.close()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a.close()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blema 4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9647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Mostrar las líneas (numeradas) de un archivo que contengan un str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</a:rPr>
              <a:t>BufferedReader a=new BufferedReader(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</a:rPr>
              <a:t>new FileReader(U.readLine(“archivo?”)));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</a:rPr>
              <a:t>String linea, s=U.readLine(“string?”);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</a:rPr>
              <a:t>for(int n=1;(linea=a.readLine())!=null; ++n)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</a:rPr>
              <a:t>if(linea.indexOf(s)&gt;=0)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700" spc="-1" strike="noStrike">
                <a:solidFill>
                  <a:srgbClr val="000000"/>
                </a:solidFill>
                <a:latin typeface="Courier New"/>
              </a:rPr>
              <a:t>U.println(“línea nº”+n+”:”+linea);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</a:rPr>
              <a:t>a.close();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Ejercicio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ividir el archivo “CC1001.txt”, que contiene la lista alfabética de los alumnos de la sección, en dos mitades que deben grabarse en los archivos “CC1001A.txt” y “CC10001B.txt”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 el archivo tiene una cantidad impar de líneas, entonces la primera mitad debe contener una línea más que la segunda mita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Indicació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Realice dos recorridos del archiv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l primero para contar el número de líne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l segundo para separar en dos archiv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contar número de líne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fferedReader a=new BufferedReader(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 FileReader(“CC1001.txt”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linea=a.readLin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linea==null)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=n+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.clos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brevian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fferedReader a=new BufferedReader(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 FileReader(“CC1001.txt”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;//para visibilidad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después de f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(n=0; a.readLine()!=null; ++n);//o{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a.clos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separar en dos mitad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Writ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=new PrintWriter(new FileWriter(“CC1001A.txt”)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=new PrintWriter(new FileWriter(“CC1001B.txt”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=new BufferedReader(new FileReader(“CC1001.txt”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(int i=1; i&lt;=n; ++i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linea=a.readLin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i &lt;= (n+1)/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.println(linea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.println(linea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.close(); c.close(); a.clos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breviand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(int i=1; i&lt;=n; ++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&lt;=(n+1)/2 ? b : c).println(a.readLine(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. 2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//separar en dos mitades (solución 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=new BufferedReader(newFileReader(“CC1001.txt”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copiar primera mit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Writ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=new PrintWriter(new FileWriter(“CC1001A.txt”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(int i=1; i&lt;=(n+1)/2; ++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.println(a.readLine(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.clos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copiar segunda mit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=new PrintWriter(new FileWriter(“CC1001B.txt”)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(int i=1; i&lt;=n/2; ++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.println(a.readLine(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.clos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a.clos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822cd"/>
                </a:solidFill>
                <a:latin typeface="Verdana"/>
              </a:rPr>
              <a:t>Lectura (desde teclado)  y escritura (en pantalla)</a:t>
            </a:r>
            <a:r>
              <a:rPr b="0" lang="es-ES_tradnl" sz="3200" spc="-1" strike="noStrike">
                <a:solidFill>
                  <a:srgbClr val="1822cd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jemplos de us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s = U.readLine(“string?”)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   i = U.readInt(“Nºentero?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d = U.readDouble(“Nº real?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har   c = U.readChar(“caracter?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s+“ “+i+“ “+d+“ “+c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mostrar archi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ufferedReader a=new BufferedReader(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w FileReader(U.readLine(“archivo?”)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(s=a.readLine())!=nul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s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.close(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(antes de empezar…)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y: silencio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2.00-14.00 Clase auxili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Jueves 14.30 Hora de Consult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rrecci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: funcio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 contro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endaciones contro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rea 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1822cd"/>
                </a:solidFill>
                <a:latin typeface="Verdana"/>
              </a:rPr>
              <a:t>Métodos para leer strings, números y caracteres desde el teclado</a:t>
            </a:r>
            <a:endParaRPr b="1" lang="en-US" sz="19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class U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BufferedReade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clado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w BufferedReader(new InputStreamReader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Lin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String x)throws IOException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(x); return teclado.readLine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String x)throws IOException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Integer.parseInt(readLine(x));//String a i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public 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Doub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String x)throws IOException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Double.parseDouble(readLine(x));//String a doub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public cha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Cha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String x)throws IOException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readLine(x).charAt(0);//primer carac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String x){System.out.print(x);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String x){System.out.println(x);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... //otros métodos útiles desarrollados en CC100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Archivos en disco: motivación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125360"/>
          <a:ext cx="8229600" cy="4970520"/>
        </p:xfrm>
        <a:graphic>
          <a:graphicData uri="http://schemas.openxmlformats.org/drawingml/2006/table">
            <a:tbl>
              <a:tblPr/>
              <a:tblGrid>
                <a:gridCol w="2163600"/>
                <a:gridCol w="2745000"/>
                <a:gridCol w="3321000"/>
              </a:tblGrid>
              <a:tr h="72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moria (RA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po de memo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látil (contenido se pierd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manente (contenido se mantie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loc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ápida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~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r>
                        <a:rPr b="0" lang="es-ES" sz="20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-6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seg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nta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~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10</a:t>
                      </a:r>
                      <a:r>
                        <a:rPr b="0" lang="es-ES" sz="20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-3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seg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empo acce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stante (a cualquier lug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able (depende de cercanía a cabeza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rato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~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100 veces -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pac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mitada (máx 4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yor (máx 500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blema 1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eer líneas que terminan con la palabra “fin” y grabarlas en un archivo en disco de nombre “archivo.txt”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rearArchivo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void main(String[]arg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rows IOExce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Writer a=new PrintWriter(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FileWriter(“archivo.txt”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linea=U.readLine(“linea(o fin)?“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 linea.equals(“fin”) )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.println(linea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.clos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Explicacione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86680" indent="-44316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serta (deja disponibles) clases predefinidas para leer y escribir archiv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00960" indent="-36972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lases PrintWriter y FileWriter para escribir archiv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00960" indent="-36972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lases BufferedReader y FileReader para leer archiv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7320" indent="-51732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throws IOExcep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86680" indent="-44316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dica que si se produce una excepción (“error”) de lectura/escritura (falla al leer o escribir), se muestra un mensaje y se aborta (termina) el progra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Explicacione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Courier Ne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PrintWriter a=new PrintWriter(...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50760" indent="-51192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: objeto en memoria de clase PrintWriter que representa al archivo (y contiene sus principales características: ubicación, tamaño, cursor, et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50760" indent="-51192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rchivo.txt”: nombre externo del archivo (en el disco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61440" indent="-43884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sufijo .txt se usa para archivos que contienen texto (caracter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50760" indent="-51192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bre” (prepara, inicializa) archivo para escrit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61440" indent="-43884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rchivo no existe, se crea, y si ya existe, se regrab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1440" indent="-43884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bica el cursor del archivo al comienzo del espacio asignado (para grabación de informació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Explicacione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Courier Ne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a.println(line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70560" indent="-52272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ribe (graba) una línea en el archi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87720" indent="-44784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raba caracteres del st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87720" indent="-44784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raba una marca de fin de línea (carácter especial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newline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o \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87720" indent="-44784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bica cursor después de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new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a.println(“hola como estás”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ribe en el archivo en disc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hola como estás\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^ (cursor de archiv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print: método que sólo graba caracteres (y no newlin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Explicacione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Courier Ne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70560" indent="-52272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ierra” el archiv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287720" indent="-44784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graba marca de fin de archivo (eof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87720" indent="-44784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ibera recursos (memoria) asociada al objeto 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87720" indent="-44784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objeto a queda indefini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.println(“chao”); a.close()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0" lang="es-ES_tradnl" sz="3200" spc="-1" strike="noStrike">
                <a:solidFill>
                  <a:srgbClr val="000000"/>
                </a:solidFill>
                <a:latin typeface="Courier New"/>
              </a:rPr>
              <a:t>chao\n</a:t>
            </a:r>
            <a:r>
              <a:rPr b="1" i="1" lang="es-ES_tradnl" sz="3200" spc="-1" strike="noStrike" u="sng">
                <a:solidFill>
                  <a:srgbClr val="000000"/>
                </a:solidFill>
                <a:uFillTx/>
                <a:latin typeface="Courier New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 u="sng">
                <a:solidFill>
                  <a:srgbClr val="000000"/>
                </a:solidFill>
                <a:uFillTx/>
                <a:latin typeface="Verdana"/>
              </a:rPr>
              <a:t>X</a:t>
            </a:r>
            <a:r>
              <a:rPr b="0" i="1" lang="es-ES_tradnl" sz="3200" spc="-1" strike="noStrike">
                <a:solidFill>
                  <a:srgbClr val="000000"/>
                </a:solidFill>
                <a:latin typeface="Verdana"/>
              </a:rPr>
              <a:t> :</a:t>
            </a: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 marca de fin de archivo (distinta a cualquier carácter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blema 2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ostrar el archivo “archivo.txt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LeerArchivo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void main(String[]arg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ows IOExce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fferedReader a = new BufferedReader(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FileReader(“archivo.txt”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linea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.readLin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 linea==null )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linea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a.clos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4:27:06Z</dcterms:created>
  <dc:creator>V. Herskovic</dc:creator>
  <dc:description/>
  <dc:language>en-US</dc:language>
  <cp:lastModifiedBy>Valeria Herskovic</cp:lastModifiedBy>
  <cp:lastPrinted>2005-03-11T14:50:06Z</cp:lastPrinted>
  <dcterms:modified xsi:type="dcterms:W3CDTF">2007-04-02T12:04:27Z</dcterms:modified>
  <cp:revision>85</cp:revision>
  <dc:subject/>
  <dc:title>Clase12</dc:title>
</cp:coreProperties>
</file>