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76E4-3CE6-4144-8EEB-D392198B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FC13-FBFD-4FFB-A7DF-5CFC85B2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F3A9-6E27-4DC3-BA80-BC95C2BD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F5C7-3B3A-4FC9-B515-EFCE0D99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589E-F8CA-45E5-90AB-5F87EF1C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00B3-CAF1-4E7E-8323-D8F4A35F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705F-B509-4DF3-A9D0-F60D4593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2355-5EDB-4EA7-AC55-036CBFF0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12FD-D71A-4DB0-A187-CCDD9970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22E6-7B9C-4892-B34A-50E0EAA0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EC46-60E7-425D-BBBF-5A2627F4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E177-CCF7-4B65-9E83-9A5FF635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E608-D5BB-498F-9F8D-68B2ED29D20C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1868040"/>
            <a:ext cx="7140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8:</a:t>
            </a:r>
            <a:br>
              <a:rPr sz="4000"/>
            </a:b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String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514840"/>
            <a:ext cx="81378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25360"/>
            <a:ext cx="8763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tar las apariciones de un carácter en un st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cuenta(‘a’,“abracadabra”)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rega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Solu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cuenta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(char x,String y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for(int i=0; i&lt;y.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(); ++i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if(y.</a:t>
            </a:r>
            <a:r>
              <a:rPr b="1" lang="en-US" sz="27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(i)== x)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2700" spc="-1" strike="noStrike">
                <a:solidFill>
                  <a:srgbClr val="000000"/>
                </a:solidFill>
                <a:latin typeface="Courier New"/>
              </a:rPr>
              <a:t>++n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7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822cd"/>
                </a:solidFill>
                <a:latin typeface="Verdana"/>
              </a:rPr>
              <a:t>Métodos que devuelven String (y no modifican string original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371600"/>
          <a:ext cx="8381880" cy="4589640"/>
        </p:xfrm>
        <a:graphic>
          <a:graphicData uri="http://schemas.openxmlformats.org/drawingml/2006/table">
            <a:tbl>
              <a:tblPr/>
              <a:tblGrid>
                <a:gridCol w="2085840"/>
                <a:gridCol w="2938680"/>
                <a:gridCol w="2098440"/>
                <a:gridCol w="125892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substring(i,j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ing con caracteres entre índices i y j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substring(1,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substring(2,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substring(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substring(i,x.length()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substring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a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concat(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catena x e 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añade y al final de 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concat(“do”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 + “do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ado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replace(y,z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emplaza todos los caracteres y por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replace(‘a’,’e’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se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toUpp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emplaza minúsculas por mayúscu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toUpp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A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toLow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emplaza mayúsculas por minúscu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toLow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a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trim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imina espacios al comienzo y 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b “.trim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b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822cd"/>
                </a:solidFill>
                <a:latin typeface="Verdana"/>
              </a:rPr>
              <a:t>Problema: Obtener una respuesta si o no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r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respues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r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.readLine(“…”).trim().toLow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 = U.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readLin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“si o no?”);//leer respues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 = r.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trim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//eliminar espac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 = r.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);//a minuscul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r.equals(“si”)||r.equals(“no”))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r.equals(“si”) ) ... else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( r.charAt(0) )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admite tipo ch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‘s’: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‘n’: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Problema: contar las apariciones de un string en otro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cuenta(“abra”,“abracadabra”) entrega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uent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tring x,String 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terati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=0, l=x.length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petir mientras se encuentre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(int i=0; (i=y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,i))&gt;=0; i+=l)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+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ursi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i=y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i&lt;0) return 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1+cuenta(x,y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+x.length()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Ejercicio (10min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scribir una función de encabezamien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</a:rPr>
              <a:t>static public String repetir(String x,int y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que repita un string una cantidad determinada de ve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jemplos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</a:rPr>
              <a:t>repetir(“ja”,3)entrega “jajaj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</a:rPr>
              <a:t>repetir(“a”,0) devuelve “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1 (con iteración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125360"/>
            <a:ext cx="8991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Solución 1 (con iteració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String aux = “”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for(int i=1; i&lt;=y; ++i)//repetir y vece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aux = aux.concat(x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ota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aux = aux.concat(x)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puede escrib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aux = aux + x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aux += 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24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2 (con recursión al final: </a:t>
            </a:r>
            <a:r>
              <a:rPr b="1" i="1" lang="es-ES_tradnl" sz="24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tail recursion</a:t>
            </a:r>
            <a:r>
              <a:rPr b="1" lang="es-ES_tradnl" sz="24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( y &lt;= 0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“”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x + repetir(x,y-1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n operador de exp condic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y&lt;=0 ? “”: x + repetir(x,y-1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22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3 (con recursión al comienzo: </a:t>
            </a:r>
            <a:r>
              <a:rPr b="1" i="1" lang="es-ES_tradnl" sz="22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head recursion</a:t>
            </a:r>
            <a:r>
              <a:rPr b="1" lang="es-ES_tradnl" sz="22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)</a:t>
            </a:r>
            <a:endParaRPr b="1" lang="en-US" sz="2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( y &lt;= 0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“”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repetir(x,y-1) + 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n operador de exp condic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y&lt;=0 ? “”: repetir(x,y-1)+ 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Convers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número &lt;-&gt; String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nversión de números a St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empl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 = “”+n; //si n=123, s=“123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 = “”+x; //si x=4.5, s=“4.5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nversión de Strings a númer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=Integer.parseInt(s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=new Integer(s).intValue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si s=”123”, n=12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x=Double.parseDouble(s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x=new Double(s).doubleValue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//si s=”4.5”, x=4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puesto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nverso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: inverso(“roma”) entrega “amor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tring si_no()//leer y entregar un String “si” o “no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alindrom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: palindrome(“reconocer”)=tr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lfabetico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: alfabetico(“hola”)=true, alfabetico(“123”)=fa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álido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(String x,String 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: válido(“123”,”0123456789”)=tr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emplazar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(String x,String y,String 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: reemplazar(“abcde”,”bc”,”BC”)=“aBCde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eer una lista de palabras y escribir la más larga (de más letras)  y la mayor (alfabeticamente). El fin de la lista se indica con la palabra “fin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Palabra(o fin) ? calcul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Palabra(o fin)? algeb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Palabra(o fin)? fis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Palabra(o fin)? computac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Palabra(o fin) ? f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Más larga = computac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Mayor = fis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Algoritmo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125360"/>
            <a:ext cx="8991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asLarga = “”, mayor=””; //palabras de cero letr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while(tru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obtener una palab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f( palabra == “fin” ) break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f( largo de palabra &gt; largo de masLarga 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asLarga=palabra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f( palabra &gt; mayor ) mayor = palabra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scribir masLarga y may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gram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125360"/>
            <a:ext cx="8915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masLarga="", mayor="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tr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ring palabra=U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.readLine(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"palabra(o fin)?"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labra.equals("fin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labra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gt; masLarga.length()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masLarga=palabr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palabra.compareTo(mayor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&gt; 0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mayor=palabr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"mas larga=" + masLarg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"mayor=" + may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String masLarga=””, mayor=””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icializa con strings vacíos (cero caracte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quivalencia: String masLarga; masLarga=””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tring: clase predefinida (no es tipo, comienza con mayúscul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trings son objetos (no variab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peraciones a través de métodos (no operadores): objeto.metodo(argument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U.readLine(“…”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ee una línea (desde el teclado), entrega string que contiene todos los caracteres antes de tecla enter. Ej: “la casa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se detecta el fin de los datos entrega el valor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ull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(no “”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palabra.equals("fin"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para Strings palabra y “fin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vuelve true sin son iguales, o false si son disti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sultado de tipo boole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palabra.length(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trega cantidad de caracteres del st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sultado de tipo 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palabra.compareTo(mayo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para Strings palabra y may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vuelve 0 si palabra=mayor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º&lt;0 si palabra&lt;mayor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º&gt;0 si palabra&gt;may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sultado de tipo 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paracion lexicográfic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xtensión de comparación alfabética (“diccionario”) para incluir otros caracte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rden:espacio&lt;dígitos&lt;mayúsculas&lt;minúscu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tros caracteres con representaciones arbitrar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Tipo char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125360"/>
            <a:ext cx="8915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ara caracteres individuales (letra, dígito, signo especia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ada caracter se representa en 16 bits (2 byt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onvención UNICODE (extensión de ASCII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variables: ej: char c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onstantes: ‘un caracter’ (entre apóstrof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j: ‘ ‘, ’a’, ‘A’, ’8’, ’=’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signación: ej: c=’a’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omparación: caracter operador-relación carac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rden entre caracter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‘ ‘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&lt; ’0’ &lt; ’1’ &lt; ... &lt; ’9’ &lt; ’A’ &lt; ... &lt; ’Z’ &lt; ’a’ &lt; ... &lt; ’z’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peraciones aritméticas (entre representaciones intern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j: ‘c’-‘a’ entrega 2 (tipo in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(char)(‘a’+2) entrega ‘c’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822cd"/>
                </a:solidFill>
                <a:latin typeface="Verdana"/>
              </a:rPr>
              <a:t>Principales métodos de clase String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80880" y="1174680"/>
          <a:ext cx="8382240" cy="5682960"/>
        </p:xfrm>
        <a:graphic>
          <a:graphicData uri="http://schemas.openxmlformats.org/drawingml/2006/table">
            <a:tbl>
              <a:tblPr/>
              <a:tblGrid>
                <a:gridCol w="2057400"/>
                <a:gridCol w="2133720"/>
                <a:gridCol w="1143000"/>
                <a:gridCol w="3048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ntax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gnifi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j: String s=“casa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length(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º de caracte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length( )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equals(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¿ x es igual a y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ol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equals(“casa”)=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equals(“Casa”)=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compareTo(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si x ==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º &lt; 0 si x &lt;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º &gt; 0 si x &gt;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compareTo(“casa”)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compareTo(“casas”)&lt;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compareTo(“Casa”)&gt;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charAt(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ácter ubicado en el indice i (desde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charAt(2)=’s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charAt(0)=’c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charAt(4)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indexOf(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índice de primer y en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-1 si no está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indexOf(“as”)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indexOf(“a”)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indexOf(“hola”)=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.indexOf(y,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índice de y en x (a partir de 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indexOf(“a”,2)=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3-28T12:12:35Z</dcterms:modified>
  <cp:revision>80</cp:revision>
  <dc:subject/>
  <dc:title>Clase12</dc:title>
</cp:coreProperties>
</file>