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C30-74CA-47CE-AF2C-84F14982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0CC-C395-4A7E-A41F-0D57EA8B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E01-7FCB-4B71-B600-FFC9BE55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6D7-74E5-4E11-863B-4CD370B9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2AA-4EDE-42DD-B023-C08308F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F14-1C44-4795-8B5C-5FD22E35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C79-F356-4DB1-81DD-F0B2903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22B-FAD2-463B-9B1F-40DDF59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231-1844-4483-ADED-14ED170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71B-CAED-43FA-B35F-AF70605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787-8E6E-4BA5-864D-86A2071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94A-EDD8-4194-87B3-EB0ADBAB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A24-983B-4897-BA7A-EBB140ED7E00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8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String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763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tar las apariciones de un carácter en un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cuenta(‘a’,“abracadabra”)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ga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char x,String 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i=0; i&lt;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); ++i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i)== x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Métodos que devuelven String (y no modifican string original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371600"/>
          <a:ext cx="8381880" cy="4589640"/>
        </p:xfrm>
        <a:graphic>
          <a:graphicData uri="http://schemas.openxmlformats.org/drawingml/2006/table">
            <a:tbl>
              <a:tblPr/>
              <a:tblGrid>
                <a:gridCol w="2085840"/>
                <a:gridCol w="2938680"/>
                <a:gridCol w="2098440"/>
                <a:gridCol w="12589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 con caracteres entre índices i y j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2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x.length(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ncat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atena x e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ñade y al final de 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ncat(“do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 + “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replace(y,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todos los caracteres y por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replace(‘a’,’e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s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inúsculas por may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ayúsculas por min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mina espacios al comienzo y 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 “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Problema: Obtener una respuesta si o n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r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readLine(“…”).trim()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“si o no?”);//leer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im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//eliminar espa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//a minuscu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r.equals(“si”)||r.equals(“no”))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r.equals(“si”) ) ... els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( r.charAt(0) 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admite tipo 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s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n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Problema: contar las apariciones de un string en otro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(“abra”,“abracadabra”) entreg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0, l=x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se encuentre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=0; (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i))&gt;=0; i+=l)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i&lt;0) return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+cuenta(x,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+x.length(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jercicio (10mi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a función de encabez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static public String repetir(String x,int 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e repita un string una cantidad determinada de ve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ja”,3)entrega “jajaj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a”,0) devuelve “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 (con ite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 1 (con iteració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String aux =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for(int i=1; i&lt;=y; ++i)//repetir y vec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.concat(x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ux = aux.concat(x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puede escrib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 + 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+=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 (con recursión al final: </a:t>
            </a:r>
            <a:r>
              <a:rPr b="1" i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tail recursion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 (con recursión al comienzo: </a:t>
            </a:r>
            <a:r>
              <a:rPr b="1" i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head recursion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repetir(x,y-1) 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repetir(x,y-1)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Convers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número &lt;-&gt; String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números a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n; //si n=123, s=“123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x; //si x=4.5, s=“4.5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Strings a núm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Integer.parseInt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new Integer(s).int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i s=”123”, n=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Double.parseDouble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new Double(s).double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//si s=”4.5”, x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r una lista de palabras y escribir la más larga (de más letras)  y la mayor (alfabeticamente). El fin de la lista se indica con la palabra “fi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calcu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alg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f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ás larga =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ayor =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asLarga = “”, mayor=””; //palabras de cero let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while(tru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tener una palab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== “fin” )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largo de palabra &gt; largo de masLarga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sLarga=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&gt; mayor ) mayor = 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cribir masLarga y may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masLarga="", mayor="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palabra=U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.readLine(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"palabra(o fin)?"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masLarga.length()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sLarga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&gt; 0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s larga=" + masLarg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yor=" + 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tring masLarga=””, mayor=”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 con strings vacíos (cero caracte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quivalencia: String masLarga; masLarga=”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: clase predefinida (no es tipo, comienza con mayúscu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s son objetos (no vari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ciones a través de métodos (no operadores): objeto.metodo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readLine(“…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ee una línea (desde el teclado), entrega string que contiene todos los caracteres antes de tecla enter. Ej: “la cas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se detecta el fin de los datos entrega el valor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ull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no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“fi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true sin son iguales, o false si son disti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bool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 cantidad de caracteres del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0 si palabra=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lt;0 si palabra&lt;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gt;0 si palabra&gt;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cion lexicográfic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tensión de comparación alfabética (“diccionario”) para incluir otros carac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rden:espacio&lt;dígitos&lt;mayúsculas&lt;minúsc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tros caracteres con representaciones arbitra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Tipo char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aracteres individuales (letra, dígito, signo especi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da caracter se representa en 16 bits (2 byt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vención UNICODE (extensión de ASCI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riables: ej: char 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tantes: ‘un caracter’ (entre apóstrof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 ‘, ’a’, ‘A’, ’8’, ’=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gnación: ej: c=’a’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mparación: caracter operador-relación carac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rden entre caracter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‘ ‘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&lt; ’0’ &lt; ’1’ &lt; ... &lt; ’9’ &lt; ’A’ &lt; ... &lt; ’Z’ &lt; ’a’ &lt; ... &lt; ’z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peraciones aritméticas (entre representaciones intern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c’-‘a’ entrega 2 (tipo in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char)(‘a’+2) entrega ‘c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Principales métodos de clase String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174680"/>
          <a:ext cx="8382240" cy="56829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114300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t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: String s=“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length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caract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length( )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equals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¿ x es igual a y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mpareTo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si x =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lt; 0 si x &l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gt; 0 si x &g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s”)&l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harAt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ácter ubicado en el indice i (desde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2)=’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0)=’c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4)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primer y en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-1 si no está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s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hola”)=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,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y en x (a partir de 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,2)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8T12:12:35Z</dcterms:modified>
  <cp:revision>80</cp:revision>
  <dc:subject/>
  <dc:title>Clase12</dc:title>
</cp:coreProperties>
</file>