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D36-6DCA-44AD-A02C-F9A96485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3E7-8506-4F33-842E-6822BCE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E78-CE72-4426-83CA-837BC02E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BA8-0D4A-4275-BD13-D2F91F46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5F5-833D-4096-8961-18CA8C88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D0F-2666-47F1-A5C9-7D0E835E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5F1-0890-4D5B-BC2C-23C186F2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C11-4364-4AB7-8094-ECE94EEA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A69-D060-44C6-B637-69893986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427-541A-4321-B522-72453A25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4C3-F04A-4EE2-9A61-35751D7F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8EB-571C-448E-BA95-41C199B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8909-C28B-4D9A-A387-9F2C5CB9E5E5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7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Abreviatura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Solución 2: usando operador de asignación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suma, numero; int 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a = n = 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!=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promedio=” 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suma=suma+numero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)/(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n=n+1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lución más brev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 líneas en lugar de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 instrucciones en lugar de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 de asign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uma=suma+numero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: variable = expresión (sin ;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valuar expres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signar resultado a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tregar resultado (del tipo de la vari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ioridad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más baja. Ej: x=y+z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x=(y+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ociatividad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: de derecha a izquierd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ma=n=0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suma=(n=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es de asignación aritmétic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9036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promedio=”+(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)/(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n+=1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 operador= expres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perador:  +, -, *, /, 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 = variable operador (expresión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*=y+z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=x*(y+z)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=x*y+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932360" y="4869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22cd"/>
                </a:solidFill>
                <a:latin typeface="Verdana"/>
              </a:rPr>
              <a:t>Operadores de incremento y decrement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edio=”+(suma+=numero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++variabl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--vari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+=1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variable=variable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-=1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variable=variable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822cd"/>
                </a:solidFill>
                <a:latin typeface="Verdana"/>
              </a:rPr>
              <a:t>Operadores de incremento/decremento de postfijo o sufijo</a:t>
            </a:r>
            <a:endParaRPr b="1" lang="en-US" sz="23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n++); //escribe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n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//escribe 1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+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-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6520" indent="-50652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cordar (guardar) valor original d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mar/restar 1 a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spcBef>
                <a:spcPts val="601"/>
              </a:spcBef>
              <a:buClr>
                <a:srgbClr val="f06157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volver valor original como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Operador de expresión condicional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ondició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expresión1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expresión2  ¡¡ 3 ops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condición es true, evaluar y entregar resultado de expresión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no  (es false) evaluar y entregar resultado de expresión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equivalente a las 4 líne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&gt;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Más ejempl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==0 ? 1 : x*factorial(x-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equivalente 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else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*factorial(x-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gito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&lt;10 ? 1 : 1+digitos(x/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 equivalente a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igito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&lt;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else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+digitos(x/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y más ejemplo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78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&lt;0) return 1/potencia(x,-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aux=potencia(x, y/2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ux*aux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y%2==0 ? 1 : x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áximo común divi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=Math.max(x,y), min=Math.min(x,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==0 ? max : mcd(min, max % min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 sgte tabl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1 12 13 14 15 16 17 18 19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91 92 93 94 95 96 97 98 99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olución 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1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10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i%10==0)U.println(i); else U.print(i+”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ución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1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100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i + (i%10==0 ? ”\n” : ” “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Nota: “\n” significa newline (salto a la sgte lín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buso (encajonamiento de operador ?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y ? (x&gt;z?x:z) : (y&gt;z?y: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=y &amp;&amp; x&gt;=z ? x : (y&gt;z?y: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 max(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&gt;y ? x :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Ejercici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ibir una función que calcul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x:real, y:entero)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usar Math.pow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3) = 8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-3) = 0.1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0) =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Prioridades de operadores (orden de evaluación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0920" y="1197000"/>
          <a:ext cx="5056200" cy="4614840"/>
        </p:xfrm>
        <a:graphic>
          <a:graphicData uri="http://schemas.openxmlformats.org/drawingml/2006/table">
            <a:tbl>
              <a:tblPr/>
              <a:tblGrid>
                <a:gridCol w="536400"/>
                <a:gridCol w="1951200"/>
                <a:gridCol w="256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er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fi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+ 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++ 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plic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gual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di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? 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g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 op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) función que entregue true si un entero es primo (o false si n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) programa para el siguiente diálo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mos entre X 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?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Y ?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 &amp;&amp; x&gt;2) return false;//pares&gt;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3, raiz=(int)Math.sqrt(x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raiz){ //i=3,5,…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(impa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i==0) return false;//divis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+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//divisibles por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[]args)…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primos entre X e Y"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=U.readInt(“X?”), y=U.readInt(“Y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x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i&lt;=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: con instrucción for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x%2==0 &amp;&amp; x&gt;2) return fal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raiz=(int)Math.sqrt(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3; i&lt;=raiz; i+=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x%i==0) return fal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tring[]args)…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primos entre X e Y"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x=U.readInt(“X?”), y=U.readInt(“Y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nt i=x; i&lt;=y; ++i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for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(inicialización; condición; reinicializació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strucció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// o { instrucciones 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icializac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condición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strucción(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inicializació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Nota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icialización y reinicialización puede ser cualquier instrucción (sin;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sumar enteros(hasta ingresar 0)”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(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int n, suma=0;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//inicializ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(n=U.readInt(“nº?))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!= 0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U.println(“suma=”+(suma+=n)))//</a:t>
            </a:r>
            <a:r>
              <a:rPr b="1" lang="es-ES" sz="2300" spc="-1" strike="noStrike">
                <a:solidFill>
                  <a:srgbClr val="000000"/>
                </a:solidFill>
                <a:latin typeface="Courier New"/>
              </a:rPr>
              <a:t>reinicializac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//ninguna inst (todo fue hecho en fo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icialización o condición o reinicialización puede omiti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j: for(;;){…break;…}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while(true){…break;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… </a:t>
            </a: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Notas …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inicialización es declaración entonces variables desaparecen y pueden ser redefinidas (puesto que instrucción for está rodeada por un blo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1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&lt;=100; i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3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=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&lt;=100; i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i)) U.println(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trucciones for pueden encajonarse (anidars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9; i+=2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rimos terminados en “+i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nt j=i; j&lt;=100; j+=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rimo(j)) U.println(j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1822cd"/>
                </a:solidFill>
                <a:latin typeface="Verdana"/>
              </a:rPr>
              <a:t>Problema. Función que entregue el Nº de días de un mes</a:t>
            </a:r>
            <a:endParaRPr b="1" lang="en-US" sz="2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int diasMes(int x){ ...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olución 1. Con if sin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d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 ) d=3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2 ) d=2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3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4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5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6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7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8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9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0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1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x==12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valúa 12 condiciones siemp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 selección múltiple if-else if-...-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=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==1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2 ) d=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3 ) d=3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4 ) d=3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5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6 ) d=3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7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8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9 ) d=3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0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1 ) d=30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if( x==12 ) d=31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valúa x  condiciones (12 en el peor caso)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strucción switch (una evaluació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witch(x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2:  d=28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3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4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5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6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7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8: 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9: 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0: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1: d=30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ase 12: d=31;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ault: d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1 (con it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x x ...x (y&gt;0 veces). Si y&lt;0, 1/(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 ... x)  (-y vec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ux=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 i &lt;= Math.abs(y) 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ux = aux * 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y &gt;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.0/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switch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switch(expresión){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case constante1 : instrucciones1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case constanten : instruccionesn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default: instruccionesn+1; break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resión y constantes: tipo ent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strucciones, break y default se pueden omit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emántic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expresión se evalúa una sóla vez y se bifurca directamente a las instrucciones correspondi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i las instrucciones no terminan con break se pasa automaticamente a las instrucciones del caso sigu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564000" y="1557360"/>
            <a:ext cx="100656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2680" y="3103560"/>
            <a:ext cx="731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0" y="3103560"/>
            <a:ext cx="73188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0560" y="3103560"/>
            <a:ext cx="73152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50000" y="3103560"/>
            <a:ext cx="10983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sts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+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21200" y="2006640"/>
            <a:ext cx="219528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4560" y="337824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81480" y="33782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05160" y="337824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02080" y="3378240"/>
            <a:ext cx="5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6160" y="3103560"/>
            <a:ext cx="639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21200" y="144936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916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44480" y="3743280"/>
            <a:ext cx="54792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53080" y="3743280"/>
            <a:ext cx="731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9160" y="4200480"/>
            <a:ext cx="429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3360" y="4200480"/>
            <a:ext cx="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21200" y="2006640"/>
            <a:ext cx="91440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06800" y="2006640"/>
            <a:ext cx="91440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27360" y="2006640"/>
            <a:ext cx="219384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67080" y="246384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90760" y="2554200"/>
            <a:ext cx="4572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7680" y="2554200"/>
            <a:ext cx="5479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e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10280" y="2554200"/>
            <a:ext cx="731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1760" y="3743280"/>
            <a:ext cx="5490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608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776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16480" y="365292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4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nt d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witch(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31; break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4:case 6:case 9:case 1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30; 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=28; break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d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ternativamen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1:case 3:case 5:case 7:case 8:case 10:case 1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31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4:case 6:case 9:case 1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30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ase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2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12536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sultado: 1 si y=0, 1/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|y|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&lt;0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&gt;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==0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.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y &lt;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.0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== 0 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lt; 0 )  return 1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Realiza y-1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1) // y es im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*potencia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4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 es 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0) // si y es 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*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ta: Realiza log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y+1 llamadas recurs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f(x,17)-&gt; f(x,8) -&gt; f(x,4) -&gt; f(x,2) -&gt; f(x,1) -&gt; f(x,0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Métodos (funciones) propuestos (iterativos y/o recursivo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4.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4.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6.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5.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promedio=4.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nº ? 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primer nú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numero=U.readDouble("nº ? 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edio=”+suma/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umero=U.readDouble("nº ? 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6T12:21:51Z</dcterms:modified>
  <cp:revision>75</cp:revision>
  <dc:subject/>
  <dc:title>Clase12</dc:title>
</cp:coreProperties>
</file>