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1D4-CA90-4EC5-9F61-E09DBF66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829-B44C-44E7-8CA5-DC6D7322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278-1910-4D35-A6CB-34504C5A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5F3-F4C0-4EC1-8C9A-75100412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A35-C14C-4D66-B001-4AC553AF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364-BEC3-42B5-B601-CC47C4A9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580-C7C7-44A6-AF43-8B9A6418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928-18D6-4600-8CD6-10C5F4F4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AED-9767-443E-B158-1E625C2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F61-7975-4A9F-8D95-49540E9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DD7-31EA-4F80-8FA3-AD1F92C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58C-4A32-4DA0-AF7E-55BF78EA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0151-A779-4CA8-BB43-6E5E4C4721A0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7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Solución 2: usando operador de asignación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suma, numero; int 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a = n = 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!=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promedio=”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uma=suma+numero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=n+1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ución más brev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líneas en lugar de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instrucciones en lugar de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uma=suma+numer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variable = expresión (sin ;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valuar expres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signar resultado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r resultado (del tipo de la vari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ior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más baja. Ej: x=y+z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x=(y+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ociativ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de derecha a izquierd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n=0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suma=(n=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es de asignación aritmétic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promedio=”+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n+=1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 operador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perador:  +, -, *, /,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 = variable operador (expresió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*=y+z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(y+z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y+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32360" y="4869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Operadores de incremento y decrement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(suma+=numero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+variabl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--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+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-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2cd"/>
                </a:solidFill>
                <a:latin typeface="Verdana"/>
              </a:rPr>
              <a:t>Operadores de incremento/decremento de postfijo o sufijo</a:t>
            </a:r>
            <a:endParaRPr b="1" lang="en-US" sz="23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++); //escribe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//escribe 1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cordar (guardar) valor original d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mar/restar 1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olver valor original como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expresión condicional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ondició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1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2  ¡¡ 3 ops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ondición es true, evaluar y entregar resultado de expresión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o  (es false) evaluar y entregar resultado de expresión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equivalente a las 4 líne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&gt;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 ? 1 : 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 ? 1 : 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y 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78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&lt;0) return 1/potencia(x,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ux=potencia(x, y/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*aux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y%2==0 ? 1 : 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áximo común divi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==0 ? max : mcd(min, max % min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 sgte tab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1 12 13 14 15 16 17 18 19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91 92 93 94 95 96 97 98 99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olución 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%10==0)U.println(i); else U.print(i+”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ción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i + (i%10==0 ? ”\n” : ” 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: “\n” significa newline (salto a la sgte lín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buso (encajonamiento de operador ?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(x&gt;z?x:z)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=y &amp;&amp; x&gt;=z ? x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 max(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x :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Prioridades de operadores (orden de evalu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0920" y="1197000"/>
          <a:ext cx="5056200" cy="4614840"/>
        </p:xfrm>
        <a:graphic>
          <a:graphicData uri="http://schemas.openxmlformats.org/drawingml/2006/table">
            <a:tbl>
              <a:tblPr/>
              <a:tblGrid>
                <a:gridCol w="536400"/>
                <a:gridCol w="1951200"/>
                <a:gridCol w="256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fi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plic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?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g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 op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) función que entregue true si un entero es primo (o false si 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) programa par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mos entre X 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?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?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//pares&gt;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3, raiz=(int)Math.sqrt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raiz){ //i=3,5,…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(impa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i==0) return false;//divis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//divisibles por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x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: con 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aiz=(int)Math.sqrt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3; i&lt;=raiz; i+=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x; i&lt;=y; ++i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inicialización; condición; reinicializació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strucció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 o { instrucciones 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condición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icialización y reinicialización puede ser cualquier instrucción (sin;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r enteros(hasta ingresar 0)”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(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int n, suma=0;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//inicializ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(n=U.readInt(“nº?))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!= 0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=”+(suma+=n)))//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reinicializa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//ninguna inst (todo fue hecho en f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ción o condición o reinicialización puede omiti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j: for(;;){…break;…}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hile(true){…break;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 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 …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inicialización es declaración entonces variables desaparecen y pueden ser redefinidas (puesto que instrucción for está rodeada por un blo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1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3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trucciones for pueden encajonarse (anidar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9; i+=2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“+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lt;=100; j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j)) U.println(j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Problema. Función que entregue el Nº de días de un mes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x)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. Con if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 ) d=3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2 ) d=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5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6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7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8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9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0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1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2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12 condiciones siemp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 selección múltiple if-else if-...-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=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==1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2 ) d=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5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6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7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8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9 ) d=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0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1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2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x  condiciones (12 en el peor caso)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trucción switch (una evalua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witch(x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2:  d=28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3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4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5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6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7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8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9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0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1: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2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ault: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switch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switch(expresión){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1 : instrucciones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n : instruccionesn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default: instruccionesn+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y constantes: tipo ent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strucciones, break y default se pueden omit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emántic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expresión se evalúa una sóla vez y se bifurca directamente a las instrucciones correspond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as instrucciones no terminan con break se pasa automaticamente a las instrucciones del caso sigu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557360"/>
            <a:ext cx="100656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268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0560" y="3103560"/>
            <a:ext cx="731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0000" y="3103560"/>
            <a:ext cx="10983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21200" y="2006640"/>
            <a:ext cx="219528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337824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81480" y="33782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5160" y="337824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2080" y="3378240"/>
            <a:ext cx="5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6160" y="3103560"/>
            <a:ext cx="639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21200" y="144936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91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44480" y="3743280"/>
            <a:ext cx="547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53080" y="374328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9160" y="4200480"/>
            <a:ext cx="42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3360" y="42004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212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068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7360" y="2006640"/>
            <a:ext cx="219384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67080" y="246384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0760" y="255420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7680" y="2554200"/>
            <a:ext cx="5479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0280" y="255420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1760" y="3743280"/>
            <a:ext cx="549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0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77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1; break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0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28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3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6.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5.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suma/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6T12:21:51Z</dcterms:modified>
  <cp:revision>75</cp:revision>
  <dc:subject/>
  <dc:title>Clase12</dc:title>
</cp:coreProperties>
</file>