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C8E-9DCF-4562-9DC1-FB99C353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A56-150E-4190-A1E8-4BEDC213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449-9DFF-4D18-9FB1-CF7DA858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9CE-0C22-455D-8BDA-D14FF3D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E33-3DAA-4FCE-884A-C84536DD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2E0-D2CB-44CC-ABF8-9978C60E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C0B-0874-4ED5-82CB-3D06CD11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F32-BE1B-4F38-9B8D-5C49903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C1D-AECF-4CA8-87DA-B71C0EF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CA0-3A57-4869-95AB-606BB2F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DBC-47BB-420A-BE70-6A757917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AAB-CB7F-40A5-8E52-3C8803E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8FF-D6C8-4480-A8D0-93D138865F59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6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Funciones recursiv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560" y="3573360"/>
            <a:ext cx="89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ra 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, primero hay que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que calcule el máximo común di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s: mcd(18,24)=6, mcd(9,4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olución 1: “fuerza brut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=1, i=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i &lt;= Math.min(x,y)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%i==0 &amp;&amp; y%i==0 ) max=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17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3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ath.min(x,y)-1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2: fuerza bruta mejorad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Math.min(x,y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gt; 1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%i==0 &amp;&amp; y%i==0 ) return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 = i –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18,24) realiza 1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9,4) realiza 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 (x,y) realiza máximo Math.min(x,y)-1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: Algoritmo de Euclid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!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 –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= y –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3 iteraciones: (18,24),(18,6),(12,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 5 iteraciones: (9,4),(5,4),(1,4),(1,3),(1,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áximo Math.min(x,y)+1 iter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15560"/>
            <a:ext cx="8686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ol. 4: Algoritmo de Euclides recursiv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y ) 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y,x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,y-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2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6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5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3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2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5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8763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Sol. 5: Eucl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ídes optimizado (menos invocaciones)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 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cd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min==0 ) return ma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in, max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i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6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4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 1: factorial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blema 1.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a función que calcule el factorial de un entero positivo. Por ejemplo, 4!=24=1*2*3*4 y 0!=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olución 1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! = 1*2*...*x  (0!=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ux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x = aux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! = x * (x-1)!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(0!=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ás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iteración (whi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ólo uso de paráme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variables adicio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835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M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odo (Función) Recursiv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invoca a sí mis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be tener una salida no recursiva (caso ba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if( x == 0 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llamadas a sí mismo deben acercarse (converger) al caso base (deben disminuir el tamaño del proble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Op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f(3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f(2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f(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f(0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0)=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1=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1=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2=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6=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Que pasa…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87480" y="4011480"/>
            <a:ext cx="88056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4)=4*f(3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3)=3*f(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2)=2*f(1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1)=1*f(0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0)=1*f(-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-1)=-1*f(-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nción que cuente dígitos de un entero positiv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dígitos(245) entrega 3, dígitos(4) entrega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ución  it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&gt;=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/10;/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mina último díg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5877000"/>
          <a:ext cx="6591240" cy="850680"/>
        </p:xfrm>
        <a:graphic>
          <a:graphicData uri="http://schemas.openxmlformats.org/drawingml/2006/table">
            <a:tbl>
              <a:tblPr/>
              <a:tblGrid>
                <a:gridCol w="1647720"/>
                <a:gridCol w="1647720"/>
                <a:gridCol w="1648080"/>
                <a:gridCol w="1647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Recursiv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olución recurs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si x&lt;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+ digitos(x/10) si x &gt;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lt;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digitos(2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digitos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1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2=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étodo que reciba un entero y lo escriba al rev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vertir(345);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cribe 54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oid invertir(int x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-1447920" y="2362320"/>
            <a:ext cx="835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r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/10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9760" y="236232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r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/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445400" y="4940280"/>
            <a:ext cx="102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cursiva abrev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escribir último díg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10 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si tiene más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/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nve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2T14:40:10Z</dcterms:modified>
  <cp:revision>63</cp:revision>
  <dc:subject/>
  <dc:title>Clase12</dc:title>
</cp:coreProperties>
</file>