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AD5-730C-4252-80B8-75BA1E80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9CE-6689-4C14-BBB8-A51E6849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C631-481F-415C-A0F8-818914BE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CAF-8C3E-49DD-A33B-47538723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3F08-2ABE-4D83-BA83-5FEC215A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410-AC57-4B22-9634-559B62B8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CFB-15B7-4C3F-8D17-29A973D8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80B-0809-4927-9DF0-9F9CD3D9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B186-26B5-4F91-88FF-3B9DBD27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F97-7A12-4CD8-BB2D-433F3433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E358-5C1B-4E8D-B048-9429072B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89A-6F0C-445D-A9BA-84E2F8DD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CC0B-4FAD-4048-B863-AF64A8CB53DC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6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Funciones recursiva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4560" y="3573360"/>
            <a:ext cx="89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ara entender la recursividad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, primero hay que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ntender la recursividad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582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unción que calcule el máximo común divis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s: mcd(18,24)=6, mcd(9,4)=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olución 1: “fuerza bruta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=1, i=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 i &lt;= Math.min(x,y) 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%i==0 &amp;&amp; y%i==0 ) max=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18,24) realiza 17 iter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9,4) realiza 3 iter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x,y) realiza Math.min(x,y)-1 iter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8598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2: fuerza bruta mejorad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=Math.min(x,y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i &gt; 1 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%i==0 &amp;&amp; y%i==0 ) return 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 = i –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cd(18,24) realiza 13 it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cd(9,4) realiza 3 it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cd (x,y) realiza máximo Math.min(x,y)-1 it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8598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3: Algoritmo de Euclid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x !=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 = x –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y = y –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18,24) realiza 3 iteraciones: (18,24),(18,6),(12,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9,4) realiza  5 iteraciones: (9,4),(5,4),(1,4),(1,3),(1,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x,y) realiza máximo Math.min(x,y)+1 iter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115560"/>
            <a:ext cx="8686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822cd"/>
                </a:solidFill>
                <a:latin typeface="Verdana"/>
              </a:rPr>
              <a:t>Sol. 4: Algoritmo de Euclides recursivo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== y ) return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y,x-y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,y-x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cd(18,2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cd(18,6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cd(12,6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cd(6,6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9,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5,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,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,3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,2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,1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5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15560"/>
            <a:ext cx="8763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Sol. 5: Eucl</a:t>
            </a:r>
            <a:r>
              <a:rPr b="1" lang="es-ES_tradnl" sz="24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ídes optimizado (menos invocaciones)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 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mcd(int x,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max=Math.max(x,y), min=Math.min(x,y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min==0 ) return ma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in, max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i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8,2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8,6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6,0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9,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4,1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,0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Ejercicio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cribir una función que calcul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x:real, y:entero)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n usar Math.pow(x,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3) = 8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-3) = 0.12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0) = 1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1 (con itera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534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= x x ...x (y&gt;0 veces). Si y&lt;0, 1/(x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 ... x)  (-y vec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,int 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ux=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 = 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( i &lt;= Math.abs(y) 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ux = aux * 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 y &gt;= 0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.0/au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2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125360"/>
            <a:ext cx="8839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sultado: 1 si y=0, 1/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|y|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&lt;0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-1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si y&gt;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y==0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.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y &lt; 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1.0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-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y-1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lternativam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== 0 ) 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&lt; 0 )  return 1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-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y-1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 Realiza y-1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3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-1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impar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p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== 0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&lt; 0) return 1/potencia(x,-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%2 == 1) // y es imp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x*potencia(x,y-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double aux = potencia(x,y/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4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si y es par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(y-1)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(y-1)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p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== 0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&lt; 0) return 1/potencia(x,-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double aux = potencia(x,y/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%2 == 0) // si y es p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x *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ta: Realiza logy+1 llamadas recursiv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:f(x,17)-&gt; f(x,8) -&gt; f(x,4) -&gt; f(x,2) -&gt; f(x,1) -&gt; f(x,0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 1: factorial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roblema 1.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ir una función que calcule el factorial de un entero positivo. Por ejemplo, 4!=24=1*2*3*4 y 0!=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olución 1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x! = 1*2*...*x  (0!=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ux=1, i=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i &lt;= x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x = aux * 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Métodos (funciones) propuestos (iterativos y/o recursivos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2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! = x * (x-1)!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(0!=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factorial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== 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ctorial(x-1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ás si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líne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 iteración (whi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ólo uso de parámet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 variables adicion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7835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M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étodo (Función) Recursivo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invoca a sí mism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j: factorial(x-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64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be tener una salida no recursiva (caso bas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j: if( x == 0 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64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s llamadas a sí mismo deben acercarse (converger) al caso base (deben disminuir el tamaño del proble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j: factorial(x-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Opera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4)=4*f(3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3)=3*f(2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2)=2*f(1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1)=1*f(0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0)=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1)=1*1=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2)=2*1=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3)=3*2=6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4)=4*6=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Que pasa…?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tic public int factorial(int x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actorial(x-1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87480" y="4011480"/>
            <a:ext cx="880560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4)=4*f(3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3)=3*f(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2)=2*f(1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1)=1*f(0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0)=1*f(-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-1)=-1*f(-2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unción que cuente dígitos de un entero positiv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: dígitos(245) entrega 3, dígitos(4) entrega 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ución  itera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igitos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x &gt;= 1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 = x/10;/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mina último dígi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08000" y="5877000"/>
          <a:ext cx="6591240" cy="850680"/>
        </p:xfrm>
        <a:graphic>
          <a:graphicData uri="http://schemas.openxmlformats.org/drawingml/2006/table">
            <a:tbl>
              <a:tblPr/>
              <a:tblGrid>
                <a:gridCol w="1647720"/>
                <a:gridCol w="1647720"/>
                <a:gridCol w="1648080"/>
                <a:gridCol w="16477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Recursiv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olución recursiv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 si x&lt;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 + digitos(x/10) si x &gt;=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igitos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lt; 1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gitos(x/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gitos(245)=1+digitos(2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gitos(24)=1+digitos(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gitos(2)=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gitos(24)=1+1=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gitos(245)=1+2=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étodo que reciba un entero y lo escriba al rev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emplo: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invertir(345);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escribe 54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oid invertir(int x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-1447920" y="2362320"/>
            <a:ext cx="835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terativ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x&gt;=10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x%10);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x/10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9760" y="2362320"/>
            <a:ext cx="383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r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&gt;=10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x%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verti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/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1445400" y="4940280"/>
            <a:ext cx="1023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cursiva abrev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(x%10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//escribir último díg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10 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//si tiene más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vertir(x/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/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inverti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22T14:40:10Z</dcterms:modified>
  <cp:revision>63</cp:revision>
  <dc:subject/>
  <dc:title>Clase12</dc:title>
</cp:coreProperties>
</file>