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880-86F9-4E54-B46F-7EDEC4D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E36-CD5E-440C-8736-8F5C87D1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1B0-E207-4B08-889C-1AD5EE2E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B62-328E-462C-B007-E9B1F0AF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B2B-CFB9-468B-BDEB-3BB014D7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8DB-34F7-4DB3-B806-737F137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B4B-CA9F-4274-8C13-86C1C2A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BA1-137A-4E01-84F5-965357A7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E65-1406-4DEC-860B-78258744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175-5479-4DEB-9C0D-46B73991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9F5-0AE1-4171-82B7-4EFE5D8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1C5-EE56-4319-B44B-D2684E8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540E-09F0-4BF5-9172-C408A8136A01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5: whil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221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71628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a n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uma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incrementar cont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n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La variable numero es local (interna) al bloque {…}, es decir, se crea (“nace”) al comienzo de cada iteración y desaparece (“muere”) al terminar de ejecutarse las instrucciones del bloq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par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divine X (entero entre 1 y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gt; 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lt; 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73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= 73 Felic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195280" y="249192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360" y="2781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95280" y="3141720"/>
            <a:ext cx="1368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1: esquema (patrón) leer-while-procesar-leer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prim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detectar fin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n != x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siguiente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 = U.readInt("X ? "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instruccion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n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2: esquema (patrón) while(true){… break; …}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n == x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17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dificar de modo de permitir al usuario rendirse y pedir ay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adivine Nº que piensa una persona (que no mien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le permita a una persona jugar contra el compu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area 1: Toque y F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cha de Entrega: Viernes, 6 de Abril 23:59:5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ugar de Entrega: U-cursos, T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se permiten atr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tarea es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 ahor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3317760"/>
            <a:ext cx="121896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70828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5840" y="4994280"/>
            <a:ext cx="175248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720" y="36226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8480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4384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1880" y="3317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4000" y="3693600"/>
            <a:ext cx="2089440" cy="2951280"/>
            <a:chOff x="4194000" y="3693600"/>
            <a:chExt cx="2089440" cy="2951280"/>
          </a:xfrm>
        </p:grpSpPr>
        <p:sp>
          <p:nvSpPr>
            <p:cNvPr id="146" name=""/>
            <p:cNvSpPr/>
            <p:nvPr/>
          </p:nvSpPr>
          <p:spPr>
            <a:xfrm>
              <a:off x="4194000" y="6141600"/>
              <a:ext cx="395280" cy="503280"/>
            </a:xfrm>
            <a:prstGeom prst="downArrow">
              <a:avLst>
                <a:gd name="adj1" fmla="val 50000"/>
                <a:gd name="adj2" fmla="val 31831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4338360" y="6141600"/>
              <a:ext cx="194292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203800" y="3693600"/>
              <a:ext cx="107784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067440" y="3695040"/>
              <a:ext cx="21600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920" y="3695040"/>
            <a:ext cx="180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6000" y="3911040"/>
            <a:ext cx="1440" cy="223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614196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2360" y="63579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3080" y="3693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97280" y="3597120"/>
            <a:ext cx="720720" cy="1898640"/>
            <a:chOff x="2897280" y="3597120"/>
            <a:chExt cx="720720" cy="1898640"/>
          </a:xfrm>
        </p:grpSpPr>
        <p:grpSp>
          <p:nvGrpSpPr>
            <p:cNvPr id="156" name=""/>
            <p:cNvGrpSpPr/>
            <p:nvPr/>
          </p:nvGrpSpPr>
          <p:grpSpPr>
            <a:xfrm>
              <a:off x="2897280" y="3597120"/>
              <a:ext cx="720720" cy="1898640"/>
              <a:chOff x="2897280" y="3597120"/>
              <a:chExt cx="720720" cy="189864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3060720" y="343512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8720" y="527796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7280" y="369396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98720" y="369396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114720" y="390924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98360" y="36939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898720" y="549396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8T22:16:24Z</dcterms:modified>
  <cp:revision>52</cp:revision>
  <dc:subject/>
  <dc:title>Clase12</dc:title>
</cp:coreProperties>
</file>