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4BD-6C3C-40FE-A9F9-019BCAF5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73B-BB53-438E-9F47-298ECB82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9FB-5131-45EF-88A6-9533BAD6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112-2063-4F90-AC7B-B327FEDD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CF3-B321-45C7-8324-399CF2E5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FB0-0745-4E97-8FA2-975C100B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6F5-D0E6-45D2-A220-63F0888B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F1F-2437-4216-8F10-7E7D5916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92C-71FA-4B1A-A904-93D4423B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CC7-0CCF-4FE9-8F54-E602643C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6EE-2FC4-49A8-86F5-FF44BF5B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1F9-76AA-4619-A318-D5F77F3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614E-A625-4ACA-92B7-14D29BE11A12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5: whil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cución del 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628640"/>
          <a:ext cx="7918560" cy="4114800"/>
        </p:xfrm>
        <a:graphic>
          <a:graphicData uri="http://schemas.openxmlformats.org/drawingml/2006/table">
            <a:tbl>
              <a:tblPr/>
              <a:tblGrid>
                <a:gridCol w="646200"/>
                <a:gridCol w="2016000"/>
                <a:gridCol w="1079640"/>
                <a:gridCol w="215640"/>
                <a:gridCol w="649440"/>
                <a:gridCol w="2158920"/>
                <a:gridCol w="11527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n=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falsa la primera vez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imo=U.readInt(“nº máxim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 &lt;= maximo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221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maximo&lt;2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no se repiten nunc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sta propiedad permite diseñar ciclos que eventualmente no se repiten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siempre verdadera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71628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se repiten indefinidamente (“loo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ror: no se incrementa variab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l programador debe preocuparse de incluir instrucciones que influyan en la condición, de modo que eventualmente sea fa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 reales siguiendo el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1 promedio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5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2 promedio=5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l número 0 se usa como indicador de fin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Usando patrón leer/while/procesar/le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primera no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umar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 = suma + numero; 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suma + 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suma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ejemplo, la 1ª vez suma=0.0 y numero=4.5, por lo tanto, suma+numero es 4.5 y se guarda como el nuevo valor de su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2ª vez, suma=4.5 y numero=5.5 entonces suma+numero es 10.0 que reemplaza el valor de su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incrementar cont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n+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n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Usando patrón while(true)-bre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) //condición siempre verdader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numero=U.readDouble(“número ? “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numero==0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//pasa a inst sgte a 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procesa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La variable numero es local (interna) al bloque {…}, es decir, se crea (“nace”) al comienzo de cada iteración y desaparece (“muere”) al terminar de ejecutarse las instrucciones del bloq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par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divine X (entero entre 1 y 1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gt; 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lt; 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73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= 73 Felicit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195280" y="2491920"/>
            <a:ext cx="1368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4360" y="2781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95280" y="3141720"/>
            <a:ext cx="1368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1: esquema (patrón) leer-while-procesar-leer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prim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hasta detectar fin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n != x 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siguiente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 = U.readInt("X ? "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instruccion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n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2: esquema (patrón) while(true){… break; …}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n == x 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17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odificar de modo de permitir al usuario rendirse y pedir ayu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adivine Nº que piensa una persona (que no mient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le permita a una persona jugar contra el computa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area 1: Toque y F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cha de Entrega: Viernes, 6 de Abril 23:59:5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ugar de Entrega: U-cursos, T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se permiten atr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tarea es individ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pezar ahora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muestre la siguiente tab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º  ra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414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732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5.4477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olución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hasta que n &gt; 30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mientras 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3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inicializar variable n con valo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n&lt;=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escribir n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sumar 1 a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 condición 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, si se necesita repetir varias instruccione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condición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entras condición se cumpla (sea tru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cutar instrucción(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rafic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830760" y="3317760"/>
            <a:ext cx="1218960" cy="990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270828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25840" y="4994280"/>
            <a:ext cx="1752480" cy="7621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6720" y="36226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38480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94320" y="4384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1880" y="33177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194000" y="3693600"/>
            <a:ext cx="2089440" cy="2951280"/>
            <a:chOff x="4194000" y="3693600"/>
            <a:chExt cx="2089440" cy="2951280"/>
          </a:xfrm>
        </p:grpSpPr>
        <p:sp>
          <p:nvSpPr>
            <p:cNvPr id="146" name=""/>
            <p:cNvSpPr/>
            <p:nvPr/>
          </p:nvSpPr>
          <p:spPr>
            <a:xfrm>
              <a:off x="4194000" y="6141600"/>
              <a:ext cx="395280" cy="503280"/>
            </a:xfrm>
            <a:prstGeom prst="downArrow">
              <a:avLst>
                <a:gd name="adj1" fmla="val 50000"/>
                <a:gd name="adj2" fmla="val 31831"/>
              </a:avLst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4338360" y="6141600"/>
              <a:ext cx="194292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5203800" y="3693600"/>
              <a:ext cx="1077840" cy="215640"/>
            </a:xfrm>
            <a:prstGeom prst="rect">
              <a:avLst/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6067440" y="3695040"/>
              <a:ext cx="216000" cy="26622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80920" y="3695040"/>
            <a:ext cx="180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6000" y="3911040"/>
            <a:ext cx="1440" cy="223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614196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2360" y="635796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03080" y="3693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97280" y="3597120"/>
            <a:ext cx="720720" cy="1898640"/>
            <a:chOff x="2897280" y="3597120"/>
            <a:chExt cx="720720" cy="1898640"/>
          </a:xfrm>
        </p:grpSpPr>
        <p:grpSp>
          <p:nvGrpSpPr>
            <p:cNvPr id="156" name=""/>
            <p:cNvGrpSpPr/>
            <p:nvPr/>
          </p:nvGrpSpPr>
          <p:grpSpPr>
            <a:xfrm>
              <a:off x="2897280" y="3597120"/>
              <a:ext cx="720720" cy="1898640"/>
              <a:chOff x="2897280" y="3597120"/>
              <a:chExt cx="720720" cy="1898640"/>
            </a:xfrm>
          </p:grpSpPr>
          <p:sp>
            <p:nvSpPr>
              <p:cNvPr id="157" name=""/>
              <p:cNvSpPr/>
              <p:nvPr/>
            </p:nvSpPr>
            <p:spPr>
              <a:xfrm rot="16200000">
                <a:off x="3060720" y="3435120"/>
                <a:ext cx="395280" cy="719280"/>
              </a:xfrm>
              <a:prstGeom prst="downArrow">
                <a:avLst>
                  <a:gd name="adj1" fmla="val 50000"/>
                  <a:gd name="adj2" fmla="val 45492"/>
                </a:avLst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98720" y="5277960"/>
                <a:ext cx="504720" cy="217800"/>
              </a:xfrm>
              <a:prstGeom prst="rect">
                <a:avLst/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97280" y="3693960"/>
                <a:ext cx="215640" cy="1800000"/>
              </a:xfrm>
              <a:prstGeom prst="rect">
                <a:avLst/>
              </a:prstGeom>
              <a:solidFill>
                <a:srgbClr val="356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898720" y="3693960"/>
                <a:ext cx="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3114720" y="3909240"/>
                <a:ext cx="0" cy="136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98360" y="369396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898720" y="549396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8T22:16:24Z</dcterms:modified>
  <cp:revision>52</cp:revision>
  <dc:subject/>
  <dc:title>Clase12</dc:title>
</cp:coreProperties>
</file>