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AF1-AE35-4396-B302-660B5CBE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01C5-2E8F-4651-87B8-BC151ED2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FA2B-FE45-4096-8C34-EACBC52D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C463-B1E7-4190-9D7E-41F7D835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D28-CB93-4E84-94E6-15454781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EC5-5361-4603-90C0-15BAC33A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726-0007-401B-985F-EEE6F9F1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AAC5-1927-485F-BC1D-0F0C3003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591-D7F4-4ABA-B087-CB18EB51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05F-A052-44DC-9B1D-5857E436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FC2-F6D0-436D-B003-F1046BF4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2F5-C415-4D7E-B878-9C3FC3A5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B186-9CFC-485C-A633-6D41C7CC429E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2172960"/>
            <a:ext cx="7140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5: whil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727960"/>
            <a:ext cx="81378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cución del Progra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628640"/>
          <a:ext cx="7918560" cy="4114800"/>
        </p:xfrm>
        <a:graphic>
          <a:graphicData uri="http://schemas.openxmlformats.org/drawingml/2006/table">
            <a:tbl>
              <a:tblPr/>
              <a:tblGrid>
                <a:gridCol w="646200"/>
                <a:gridCol w="2016000"/>
                <a:gridCol w="1079640"/>
                <a:gridCol w="215640"/>
                <a:gridCol w="649440"/>
                <a:gridCol w="2158920"/>
                <a:gridCol w="11527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 n=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¿Qué sucede si la condición es falsa la primera vez?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ximo=U.readInt(“nº máximo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 n &lt;= maximo 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422100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maximo&lt;2,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no se repiten nunc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sta propiedad permite diseñar ciclos que eventualmente no se repiten nun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¿Qué sucede si la condición es siempre verdadera?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371628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se repiten indefinidamente (“loop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rror: no se incrementa variabl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l programador debe preocuparse de incluir instrucciones que influyan en la condición, de modo que eventualmente sea fa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que calcule el promedio de una cantidad indeterminada de números reales siguiendo el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1 promedio=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5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2 promedio=5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l número 0 se usa como indicador de fin de da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Usando patrón leer/while/procesar/le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acumulador(sumatoria) y contador de númer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primera no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repetir hasta fin de da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 numero != 0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procesar nu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siguiente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sumar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uma = suma + numero; //variable=expresió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suma + no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guardar resultado en variable suma (reemplazando valor previ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r ejemplo, la 1ª vez suma=0.0 y numero=4.5, por lo tanto, suma+numero es 4.5 y se guarda como el nuevo valor de su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2ª vez, suma=4.5 y numero=5.5 entonces suma+numero es 10.0 que reemplaza el valor de su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incrementar contad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//variable=expresió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n+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guardar resultado en variable n (reemplazando valor previ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Usando patrón while(true)-bre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repetir indefinidam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while(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) //condición siempre verdader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obtener nú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numero=U.readDouble(“número ? “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quebrar repetición al detectar f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numero==0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//pasa a inst sgte a w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procesar nú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La variable numero es local (interna) al bloque {…}, es decir, se crea (“nace”) al comienzo de cada iteración y desaparece (“muere”) al terminar de ejecutarse las instrucciones del bloq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rcici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para el siguiente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divine X (entero entre 1 y 1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? </a:t>
            </a:r>
            <a:r>
              <a:rPr b="0" lang="es-ES_tradnl" sz="2800" spc="-1" strike="noStrike">
                <a:solidFill>
                  <a:srgbClr val="ff0000"/>
                </a:solidFill>
                <a:latin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&gt; 3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? </a:t>
            </a:r>
            <a:r>
              <a:rPr b="0" lang="es-ES_tradnl" sz="2800" spc="-1" strike="noStrike">
                <a:solidFill>
                  <a:srgbClr val="ff0000"/>
                </a:solidFill>
                <a:latin typeface="Courier New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&lt; 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 ? </a:t>
            </a:r>
            <a:r>
              <a:rPr b="0" lang="es-ES" sz="2800" spc="-1" strike="noStrike">
                <a:solidFill>
                  <a:srgbClr val="ff0000"/>
                </a:solidFill>
                <a:latin typeface="Courier New"/>
              </a:rPr>
              <a:t>73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 = 73 Felicit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195280" y="2491920"/>
            <a:ext cx="136836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4360" y="27813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95280" y="3141720"/>
            <a:ext cx="1368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Sol. 1: esquema (patrón) leer-while-procesar-leer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x=U.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prime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U.readInt("X ?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hasta detectar fin de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 n != x 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procesa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 &gt; n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gt; “+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lt; “+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siguiente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 = U.readInt("X ? "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instrucciones fin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X = “+n+” Felicitaciones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Sol. 2: esquema (patrón) while(true){… break; …}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x=U.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indefinid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while(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U.readInt("X ?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quebrar repetición al detectar f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n == x 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procesa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 &gt; n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gt; “+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lt; “+n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X = “+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+” Felicitaciones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condición) instrucción1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strucción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se cumple (es verdadera), ejecutar instrucción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no se cumple (es falsa), ejecutar instrucc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3645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148280"/>
            <a:ext cx="1187640" cy="93636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357192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3274560" y="4508640"/>
            <a:ext cx="647640" cy="57456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0800000">
            <a:off x="5290200" y="4508640"/>
            <a:ext cx="647640" cy="576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4076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95640" y="443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348000" y="5661000"/>
            <a:ext cx="2592360" cy="1008000"/>
            <a:chOff x="3348000" y="5661000"/>
            <a:chExt cx="2592360" cy="1008000"/>
          </a:xfrm>
        </p:grpSpPr>
        <p:sp>
          <p:nvSpPr>
            <p:cNvPr id="117" name=""/>
            <p:cNvSpPr/>
            <p:nvPr/>
          </p:nvSpPr>
          <p:spPr>
            <a:xfrm>
              <a:off x="4498920" y="6092640"/>
              <a:ext cx="360360" cy="576360"/>
            </a:xfrm>
            <a:prstGeom prst="downArrow">
              <a:avLst>
                <a:gd name="adj1" fmla="val 50000"/>
                <a:gd name="adj2" fmla="val 39985"/>
              </a:avLst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48000" y="6164280"/>
              <a:ext cx="122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7640" y="616428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8000" y="5661000"/>
              <a:ext cx="2156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22920" y="5661000"/>
              <a:ext cx="2174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48000" y="5948280"/>
              <a:ext cx="251928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3640" y="594828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Propuest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odificar de modo de permitir al usuario rendirse y pedir ayu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programa que adivine Nº que piensa una persona (que no mient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programa que le permita a una persona jugar contra el computa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Tarea 1: Toque y Fa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cha de Entrega: Viernes, 6 de Abril 23:59:5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ugar de Entrega: U-cursos, Tar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se permiten atra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 tarea es individ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pezar ahora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Tipo boolea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constant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(verdadero) y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 (falso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variabl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nombre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expresion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condicion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asignación: </a:t>
            </a: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variable=condición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p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 = a&gt;=b &amp;&amp; a&gt;=c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p ) //equivalencia: if( p==true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mayor=”+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%2=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quivalenci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2==0) return true; else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ar(n))… ;else …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ombre(parámetros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ndición (exp de tipo boolea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un programa que muestre la siguiente tabl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Nº  raiz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4142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7320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0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5.44772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Solución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hasta que n &gt; 30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mientras 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30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inicializar variable n con valor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etir mientras n&lt;=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escribir n y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sumar 1 a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36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 condición 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, si se necesita repetir varias instrucciones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condición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36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entras condición se cumpla (sea tru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cutar instrucción(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raficamen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3830760" y="3317760"/>
            <a:ext cx="1218960" cy="99072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270828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25840" y="4994280"/>
            <a:ext cx="1752480" cy="7621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(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06720" y="362268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38480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94320" y="4384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51880" y="33177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194000" y="3693600"/>
            <a:ext cx="2089440" cy="2951280"/>
            <a:chOff x="4194000" y="3693600"/>
            <a:chExt cx="2089440" cy="2951280"/>
          </a:xfrm>
        </p:grpSpPr>
        <p:sp>
          <p:nvSpPr>
            <p:cNvPr id="146" name=""/>
            <p:cNvSpPr/>
            <p:nvPr/>
          </p:nvSpPr>
          <p:spPr>
            <a:xfrm>
              <a:off x="4194000" y="6141600"/>
              <a:ext cx="395280" cy="503280"/>
            </a:xfrm>
            <a:prstGeom prst="downArrow">
              <a:avLst>
                <a:gd name="adj1" fmla="val 50000"/>
                <a:gd name="adj2" fmla="val 31831"/>
              </a:avLst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00000">
              <a:off x="4338360" y="6141600"/>
              <a:ext cx="194292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00000">
              <a:off x="5203800" y="3693600"/>
              <a:ext cx="1077840" cy="215640"/>
            </a:xfrm>
            <a:prstGeom prst="rect">
              <a:avLst/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0800000">
              <a:off x="6067440" y="3695040"/>
              <a:ext cx="216000" cy="26622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80920" y="3695040"/>
            <a:ext cx="1800" cy="26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6000" y="3911040"/>
            <a:ext cx="1440" cy="223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8720" y="614196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82360" y="635796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03080" y="369396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897280" y="3597120"/>
            <a:ext cx="720720" cy="1898640"/>
            <a:chOff x="2897280" y="3597120"/>
            <a:chExt cx="720720" cy="1898640"/>
          </a:xfrm>
        </p:grpSpPr>
        <p:grpSp>
          <p:nvGrpSpPr>
            <p:cNvPr id="156" name=""/>
            <p:cNvGrpSpPr/>
            <p:nvPr/>
          </p:nvGrpSpPr>
          <p:grpSpPr>
            <a:xfrm>
              <a:off x="2897280" y="3597120"/>
              <a:ext cx="720720" cy="1898640"/>
              <a:chOff x="2897280" y="3597120"/>
              <a:chExt cx="720720" cy="1898640"/>
            </a:xfrm>
          </p:grpSpPr>
          <p:sp>
            <p:nvSpPr>
              <p:cNvPr id="157" name=""/>
              <p:cNvSpPr/>
              <p:nvPr/>
            </p:nvSpPr>
            <p:spPr>
              <a:xfrm rot="16200000">
                <a:off x="3060720" y="3435120"/>
                <a:ext cx="395280" cy="719280"/>
              </a:xfrm>
              <a:prstGeom prst="downArrow">
                <a:avLst>
                  <a:gd name="adj1" fmla="val 50000"/>
                  <a:gd name="adj2" fmla="val 45492"/>
                </a:avLst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98720" y="5277960"/>
                <a:ext cx="504720" cy="217800"/>
              </a:xfrm>
              <a:prstGeom prst="rect">
                <a:avLst/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97280" y="3693960"/>
                <a:ext cx="215640" cy="1800000"/>
              </a:xfrm>
              <a:prstGeom prst="rect">
                <a:avLst/>
              </a:prstGeom>
              <a:solidFill>
                <a:srgbClr val="356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2898720" y="3693960"/>
                <a:ext cx="0" cy="180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3114720" y="3909240"/>
                <a:ext cx="0" cy="136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898360" y="369396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898720" y="549396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18T22:16:24Z</dcterms:modified>
  <cp:revision>52</cp:revision>
  <dc:subject/>
  <dc:title>Clase12</dc:title>
</cp:coreProperties>
</file>