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B72C-25EE-4255-9B4E-01F530485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53268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53AF-D806-41FD-88A1-E5D83C196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7EE7-0C35-4C0C-BDD2-876F2A012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53268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53268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53268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D7B5-1478-471D-86B8-32572EB53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826560" y="115560"/>
            <a:ext cx="7372440" cy="28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0F6A-2766-4CD4-8280-AA4C2FD2F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53268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53268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53268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53268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53268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D1AC-91FF-4070-93B9-45A6AA013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018A-61BB-44F1-AEBA-2525BD2F5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FF05-BE0D-48C1-893F-D6C00D244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826560" y="115560"/>
            <a:ext cx="7372440" cy="28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254A-DCF7-40E1-952C-46FD46FCA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6763-BFB7-49BE-9A38-E1CFA7255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B894-D9A3-48FC-8F84-F8A3E00F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268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D984-DF9A-4A4D-B51A-D3AFBB3C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905120"/>
            <a:ext cx="38088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8686080" y="1905120"/>
            <a:ext cx="45396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1371240" y="6552720"/>
            <a:ext cx="716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822cd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50DCC-A529-416D-811C-48355AE27717}" type="slidenum">
              <a:rPr b="0" lang="es-ES_tradnl" sz="1400" spc="-1" strike="noStrike">
                <a:solidFill>
                  <a:srgbClr val="1822cd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1125000"/>
            <a:chOff x="0" y="0"/>
            <a:chExt cx="9144000" cy="1125000"/>
          </a:xfrm>
        </p:grpSpPr>
        <p:grpSp>
          <p:nvGrpSpPr>
            <p:cNvPr id="6" name=""/>
            <p:cNvGrpSpPr/>
            <p:nvPr/>
          </p:nvGrpSpPr>
          <p:grpSpPr>
            <a:xfrm>
              <a:off x="6480" y="783000"/>
              <a:ext cx="9137520" cy="244080"/>
              <a:chOff x="6480" y="783000"/>
              <a:chExt cx="9137520" cy="244080"/>
            </a:xfrm>
          </p:grpSpPr>
          <p:sp>
            <p:nvSpPr>
              <p:cNvPr id="7" name=""/>
              <p:cNvSpPr/>
              <p:nvPr/>
            </p:nvSpPr>
            <p:spPr>
              <a:xfrm flipV="1">
                <a:off x="6480" y="796680"/>
                <a:ext cx="9137520" cy="5940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480" y="857160"/>
                <a:ext cx="9137520" cy="14400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480" y="783000"/>
                <a:ext cx="9137520" cy="1476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V="1">
                <a:off x="6480" y="997920"/>
                <a:ext cx="9137520" cy="2844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480" y="852480"/>
                <a:ext cx="9137520" cy="2844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0"/>
              <a:ext cx="9144000" cy="783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40" y="1027440"/>
              <a:ext cx="9140760" cy="9756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680" y="760320"/>
              <a:ext cx="9139320" cy="47520"/>
            </a:xfrm>
            <a:prstGeom prst="rect">
              <a:avLst/>
            </a:prstGeom>
            <a:solidFill>
              <a:srgbClr val="777777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" name="PlaceHolder 4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22c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body"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99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3505320"/>
              <a:ext cx="9137520" cy="380160"/>
              <a:chOff x="0" y="3505320"/>
              <a:chExt cx="9137520" cy="380160"/>
            </a:xfrm>
          </p:grpSpPr>
          <p:sp>
            <p:nvSpPr>
              <p:cNvPr id="56" name=""/>
              <p:cNvSpPr/>
              <p:nvPr/>
            </p:nvSpPr>
            <p:spPr>
              <a:xfrm flipV="1">
                <a:off x="0" y="3527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3620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505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V="1">
                <a:off x="0" y="3840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3613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22c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algn="ctr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00240" algn="ctr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542960" algn="ctr">
              <a:spcBef>
                <a:spcPts val="4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07720" y="2172960"/>
            <a:ext cx="7140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Verdana"/>
              </a:rPr>
              <a:t>Clase 5: while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826920" y="5727960"/>
            <a:ext cx="813780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Valeria Herskovic – vherskov@dcc.uchile.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C1001 Computación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Ejecución del Programa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68360" y="1628640"/>
          <a:ext cx="7918560" cy="4114800"/>
        </p:xfrm>
        <a:graphic>
          <a:graphicData uri="http://schemas.openxmlformats.org/drawingml/2006/table">
            <a:tbl>
              <a:tblPr/>
              <a:tblGrid>
                <a:gridCol w="646200"/>
                <a:gridCol w="2016000"/>
                <a:gridCol w="1079640"/>
                <a:gridCol w="215640"/>
                <a:gridCol w="649440"/>
                <a:gridCol w="2158920"/>
                <a:gridCol w="1152720"/>
              </a:tblGrid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c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c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 n=2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=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ile(n&lt;=3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5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=n+1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=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ntln(…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1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ile(n&lt;=3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=n+1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=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7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ntln(…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 5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ile(n&lt;=3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8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=n+1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=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ntln(…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 1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9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ile(n&lt;=3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=n+1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=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822cd"/>
                </a:solidFill>
                <a:latin typeface="Verdana"/>
              </a:rPr>
              <a:t>¿Qué sucede si la condición es falsa la primera vez?</a:t>
            </a:r>
            <a:endParaRPr b="1" lang="en-US" sz="2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maximo=U.readInt(“nº máximo?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n = 2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while( n &lt;= maximo 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n + " " + Math.sqrt(n)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 = n + 1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395280" y="4221000"/>
            <a:ext cx="82296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 maximo&lt;2,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as instrucciones no se repiten nunc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Not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. Esta propiedad permite diseñar ciclos que eventualmente no se repiten nun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822cd"/>
                </a:solidFill>
                <a:latin typeface="Verdana"/>
              </a:rPr>
              <a:t>¿Qué sucede si la condición es siempre verdadera?</a:t>
            </a:r>
            <a:endParaRPr b="1" lang="en-US" sz="2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"Nº raiz"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n = 2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le( n &lt;= 30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n + " " + Math.sqrt(n)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324000" y="3716280"/>
            <a:ext cx="82296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as instrucciones se repiten indefinidamente (“loop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rror: no se incrementa variable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Not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. El programador debe preocuparse de incluir instrucciones que influyan en la condición, de modo que eventualmente sea fal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Problema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cribir un programa que calcule el promedio de una cantidad indeterminada de números reales siguiendo el diálog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número ? 4.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cuenta=1 promedio=4.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número ? 5.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cuenta=2 promedio=5.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número ? 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Nota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El número 0 se usa como indicador de fin de dat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822cd"/>
                </a:solidFill>
                <a:latin typeface="Verdana"/>
              </a:rPr>
              <a:t>Solución 1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Verdana"/>
              </a:rPr>
              <a:t>Usando patrón leer/while/procesar/le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//acumulador(sumatoria) y contador de númer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double suma=0; int n=0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//obtener primera not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double numero=U.readDouble("número ? "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//repetir hasta fin de dat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while( numero != 0 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//procesar numer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suma=suma+numero; n=n+1;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U.println("cuenta="+n+“ promedio=”+suma/n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//obtener siguiente númer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numero=U.readDouble("número ? "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Explicaciones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7138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//sumar númer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suma = suma + numero; //variable=expresión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1º evaluar expresión suma + no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2º guardar resultado en variable suma (reemplazando valor previ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or ejemplo, la 1ª vez suma=0.0 y numero=4.5, por lo tanto, suma+numero es 4.5 y se guarda como el nuevo valor de sum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a 2ª vez, suma=4.5 y numero=5.5 entonces suma+numero es 10.0 que reemplaza el valor de su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//incrementar contad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n = n + 1;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//variable=expresión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1º evaluar expresión n+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2º guardar resultado en variable n (reemplazando valor previ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Solución 2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Usando patrón while(true)-brea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double suma=0; int n=0;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//repetir indefinidamen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while(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) //condición siempre verdadera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//obtener númer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double numero=U.readDouble(“número ? “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//quebrar repetición al detectar fi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(numero==0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//pasa a inst sgte a whi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//procesar númer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suma=suma+numero; n=n+1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U.println("cuenta="+n+“ promedio=”+suma/n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Nota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. La variable numero es local (interna) al bloque {…}, es decir, se crea (“nace”) al comienzo de cada iteración y desaparece (“muere”) al terminar de ejecutarse las instrucciones del bloqu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Ejercicio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cribir un programa para el siguiente diálog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Adivine X (entero entre 1 y 100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X ? </a:t>
            </a:r>
            <a:r>
              <a:rPr b="0" lang="es-ES_tradnl" sz="2800" spc="-1" strike="noStrike">
                <a:solidFill>
                  <a:srgbClr val="ff0000"/>
                </a:solidFill>
                <a:latin typeface="Courier New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X &gt; 3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X ? </a:t>
            </a:r>
            <a:r>
              <a:rPr b="0" lang="es-ES_tradnl" sz="2800" spc="-1" strike="noStrike">
                <a:solidFill>
                  <a:srgbClr val="ff0000"/>
                </a:solidFill>
                <a:latin typeface="Courier New"/>
              </a:rPr>
              <a:t>8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X &lt; 8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X ? </a:t>
            </a:r>
            <a:r>
              <a:rPr b="0" lang="es-ES" sz="2800" spc="-1" strike="noStrike">
                <a:solidFill>
                  <a:srgbClr val="ff0000"/>
                </a:solidFill>
                <a:latin typeface="Courier New"/>
              </a:rPr>
              <a:t>73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X = 73 Felicitaci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2195280" y="2491920"/>
            <a:ext cx="1368360" cy="57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64360" y="278136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usu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195280" y="3141720"/>
            <a:ext cx="1368360" cy="2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22cd"/>
                </a:solidFill>
                <a:latin typeface="Verdana"/>
              </a:rPr>
              <a:t>Sol. 1: esquema (patrón) leer-while-procesar-leer</a:t>
            </a:r>
            <a:endParaRPr b="1" lang="en-US" sz="2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t x=U.azar(1,100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obtener primer da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 = U.readInt("X ? 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repetir hasta detectar fin de dat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( n != x 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procesar da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 x &gt; n 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.println(“X &gt; “+n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.println(“X &lt; “+n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obtener siguiente da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n = U.readInt("X ? ");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instrucciones fina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"X = “+n+” Felicitaciones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22cd"/>
                </a:solidFill>
                <a:latin typeface="Verdana"/>
              </a:rPr>
              <a:t>Sol. 2: esquema (patrón) while(true){… break; …}</a:t>
            </a:r>
            <a:endParaRPr b="1" lang="en-US" sz="2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t x=U.azar(1,100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repetir indefinidam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while(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){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obtener da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 = U.readInt("X ? 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quebrar repetición al detectar f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 n == x 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procesar da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 x &gt; n 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.println(“X &gt; “+n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.println(“X &lt; “+n)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"X = “+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+” Felicitaciones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Instrucción if-else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3848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Semántic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 condición) instrucción1;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strucción2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8320" y="1125000"/>
            <a:ext cx="40384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i condición se cumple (es verdadera), ejecutar instrucción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i condición no se cumple (es falsa), ejecutar instrucción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539640" y="364500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ráfic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95640" y="4148280"/>
            <a:ext cx="1187640" cy="936360"/>
          </a:xfrm>
          <a:prstGeom prst="diamond">
            <a:avLst/>
          </a:prstGeom>
          <a:solidFill>
            <a:srgbClr val="b3d1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27640" y="3571920"/>
            <a:ext cx="395280" cy="503280"/>
          </a:xfrm>
          <a:prstGeom prst="downArrow">
            <a:avLst>
              <a:gd name="adj1" fmla="val 50000"/>
              <a:gd name="adj2" fmla="val 31831"/>
            </a:avLst>
          </a:prstGeom>
          <a:solidFill>
            <a:srgbClr val="3568c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0800000">
            <a:off x="3274560" y="4508640"/>
            <a:ext cx="647640" cy="574560"/>
          </a:xfrm>
          <a:custGeom>
            <a:avLst/>
            <a:gdLst>
              <a:gd name="textAreaLeft" fmla="*/ 216000 w 647640"/>
              <a:gd name="textAreaRight" fmla="*/ 554760 w 647640"/>
              <a:gd name="textAreaTop" fmla="*/ 330840 h 574560"/>
              <a:gd name="textAreaBottom" fmla="*/ 492120 h 574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568c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 rot="10800000">
            <a:off x="5290200" y="4508640"/>
            <a:ext cx="647640" cy="576000"/>
          </a:xfrm>
          <a:custGeom>
            <a:avLst/>
            <a:gdLst>
              <a:gd name="textAreaLeft" fmla="*/ 216000 w 647640"/>
              <a:gd name="textAreaRight" fmla="*/ 554760 w 647640"/>
              <a:gd name="textAreaTop" fmla="*/ 331920 h 576000"/>
              <a:gd name="textAreaBottom" fmla="*/ 49356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568c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43280" y="5156280"/>
            <a:ext cx="1368360" cy="504720"/>
          </a:xfrm>
          <a:prstGeom prst="rect">
            <a:avLst/>
          </a:prstGeom>
          <a:solidFill>
            <a:srgbClr val="b3d1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strucción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48360" y="5156280"/>
            <a:ext cx="1368360" cy="504720"/>
          </a:xfrm>
          <a:prstGeom prst="rect">
            <a:avLst/>
          </a:prstGeom>
          <a:solidFill>
            <a:srgbClr val="b3d1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strucción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48000" y="407664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64000" y="407664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95640" y="443700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d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3348000" y="5661000"/>
            <a:ext cx="2592360" cy="1008000"/>
            <a:chOff x="3348000" y="5661000"/>
            <a:chExt cx="2592360" cy="1008000"/>
          </a:xfrm>
        </p:grpSpPr>
        <p:sp>
          <p:nvSpPr>
            <p:cNvPr id="117" name=""/>
            <p:cNvSpPr/>
            <p:nvPr/>
          </p:nvSpPr>
          <p:spPr>
            <a:xfrm>
              <a:off x="4498920" y="6092640"/>
              <a:ext cx="360360" cy="576360"/>
            </a:xfrm>
            <a:prstGeom prst="downArrow">
              <a:avLst>
                <a:gd name="adj1" fmla="val 50000"/>
                <a:gd name="adj2" fmla="val 39985"/>
              </a:avLst>
            </a:prstGeom>
            <a:solidFill>
              <a:srgbClr val="3568c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348000" y="6164280"/>
              <a:ext cx="1223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787640" y="6164280"/>
              <a:ext cx="115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348000" y="5661000"/>
              <a:ext cx="215640" cy="503280"/>
            </a:xfrm>
            <a:prstGeom prst="rect">
              <a:avLst/>
            </a:prstGeom>
            <a:solidFill>
              <a:srgbClr val="3568c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722920" y="5661000"/>
              <a:ext cx="217440" cy="503280"/>
            </a:xfrm>
            <a:prstGeom prst="rect">
              <a:avLst/>
            </a:prstGeom>
            <a:solidFill>
              <a:srgbClr val="3568c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348000" y="5948280"/>
              <a:ext cx="2519280" cy="216000"/>
            </a:xfrm>
            <a:prstGeom prst="rect">
              <a:avLst/>
            </a:prstGeom>
            <a:solidFill>
              <a:srgbClr val="356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63640" y="5948280"/>
              <a:ext cx="215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1822cd"/>
                </a:solidFill>
                <a:latin typeface="Verdana"/>
              </a:rPr>
              <a:t>Propuestos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Modificar de modo de permitir al usuario rendirse y pedir ayud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Escribir programa que adivine Nº que piensa una persona (que no miente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Escribir programa que le permita a una persona jugar contra el computad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Tarea 1: Toque y Fama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echa de Entrega: Viernes, 6 de Abril 23:59:5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ugar de Entrega: U-cursos, Tarea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 se permiten atras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 tarea es individ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mpezar ahora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Tipo boolean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Verdana"/>
              </a:rPr>
              <a:t>constantes</a:t>
            </a:r>
            <a:r>
              <a:rPr b="0" lang="es-ES" sz="27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es-ES" sz="27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s-ES" sz="2700" spc="-1" strike="noStrike">
                <a:solidFill>
                  <a:srgbClr val="000000"/>
                </a:solidFill>
                <a:latin typeface="Verdana"/>
              </a:rPr>
              <a:t> (verdadero) y </a:t>
            </a:r>
            <a:r>
              <a:rPr b="1" lang="es-ES" sz="27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s-ES" sz="2700" spc="-1" strike="noStrike">
                <a:solidFill>
                  <a:srgbClr val="000000"/>
                </a:solidFill>
                <a:latin typeface="Verdana"/>
              </a:rPr>
              <a:t>  (falso)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Verdana"/>
              </a:rPr>
              <a:t>variables</a:t>
            </a:r>
            <a:r>
              <a:rPr b="0" lang="es-ES" sz="27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es-ES" sz="27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s-ES" sz="2700" spc="-1" strike="noStrike">
                <a:solidFill>
                  <a:srgbClr val="000000"/>
                </a:solidFill>
                <a:latin typeface="Verdana"/>
              </a:rPr>
              <a:t> nombre;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Verdana"/>
              </a:rPr>
              <a:t>expresiones</a:t>
            </a:r>
            <a:r>
              <a:rPr b="0" lang="es-ES" sz="2700" spc="-1" strike="noStrike">
                <a:solidFill>
                  <a:srgbClr val="000000"/>
                </a:solidFill>
                <a:latin typeface="Verdana"/>
              </a:rPr>
              <a:t>: condicione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Verdana"/>
              </a:rPr>
              <a:t>asignación: </a:t>
            </a:r>
            <a:r>
              <a:rPr b="0" lang="es-ES" sz="2700" spc="-1" strike="noStrike">
                <a:solidFill>
                  <a:srgbClr val="000000"/>
                </a:solidFill>
                <a:latin typeface="Courier New"/>
              </a:rPr>
              <a:t>variable=condición;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Verdana"/>
              </a:rPr>
              <a:t>ejemplos: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oolean p 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 = a&gt;=b &amp;&amp; a&gt;=c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f( p ) //equivalencia: if( p==true 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U.println(“mayor=”+a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Funciones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jempl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boolean par(int x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x%2==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quivalencia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boolean par(int x){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x%2==0) return true; else return fals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par(n))… ;else …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intax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nombre(parámetros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struccione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condición (exp de tipo boolean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Problema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Escribir un programa que muestre la siguiente tabla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Nº  raiz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1.4142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1.73205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30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5.447723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Verdana"/>
              </a:rPr>
              <a:t>Solución?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Algoritmo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inicializar variable n con valor 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repetir hasta que n &gt; 30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cribir n y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umar 1 a 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alternativamen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inicializar variable n con valor 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repetir mientras n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 30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cribir n y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umar 1 a 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Programa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"Nº raiz"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//inicializar variable n con valor 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n = 2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repetir mientras n&lt;=3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le( n &lt;= 30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//escribir n y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n + " " + Math.sqrt(n)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//sumar 1 a 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 = n + 1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Instrucción </a:t>
            </a:r>
            <a:r>
              <a:rPr b="1" lang="en-US" sz="3600" spc="-1" strike="noStrike">
                <a:solidFill>
                  <a:srgbClr val="1822cd"/>
                </a:solidFill>
                <a:latin typeface="Courier New"/>
              </a:rPr>
              <a:t>while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Sintax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while( condición )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instrucción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o, si se necesita repetir varias instrucciones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while(condición)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instrucciones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Instrucción </a:t>
            </a:r>
            <a:r>
              <a:rPr b="1" lang="en-US" sz="3600" spc="-1" strike="noStrike">
                <a:solidFill>
                  <a:srgbClr val="1822cd"/>
                </a:solidFill>
                <a:latin typeface="Courier New"/>
              </a:rPr>
              <a:t>while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Semántic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Mientras condición se cumpla (sea true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jecutar instrucción(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graficament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3830760" y="3317760"/>
            <a:ext cx="1218960" cy="990720"/>
          </a:xfrm>
          <a:prstGeom prst="diamond">
            <a:avLst/>
          </a:prstGeom>
          <a:solidFill>
            <a:srgbClr val="b3d1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211640" y="2708280"/>
            <a:ext cx="395280" cy="503280"/>
          </a:xfrm>
          <a:prstGeom prst="downArrow">
            <a:avLst>
              <a:gd name="adj1" fmla="val 50000"/>
              <a:gd name="adj2" fmla="val 31831"/>
            </a:avLst>
          </a:prstGeom>
          <a:solidFill>
            <a:srgbClr val="3568c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25840" y="4994280"/>
            <a:ext cx="1752480" cy="762120"/>
          </a:xfrm>
          <a:prstGeom prst="rect">
            <a:avLst/>
          </a:prstGeom>
          <a:solidFill>
            <a:srgbClr val="b3d1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strucción(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906720" y="3622680"/>
            <a:ext cx="172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d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11640" y="4384800"/>
            <a:ext cx="395280" cy="503280"/>
          </a:xfrm>
          <a:prstGeom prst="downArrow">
            <a:avLst>
              <a:gd name="adj1" fmla="val 50000"/>
              <a:gd name="adj2" fmla="val 31831"/>
            </a:avLst>
          </a:prstGeom>
          <a:solidFill>
            <a:srgbClr val="3568c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94320" y="43848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051880" y="33177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4194000" y="3693600"/>
            <a:ext cx="2089440" cy="2951280"/>
            <a:chOff x="4194000" y="3693600"/>
            <a:chExt cx="2089440" cy="2951280"/>
          </a:xfrm>
        </p:grpSpPr>
        <p:sp>
          <p:nvSpPr>
            <p:cNvPr id="146" name=""/>
            <p:cNvSpPr/>
            <p:nvPr/>
          </p:nvSpPr>
          <p:spPr>
            <a:xfrm>
              <a:off x="4194000" y="6141600"/>
              <a:ext cx="395280" cy="503280"/>
            </a:xfrm>
            <a:prstGeom prst="downArrow">
              <a:avLst>
                <a:gd name="adj1" fmla="val 50000"/>
                <a:gd name="adj2" fmla="val 31831"/>
              </a:avLst>
            </a:prstGeom>
            <a:solidFill>
              <a:srgbClr val="3568c7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10800000">
              <a:off x="4338360" y="6141600"/>
              <a:ext cx="1942920" cy="216000"/>
            </a:xfrm>
            <a:prstGeom prst="rect">
              <a:avLst/>
            </a:prstGeom>
            <a:solidFill>
              <a:srgbClr val="356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10800000">
              <a:off x="5203800" y="3693600"/>
              <a:ext cx="1077840" cy="215640"/>
            </a:xfrm>
            <a:prstGeom prst="rect">
              <a:avLst/>
            </a:prstGeom>
            <a:solidFill>
              <a:srgbClr val="3568c7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10800000">
              <a:off x="6067440" y="3695040"/>
              <a:ext cx="216000" cy="2662200"/>
            </a:xfrm>
            <a:prstGeom prst="rect">
              <a:avLst/>
            </a:prstGeom>
            <a:solidFill>
              <a:srgbClr val="356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6280920" y="3695040"/>
            <a:ext cx="1800" cy="266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66000" y="3911040"/>
            <a:ext cx="1440" cy="223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338720" y="6141960"/>
            <a:ext cx="172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482360" y="6357960"/>
            <a:ext cx="180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03080" y="3693960"/>
            <a:ext cx="107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2897280" y="3597120"/>
            <a:ext cx="720720" cy="1898640"/>
            <a:chOff x="2897280" y="3597120"/>
            <a:chExt cx="720720" cy="1898640"/>
          </a:xfrm>
        </p:grpSpPr>
        <p:grpSp>
          <p:nvGrpSpPr>
            <p:cNvPr id="156" name=""/>
            <p:cNvGrpSpPr/>
            <p:nvPr/>
          </p:nvGrpSpPr>
          <p:grpSpPr>
            <a:xfrm>
              <a:off x="2897280" y="3597120"/>
              <a:ext cx="720720" cy="1898640"/>
              <a:chOff x="2897280" y="3597120"/>
              <a:chExt cx="720720" cy="1898640"/>
            </a:xfrm>
          </p:grpSpPr>
          <p:sp>
            <p:nvSpPr>
              <p:cNvPr id="157" name=""/>
              <p:cNvSpPr/>
              <p:nvPr/>
            </p:nvSpPr>
            <p:spPr>
              <a:xfrm rot="16200000">
                <a:off x="3060720" y="3435120"/>
                <a:ext cx="395280" cy="719280"/>
              </a:xfrm>
              <a:prstGeom prst="downArrow">
                <a:avLst>
                  <a:gd name="adj1" fmla="val 50000"/>
                  <a:gd name="adj2" fmla="val 45492"/>
                </a:avLst>
              </a:prstGeom>
              <a:solidFill>
                <a:srgbClr val="3568c7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898720" y="5277960"/>
                <a:ext cx="504720" cy="217800"/>
              </a:xfrm>
              <a:prstGeom prst="rect">
                <a:avLst/>
              </a:prstGeom>
              <a:solidFill>
                <a:srgbClr val="3568c7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897280" y="3693960"/>
                <a:ext cx="215640" cy="1800000"/>
              </a:xfrm>
              <a:prstGeom prst="rect">
                <a:avLst/>
              </a:prstGeom>
              <a:solidFill>
                <a:srgbClr val="3568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2898720" y="3693960"/>
                <a:ext cx="0" cy="1800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3114720" y="3909240"/>
                <a:ext cx="0" cy="1368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>
                <a:off x="2898360" y="3693960"/>
                <a:ext cx="431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>
              <a:off x="2898720" y="5493960"/>
              <a:ext cx="504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4:27:06Z</dcterms:created>
  <dc:creator>V. Herskovic</dc:creator>
  <dc:description/>
  <dc:language>en-US</dc:language>
  <cp:lastModifiedBy>Valeria Herskovic</cp:lastModifiedBy>
  <cp:lastPrinted>2005-03-11T14:50:06Z</cp:lastPrinted>
  <dcterms:modified xsi:type="dcterms:W3CDTF">2007-03-18T22:16:24Z</dcterms:modified>
  <cp:revision>52</cp:revision>
  <dc:subject/>
  <dc:title>Clase12</dc:title>
</cp:coreProperties>
</file>