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083-054D-42AF-8279-71AABC1E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EAC-6D1C-42C5-A692-2476C28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46C-8273-443F-AE8D-6EF586C4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580-CD17-42E8-ACA9-02D48EC1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4D8-98D4-4E9D-A247-6E0751B1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13A-00A0-4A84-8C54-3B73ABD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A54-2134-480C-9855-4C7BF5C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C7A-2B88-4904-8A4B-EE981945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E51-D704-4C27-9E93-9013B4BD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0BB-3E3B-4D41-929E-178FD8C3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FF9-4F7E-4EA6-9192-F56C1E0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8C5-6A72-41AE-A04D-F2630B8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6DE-A66D-4AF9-BDCD-4E738C428812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5: whil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221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71628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a no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uma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incrementar conta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n+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n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La variable numero es local (interna) al bloque {…}, es decir, se crea (“nace”) al comienzo de cada iteración y desaparece (“muere”) al terminar de ejecutarse las instrucciones del bloq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par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divine X (entero entre 1 y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gt; 3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_tradnl" sz="2800" spc="-1" strike="noStrike">
                <a:solidFill>
                  <a:srgbClr val="ff0000"/>
                </a:solidFill>
                <a:latin typeface="Courier New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X &lt; 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73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 = 73 Felic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195280" y="2491920"/>
            <a:ext cx="136836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4360" y="2781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95280" y="3141720"/>
            <a:ext cx="1368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1: esquema (patrón) leer-while-procesar-leer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prim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detectar fin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n != x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siguiente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 = U.readInt("X ? "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instrucciones fi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n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2: esquema (patrón) while(true){… break; …}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x=U.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 = U.readInt("X ?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n == x 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rocesar d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n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gt; “+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X &lt; “+n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X = “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” Felicitaciones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17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dificar de modo de permitir al usuario rendirse y pedir ayu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adivine Nº que piensa una persona (que no mient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programa que le permita a una persona jugar contra el compu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area 1: Toque y F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cha de Entrega: Viernes, 6 de Abril 23:59:5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ugar de Entrega: U-cursos, Tar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se permiten atr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tarea es individ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ezar ahora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36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30760" y="3317760"/>
            <a:ext cx="121896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270828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5840" y="4994280"/>
            <a:ext cx="175248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6720" y="36226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38480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4384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1880" y="3317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4000" y="3693600"/>
            <a:ext cx="2089440" cy="2951280"/>
            <a:chOff x="4194000" y="3693600"/>
            <a:chExt cx="2089440" cy="2951280"/>
          </a:xfrm>
        </p:grpSpPr>
        <p:sp>
          <p:nvSpPr>
            <p:cNvPr id="146" name=""/>
            <p:cNvSpPr/>
            <p:nvPr/>
          </p:nvSpPr>
          <p:spPr>
            <a:xfrm>
              <a:off x="4194000" y="6141600"/>
              <a:ext cx="395280" cy="503280"/>
            </a:xfrm>
            <a:prstGeom prst="downArrow">
              <a:avLst>
                <a:gd name="adj1" fmla="val 50000"/>
                <a:gd name="adj2" fmla="val 31831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4338360" y="6141600"/>
              <a:ext cx="194292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5203800" y="3693600"/>
              <a:ext cx="107784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067440" y="3695040"/>
              <a:ext cx="21600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80920" y="3695040"/>
            <a:ext cx="180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6000" y="3911040"/>
            <a:ext cx="1440" cy="223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614196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82360" y="635796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03080" y="3693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897280" y="3597120"/>
            <a:ext cx="720720" cy="1898640"/>
            <a:chOff x="2897280" y="3597120"/>
            <a:chExt cx="720720" cy="1898640"/>
          </a:xfrm>
        </p:grpSpPr>
        <p:grpSp>
          <p:nvGrpSpPr>
            <p:cNvPr id="156" name=""/>
            <p:cNvGrpSpPr/>
            <p:nvPr/>
          </p:nvGrpSpPr>
          <p:grpSpPr>
            <a:xfrm>
              <a:off x="2897280" y="3597120"/>
              <a:ext cx="720720" cy="1898640"/>
              <a:chOff x="2897280" y="3597120"/>
              <a:chExt cx="720720" cy="1898640"/>
            </a:xfrm>
          </p:grpSpPr>
          <p:sp>
            <p:nvSpPr>
              <p:cNvPr id="157" name=""/>
              <p:cNvSpPr/>
              <p:nvPr/>
            </p:nvSpPr>
            <p:spPr>
              <a:xfrm rot="16200000">
                <a:off x="3060720" y="343512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8720" y="527796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97280" y="369396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98720" y="369396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3114720" y="390924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98360" y="369396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898720" y="549396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8T22:16:24Z</dcterms:modified>
  <cp:revision>52</cp:revision>
  <dc:subject/>
  <dc:title>Clase12</dc:title>
</cp:coreProperties>
</file>