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F612-32D5-43AB-B70D-36EACE25C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53268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FF67-3E58-4077-AAD2-246AEF111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6A79-9210-46A2-93CF-D650AA5F1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E697-B0C0-4EAB-A912-006A2D373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826560" y="115560"/>
            <a:ext cx="7372440" cy="28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EF32-C0F6-4BF2-B58C-23341D166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53268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31CC-B461-4EDA-BE35-31912BB89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9868-8ACF-49AD-83AB-7651BCDCF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B052-5C00-4DCA-B707-FD326C376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826560" y="115560"/>
            <a:ext cx="7372440" cy="28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013C-97AC-45CA-AF72-ABECAF071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8CDF-16B5-4E5A-B850-23302D72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5E5B-534B-42DF-BDF7-80CDCE17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5491-AFD0-4C59-9CC8-37DC2A75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822cd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28544-9B4D-47AB-9F1C-79F8B50C0EE9}" type="slidenum">
              <a:rPr b="0" lang="es-ES_tradnl" sz="1400" spc="-1" strike="noStrike">
                <a:solidFill>
                  <a:srgbClr val="1822cd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125000"/>
            <a:chOff x="0" y="0"/>
            <a:chExt cx="9144000" cy="1125000"/>
          </a:xfrm>
        </p:grpSpPr>
        <p:grpSp>
          <p:nvGrpSpPr>
            <p:cNvPr id="6" name=""/>
            <p:cNvGrpSpPr/>
            <p:nvPr/>
          </p:nvGrpSpPr>
          <p:grpSpPr>
            <a:xfrm>
              <a:off x="6480" y="783000"/>
              <a:ext cx="9137520" cy="244080"/>
              <a:chOff x="6480" y="783000"/>
              <a:chExt cx="9137520" cy="24408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796680"/>
                <a:ext cx="9137520" cy="5940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857160"/>
                <a:ext cx="9137520" cy="14400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783000"/>
                <a:ext cx="9137520" cy="1476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997920"/>
                <a:ext cx="9137520" cy="2844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852480"/>
                <a:ext cx="9137520" cy="2844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783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027440"/>
              <a:ext cx="9140760" cy="9756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760320"/>
              <a:ext cx="9139320" cy="47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6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algn="ctr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00240" algn="ctr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542960" algn="ctr">
              <a:spcBef>
                <a:spcPts val="4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07720" y="1868040"/>
            <a:ext cx="7140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Verdana"/>
              </a:rPr>
              <a:t>Clase 4: Funciones,</a:t>
            </a:r>
            <a:br>
              <a:rPr sz="4000"/>
            </a:br>
            <a:r>
              <a:rPr b="1" lang="en-GB" sz="4000" spc="-1" strike="noStrike">
                <a:solidFill>
                  <a:srgbClr val="1822cd"/>
                </a:solidFill>
                <a:latin typeface="Verdana"/>
              </a:rPr>
              <a:t>if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826920" y="5727960"/>
            <a:ext cx="813780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Valeria Herskovic – vherskov@dcc.uchile.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C1001 Computación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22cd"/>
                </a:solidFill>
                <a:latin typeface="Verdana"/>
              </a:rPr>
              <a:t>if/else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scribir un método (función) que reciba dos enteros y entregue el mayor de los dos (sin usar Math.max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jemplo de uso(invocación): int m = mayor(a,b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Solución 1 (rebuscada)  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y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x, int 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(x+y)/2 + Math.abs(x-y)/2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jor (más breve y eficiente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(x + y + Math.abs(x-y))/2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6227640" y="2349360"/>
            <a:ext cx="2378160" cy="981000"/>
            <a:chOff x="6227640" y="2349360"/>
            <a:chExt cx="2378160" cy="981000"/>
          </a:xfrm>
        </p:grpSpPr>
        <p:sp>
          <p:nvSpPr>
            <p:cNvPr id="124" name=""/>
            <p:cNvSpPr/>
            <p:nvPr/>
          </p:nvSpPr>
          <p:spPr>
            <a:xfrm>
              <a:off x="6946920" y="2349360"/>
              <a:ext cx="914400" cy="36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(x+y)/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6227640" y="2782800"/>
              <a:ext cx="2378160" cy="547560"/>
              <a:chOff x="6227640" y="2782800"/>
              <a:chExt cx="2378160" cy="547560"/>
            </a:xfrm>
          </p:grpSpPr>
          <p:sp>
            <p:nvSpPr>
              <p:cNvPr id="126" name=""/>
              <p:cNvSpPr/>
              <p:nvPr/>
            </p:nvSpPr>
            <p:spPr>
              <a:xfrm>
                <a:off x="6227640" y="2873160"/>
                <a:ext cx="2378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227640" y="2782800"/>
                <a:ext cx="0" cy="18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605800" y="2782800"/>
                <a:ext cx="0" cy="18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416720" y="2782800"/>
                <a:ext cx="0" cy="18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142040" y="2965320"/>
                <a:ext cx="731880" cy="3650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|x-y|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691400" y="3147840"/>
                <a:ext cx="914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>
                <a:off x="6227640" y="3147840"/>
                <a:ext cx="1006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Solución 2 (más natural)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y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int x, int y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 x &gt; y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x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y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¿Significad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x es mayor que y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42200" indent="-219240">
              <a:lnSpc>
                <a:spcPct val="80000"/>
              </a:lnSpc>
              <a:spcBef>
                <a:spcPts val="45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ntonc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entregar el valor de x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i n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es decir si es x menor o igual que y, devolver el valor de 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Instrucción if-else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Sintaxi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if( condición )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instrucción1;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instrucción2;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Instrucción if-else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3848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Semánti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 condición) instrucción1;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strucción2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8320" y="1125000"/>
            <a:ext cx="40384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 condición se cumple (es verdadera), ejecutar instrucción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 condición no se cumple (es falsa), ejecutar instrucción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364500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rá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95640" y="4148280"/>
            <a:ext cx="1187640" cy="936360"/>
          </a:xfrm>
          <a:prstGeom prst="diamond">
            <a:avLst/>
          </a:prstGeom>
          <a:solidFill>
            <a:srgbClr val="b3d1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27640" y="3571920"/>
            <a:ext cx="395280" cy="503280"/>
          </a:xfrm>
          <a:prstGeom prst="downArrow">
            <a:avLst>
              <a:gd name="adj1" fmla="val 50000"/>
              <a:gd name="adj2" fmla="val 31831"/>
            </a:avLst>
          </a:prstGeom>
          <a:solidFill>
            <a:srgbClr val="3568c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3274560" y="4508640"/>
            <a:ext cx="647640" cy="574560"/>
          </a:xfrm>
          <a:custGeom>
            <a:avLst/>
            <a:gdLst>
              <a:gd name="textAreaLeft" fmla="*/ 216000 w 647640"/>
              <a:gd name="textAreaRight" fmla="*/ 554760 w 647640"/>
              <a:gd name="textAreaTop" fmla="*/ 330840 h 574560"/>
              <a:gd name="textAreaBottom" fmla="*/ 492120 h 574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568c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rot="10800000">
            <a:off x="5290200" y="4508640"/>
            <a:ext cx="647640" cy="576000"/>
          </a:xfrm>
          <a:custGeom>
            <a:avLst/>
            <a:gdLst>
              <a:gd name="textAreaLeft" fmla="*/ 216000 w 647640"/>
              <a:gd name="textAreaRight" fmla="*/ 554760 w 647640"/>
              <a:gd name="textAreaTop" fmla="*/ 331920 h 576000"/>
              <a:gd name="textAreaBottom" fmla="*/ 4935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568c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43280" y="5156280"/>
            <a:ext cx="1368360" cy="504720"/>
          </a:xfrm>
          <a:prstGeom prst="rect">
            <a:avLst/>
          </a:prstGeom>
          <a:solidFill>
            <a:srgbClr val="b3d1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trucción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48360" y="5156280"/>
            <a:ext cx="1368360" cy="504720"/>
          </a:xfrm>
          <a:prstGeom prst="rect">
            <a:avLst/>
          </a:prstGeom>
          <a:solidFill>
            <a:srgbClr val="b3d1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trucción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48000" y="407664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64000" y="407664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95640" y="443700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d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348000" y="5661000"/>
            <a:ext cx="2592360" cy="1008000"/>
            <a:chOff x="3348000" y="5661000"/>
            <a:chExt cx="2592360" cy="1008000"/>
          </a:xfrm>
        </p:grpSpPr>
        <p:sp>
          <p:nvSpPr>
            <p:cNvPr id="151" name=""/>
            <p:cNvSpPr/>
            <p:nvPr/>
          </p:nvSpPr>
          <p:spPr>
            <a:xfrm>
              <a:off x="4498920" y="6092640"/>
              <a:ext cx="360360" cy="576360"/>
            </a:xfrm>
            <a:prstGeom prst="downArrow">
              <a:avLst>
                <a:gd name="adj1" fmla="val 50000"/>
                <a:gd name="adj2" fmla="val 39985"/>
              </a:avLst>
            </a:prstGeom>
            <a:solidFill>
              <a:srgbClr val="3568c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48000" y="6164280"/>
              <a:ext cx="122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787640" y="6164280"/>
              <a:ext cx="115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348000" y="5661000"/>
              <a:ext cx="215640" cy="503280"/>
            </a:xfrm>
            <a:prstGeom prst="rect">
              <a:avLst/>
            </a:prstGeom>
            <a:solidFill>
              <a:srgbClr val="3568c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22920" y="5661000"/>
              <a:ext cx="217440" cy="503280"/>
            </a:xfrm>
            <a:prstGeom prst="rect">
              <a:avLst/>
            </a:prstGeom>
            <a:solidFill>
              <a:srgbClr val="3568c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48000" y="5948280"/>
              <a:ext cx="2519280" cy="216000"/>
            </a:xfrm>
            <a:prstGeom prst="rect">
              <a:avLst/>
            </a:prstGeom>
            <a:solidFill>
              <a:srgbClr val="356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563640" y="5948280"/>
              <a:ext cx="215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822cd"/>
                </a:solidFill>
                <a:latin typeface="Verdana"/>
              </a:rPr>
              <a:t>Condición (condición simple o comparación)</a:t>
            </a:r>
            <a:endParaRPr b="1" lang="en-US" sz="2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intaxis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: expresión1 operador-de-relación expresión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operador de relación (comparación): &lt;,&gt;,&lt;=,&gt;=,==,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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emántica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valuar expres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mparar resultados de expres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condición se cumple entregar valor verdadero (tru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condición no se cumple entregar valor falso (fals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 b*b &gt;= 4*a*c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“raices reales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“raices complejas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822cd"/>
                </a:solidFill>
                <a:latin typeface="Verdana"/>
              </a:rPr>
              <a:t>Caso especial 1: cada instrucción puede ser otro if-else</a:t>
            </a:r>
            <a:endParaRPr b="1" lang="en-US" sz="2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mayor(int x,int y,int z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 x &gt;= y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 x &gt;= z 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z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 y &gt;= z 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y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z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84978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Caso especial 2: </a:t>
            </a:r>
            <a:r>
              <a:rPr b="1" lang="es-ES" sz="3200" spc="-1" strike="noStrike">
                <a:solidFill>
                  <a:srgbClr val="1822cd"/>
                </a:solidFill>
                <a:latin typeface="Verdana"/>
              </a:rPr>
              <a:t>else puede omitirse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static public int mayor(int x,int y,int z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int aux=x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f( y &gt; aux) aux=y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f( z &gt; aux) aux=z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aux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822cd"/>
                </a:solidFill>
                <a:latin typeface="Verdana"/>
              </a:rPr>
              <a:t>Caso especial 3:</a:t>
            </a:r>
            <a:br>
              <a:rPr sz="2000"/>
            </a:br>
            <a:r>
              <a:rPr b="1" lang="es-ES" sz="2000" spc="-1" strike="noStrike">
                <a:solidFill>
                  <a:srgbClr val="1822cd"/>
                </a:solidFill>
                <a:latin typeface="Verdana"/>
              </a:rPr>
              <a:t>bloque {...} para agrupar varias instrucciones</a:t>
            </a:r>
            <a:endParaRPr b="1" lang="en-US" sz="2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( a&gt;=b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yor=a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menor=b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mayor=b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menor=a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Condiciones compuestas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int mayor(int x,int y,int z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 x &gt;= y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x &gt;= z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x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 y &gt;= z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y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z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scribir las instrucciones principales de un programa que establezca el diálogo indicado en el siguiente ejempl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Ordenar 3 enteros entre 1 y 100 generados al az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Numeros = 73 8 4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Ordenados = 8 46 7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Condición compuesta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2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Sintax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ndición1 operador-lógico condición2 . . 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operador lógico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&amp;&amp;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  y, and, conjun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||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 o, or, disyun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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:       no, not, negación (operador unario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Semánt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971640" y="3141720"/>
          <a:ext cx="6480000" cy="2220840"/>
        </p:xfrm>
        <a:graphic>
          <a:graphicData uri="http://schemas.openxmlformats.org/drawingml/2006/table">
            <a:tbl>
              <a:tblPr/>
              <a:tblGrid>
                <a:gridCol w="534960"/>
                <a:gridCol w="534960"/>
                <a:gridCol w="2068560"/>
                <a:gridCol w="2220840"/>
                <a:gridCol w="1120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1 &amp;&amp; 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 || 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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 si ambos 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 si alguno 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 si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1384200" y="71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9640" y="5516640"/>
            <a:ext cx="8229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Nota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. c2 se evalúa sólo si es necesario. Por 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x&gt;=y &amp;&amp; x&gt;=z)...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si x&lt;y entonces x&gt;=z no se evalú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Prioridades de operadores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rden de evaluació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556000" y="1916280"/>
          <a:ext cx="3693960" cy="3657600"/>
        </p:xfrm>
        <a:graphic>
          <a:graphicData uri="http://schemas.openxmlformats.org/drawingml/2006/table">
            <a:tbl>
              <a:tblPr/>
              <a:tblGrid>
                <a:gridCol w="393840"/>
                <a:gridCol w="3300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+  - 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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(unario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(tipo) c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*  / 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+  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  &gt;  &lt;=  &gt;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= 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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amp;&amp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||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Ejercicio (15 min)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scribir un programa que establezca el siguiente diálog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ota? __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alificación = 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n que la calificación x se determina de acuerdo a la siguiente tabla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763640" y="3789360"/>
          <a:ext cx="4811760" cy="2467080"/>
        </p:xfrm>
        <a:graphic>
          <a:graphicData uri="http://schemas.openxmlformats.org/drawingml/2006/table">
            <a:tbl>
              <a:tblPr/>
              <a:tblGrid>
                <a:gridCol w="2016360"/>
                <a:gridCol w="2795400"/>
              </a:tblGrid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o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alific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0 – 3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prob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.0 – 4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prob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.0 – 5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stin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.0 – 7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stinción máxi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&lt; 1.0 o &gt; 7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uera de ran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Sol. 1: con if, sin else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nota=U.readDouble(“Nota?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(“Calificacion = “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 1.0 &lt;= nota  &amp;&amp;  nota &lt;= 3.9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reprobado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 4.0 &lt;= nota  &amp;&amp;  nota &lt;= 4.9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aprobado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 5.0 &lt;= nota  &amp;&amp;  nota &lt;= 5.9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distinción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 6.0 &lt;= nota  &amp;&amp;  nota &lt;= 7.0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distinción máxima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 nota &lt; 1.0  ||  nota &gt; 7.0 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fuera de rango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Nota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. Siempre evalúa las 5 condic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Sol. 2: con if - else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 1.0 &lt;= nota  &amp;&amp;  nota &lt;= 3.9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reprobado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 4.0 &lt;= nota  &amp;&amp;  nota &lt;= 4.9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aprobado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 5.0 &lt;= nota  &amp;&amp;  nota &lt;= 5.9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distinción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 6.0 &lt;= nota  &amp;&amp;  nota &lt;= 7.0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distinción máx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fuera de rango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Nota.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ás eficiente, puesto que evalúa sólo hasta la primera condición verdade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96472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22cd"/>
                </a:solidFill>
                <a:latin typeface="Verdana"/>
              </a:rPr>
              <a:t>Sol. 3: más breve y eficiente (condiciones simples)</a:t>
            </a:r>
            <a:endParaRPr b="1" lang="en-US" sz="2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 nota &lt; 1  ||  nota &gt; 7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Fuera de rango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 if( nota &lt; 4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“reprobado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 if( nota &lt; 5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“aprobado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 if(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ota &lt; 6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distinción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distinción máxima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Nota.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indentación (uso de márgenes) evidencia selección múltiple (naturaleza alternativa y excluyente de las opcion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Tipo boolean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Verdana"/>
              </a:rPr>
              <a:t>constantes</a:t>
            </a:r>
            <a:r>
              <a:rPr b="0" lang="es-ES" sz="27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es-ES" sz="27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s-ES" sz="2700" spc="-1" strike="noStrike">
                <a:solidFill>
                  <a:srgbClr val="000000"/>
                </a:solidFill>
                <a:latin typeface="Verdana"/>
              </a:rPr>
              <a:t> (verdadero) y </a:t>
            </a:r>
            <a:r>
              <a:rPr b="1" lang="es-ES" sz="27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s-ES" sz="2700" spc="-1" strike="noStrike">
                <a:solidFill>
                  <a:srgbClr val="000000"/>
                </a:solidFill>
                <a:latin typeface="Verdana"/>
              </a:rPr>
              <a:t>  (falso)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Verdana"/>
              </a:rPr>
              <a:t>variables</a:t>
            </a:r>
            <a:r>
              <a:rPr b="0" lang="es-ES" sz="27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es-ES" sz="27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s-ES" sz="2700" spc="-1" strike="noStrike">
                <a:solidFill>
                  <a:srgbClr val="000000"/>
                </a:solidFill>
                <a:latin typeface="Verdana"/>
              </a:rPr>
              <a:t> nombre;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Verdana"/>
              </a:rPr>
              <a:t>expresiones</a:t>
            </a:r>
            <a:r>
              <a:rPr b="0" lang="es-ES" sz="2700" spc="-1" strike="noStrike">
                <a:solidFill>
                  <a:srgbClr val="000000"/>
                </a:solidFill>
                <a:latin typeface="Verdana"/>
              </a:rPr>
              <a:t>: condicione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Verdana"/>
              </a:rPr>
              <a:t>asignación: </a:t>
            </a:r>
            <a:r>
              <a:rPr b="0" lang="es-ES" sz="2700" spc="-1" strike="noStrike">
                <a:solidFill>
                  <a:srgbClr val="000000"/>
                </a:solidFill>
                <a:latin typeface="Courier New"/>
              </a:rPr>
              <a:t>variable=condición;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Verdana"/>
              </a:rPr>
              <a:t>ejemplos: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oolean p 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 = a&gt;=b &amp;&amp; a&gt;=c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( p ) //equivalencia: if( p==true 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U.println(“mayor=”+a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Funciones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jempl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boolean par(int x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x%2==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quivalenci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boolean par(int x){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x%2==0) return true; else return fals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par(n))… ;else …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intax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nombre(parámetros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struccione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condición (exp de tipo boolean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…</a:t>
            </a: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Solución 5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 funciones (métodos) definidos por el programa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 Ordenar3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void main(String[]arg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Ordenar 3 numeros “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+ “entre 1 y 100 generados al azar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a=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azar(1,100)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,b=azar(1,100),c=azar(1,100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"Numeros="+a+" "+b+" "+c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"Ordenados = " +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minimo(a,b,c)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+ " “ +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medio(a,b,c)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+ " " +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maximo(a,b,c)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Solución 5 (continúa)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atic public int azar(int x,int y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x + (int)(Math.random()*(y-x+1)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inim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int x,int y,int z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Math.min(Math.min(x,y),z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xim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int x,int y,int z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Math.max(Math.max(x,y),z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edi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int x,int y,int z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+y+z - minimo(x,y,z) -maximo(x,y,z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//fin de la clase Ordenar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1822cd"/>
                </a:solidFill>
                <a:latin typeface="Verdana"/>
              </a:rPr>
              <a:t>Funciones definidas por el programador</a:t>
            </a:r>
            <a:endParaRPr b="1" lang="en-US" sz="28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intax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tatic public tipo-resultado nombre(parámetr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strucc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expresió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¿parámetros?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tipo nombre, ..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emánti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1º copiar (asignar) argumentos de llamada en parámetr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2º ejecutar las instrucci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3º devolver valor de la expresión (del tipo-resultado) en el punto de invocación (us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85672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822cd"/>
                </a:solidFill>
                <a:latin typeface="Verdana"/>
              </a:rPr>
              <a:t>Solución 6: Ubicando las funciones en una clase independiente</a:t>
            </a:r>
            <a:endParaRPr b="1" lang="en-US" sz="2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U{  //en archivo U.jav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z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x,int y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x + (int)(Math.random()*(y-x+1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inim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x,int y,int z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ath.min(Math.min(x,y),z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xim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x,int y,int z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ath.max(Math.max(x,y),z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di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x,int y,int z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x+y+z - minimo(x,y,z)-maximo(x,y,z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lass Ordenar3 //en archivo Ordenar3.ja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void main(String[]args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Ordenar 3 números “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+ “entre 1 y 100 generados al azar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a=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U.azar(1,100)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b=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U.az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1,100)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=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U.az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1,100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"Numeros="+a+" "+b+" "+c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"Ordenados = " +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U.minim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a,b,c) + " " +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U.medi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a,b,c) + " " +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U.maxim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a,b,c)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class Math{ //Clase predefinida Ma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tatic public //antes de cada fun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sqrt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double x){...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pow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double x,double y){...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exp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double x){...}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log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double x){...}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sin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double x){...}//angulo en radian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cos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double x){...}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tan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double x){...}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asin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double x){...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acos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double x){...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atan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double x){...}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floor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double x){...}//floor(4.5)=4.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ceil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double x){...} //ceil(4.5)=5.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abs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(double x){...}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int   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abs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(int x){...}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max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(double x,double y){...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int   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max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(int x,int y){...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min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(double x,double y){...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int   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min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(int x,int y){...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(){...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static public final double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PI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=3.14...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static public final double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=2.71...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4:27:06Z</dcterms:created>
  <dc:creator>V. Herskovic</dc:creator>
  <dc:description/>
  <dc:language>en-US</dc:language>
  <cp:lastModifiedBy>Valeria Herskovic</cp:lastModifiedBy>
  <cp:lastPrinted>2005-03-11T14:50:06Z</cp:lastPrinted>
  <dcterms:modified xsi:type="dcterms:W3CDTF">2007-03-14T00:16:52Z</dcterms:modified>
  <cp:revision>45</cp:revision>
  <dc:subject/>
  <dc:title>Clase12</dc:title>
</cp:coreProperties>
</file>