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6D8-CF24-4A62-84F1-46C8140B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6DA-B8E0-40D8-8936-9A3D8344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B73-8FC6-4E69-B400-1477CB21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1F6-CEBF-4A6E-8C3D-493F2860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9D1-607F-497B-B54F-F2D1110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268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934-9A80-4AF1-90A4-A0FF615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E27-6886-4731-B352-C0870EE7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1C6-62E5-4C84-92B0-72D8F3F9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737244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22E-5E2C-46F7-A085-6AA100BD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34F-00C6-438E-A07E-4AC3EBA6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53268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883-9BE7-4B4F-AA0C-AE6CBDF0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268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C7B-6F23-46DC-B2CB-0D3A0173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762E-5F22-4436-B64E-C607B03E0C0A}" type="slidenum">
              <a:rPr b="0" lang="es-ES_tradnl" sz="1400" spc="-1" strike="noStrike">
                <a:solidFill>
                  <a:srgbClr val="1822cd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125000"/>
            <a:chOff x="0" y="0"/>
            <a:chExt cx="9144000" cy="1125000"/>
          </a:xfrm>
        </p:grpSpPr>
        <p:grpSp>
          <p:nvGrpSpPr>
            <p:cNvPr id="6" name=""/>
            <p:cNvGrpSpPr/>
            <p:nvPr/>
          </p:nvGrpSpPr>
          <p:grpSpPr>
            <a:xfrm>
              <a:off x="6480" y="783000"/>
              <a:ext cx="9137520" cy="244080"/>
              <a:chOff x="6480" y="783000"/>
              <a:chExt cx="9137520" cy="24408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796680"/>
                <a:ext cx="9137520" cy="5940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857160"/>
                <a:ext cx="9137520" cy="14400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783000"/>
                <a:ext cx="9137520" cy="1476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99792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852480"/>
                <a:ext cx="9137520" cy="2844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78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027440"/>
              <a:ext cx="9140760" cy="975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760320"/>
              <a:ext cx="9139320" cy="47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07720" y="1868040"/>
            <a:ext cx="7140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Clase 4: Funciones,</a:t>
            </a:r>
            <a:br>
              <a:rPr sz="4000"/>
            </a:br>
            <a:r>
              <a:rPr b="1" lang="en-GB" sz="4000" spc="-1" strike="noStrike">
                <a:solidFill>
                  <a:srgbClr val="1822cd"/>
                </a:solidFill>
                <a:latin typeface="Verdana"/>
              </a:rPr>
              <a:t>if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727960"/>
            <a:ext cx="81378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eria Herskovic – vherskov@dcc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C1001 Computación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22cd"/>
                </a:solidFill>
                <a:latin typeface="Verdana"/>
              </a:rPr>
              <a:t>if/else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olución 1 (rebuscada)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+y)/2 + Math.abs(x-y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 (más breve y eficiente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27640" y="2349360"/>
            <a:ext cx="2378160" cy="981000"/>
            <a:chOff x="6227640" y="2349360"/>
            <a:chExt cx="2378160" cy="981000"/>
          </a:xfrm>
        </p:grpSpPr>
        <p:sp>
          <p:nvSpPr>
            <p:cNvPr id="124" name=""/>
            <p:cNvSpPr/>
            <p:nvPr/>
          </p:nvSpPr>
          <p:spPr>
            <a:xfrm>
              <a:off x="6946920" y="2349360"/>
              <a:ext cx="91440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6227640" y="2782800"/>
              <a:ext cx="2378160" cy="547560"/>
              <a:chOff x="6227640" y="2782800"/>
              <a:chExt cx="2378160" cy="547560"/>
            </a:xfrm>
          </p:grpSpPr>
          <p:sp>
            <p:nvSpPr>
              <p:cNvPr id="126" name=""/>
              <p:cNvSpPr/>
              <p:nvPr/>
            </p:nvSpPr>
            <p:spPr>
              <a:xfrm>
                <a:off x="6227640" y="28731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2764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0580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16720" y="27828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42040" y="29653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91400" y="31478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227640" y="31478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2 (más natural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64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4148280"/>
            <a:ext cx="1187640" cy="93636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51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642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000"/>
            </a:br>
            <a:r>
              <a:rPr b="1" lang="es-ES" sz="20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diálogo indicado en el siguiente 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r 3 enteros entre 1 y 100 generados al az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Numeros = 73 8 4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Ordenados = 8 46 7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71640" y="314172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516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556000" y="191628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Ejercicio (15 min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scribir un programa que establezca el siguiente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alificación =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que la calificación x se determina de acuerdo a la siguiente tabl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63640" y="3789360"/>
          <a:ext cx="4811760" cy="2467080"/>
        </p:xfrm>
        <a:graphic>
          <a:graphicData uri="http://schemas.openxmlformats.org/drawingml/2006/table">
            <a:tbl>
              <a:tblPr/>
              <a:tblGrid>
                <a:gridCol w="2016360"/>
                <a:gridCol w="27954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l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 – 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0 – 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ob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0 – 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0 –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stinción máx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&lt; 1.0 o &gt; 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era de 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1: con if, sin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nota=U.readDouble(“Nota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(“Calificacion =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nota &lt; 1.0  ||  nota &gt; 7.0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. Siempre evalúa las 5 condi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. 2: con if - 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1.0 &lt;= nota  &amp;&amp;  nota &lt;= 3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4.0 &lt;= nota  &amp;&amp;  nota &lt;= 4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5.0 &lt;= nota  &amp;&amp;  nota &lt;= 5.9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6.0 &lt;= nota  &amp;&amp;  nota &lt;= 7.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ás eficiente, puesto que evalúa sólo hasta la primera condición verdad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Sol. 3: más breve y eficiente (condiciones simples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nota &lt; 1  ||  nota &gt; 7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Fuera de rang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4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e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nota &lt; 5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probado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if(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ta &lt; 6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distinción máxima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ota.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entación (uso de márgenes) evidencia selección múltiple (naturaleza alternativa y excluyente de las op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7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 nombre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7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7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…</a:t>
            </a: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funciones (métodos) definidos por el program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Ordenar3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u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b=azar(1,100),c=azar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in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edi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aximo(a,b,c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22cd"/>
                </a:solidFill>
                <a:latin typeface="Verdana"/>
              </a:rPr>
              <a:t>Solución 5 (continúa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 - minimo(x,y,z) -maximo(x,y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//fin de la clase Ordenar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737244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º ejecutar las instruc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822cd"/>
                </a:solidFill>
                <a:latin typeface="Verdana"/>
              </a:rPr>
              <a:t>Solución 6: Ubicando las funciones en una clase independiente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im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x+y+z - minimo(x,y,z)-maximo(x,y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Ordenar3 //en archivo Ordenar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Ordenar 3 números 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umeros="+a+" "+b+" "+c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Ordenados =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in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edi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 + " "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xim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,b,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angulo en radian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s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co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ta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loor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//floor(4.5)=4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eil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double x){...} //ceil(4.5)=5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102240"/>
            <a:ext cx="7372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3.14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final double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=2.71...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V. Herskovic</dc:creator>
  <dc:description/>
  <dc:language>en-US</dc:language>
  <cp:lastModifiedBy>Valeria Herskovic</cp:lastModifiedBy>
  <cp:lastPrinted>2005-03-11T14:50:06Z</cp:lastPrinted>
  <dcterms:modified xsi:type="dcterms:W3CDTF">2007-03-14T00:16:52Z</dcterms:modified>
  <cp:revision>45</cp:revision>
  <dc:subject/>
  <dc:title>Clase12</dc:title>
</cp:coreProperties>
</file>