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FC4-4DA4-48EB-9191-25A3DA58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71C-CE25-471F-A13D-24B88B4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7F5-0F5F-4B39-AB42-156BA94E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2A9-1FAA-4634-BA02-FAAE65B1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32B-76CD-4E86-A355-5BC03C93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FD7-DAE4-4CC9-8C20-7F329B87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27D-82BD-4870-B3A4-47A6DB2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9C8-CE2E-499C-92E3-0C8D21B5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B2D-D198-4107-8500-06B1C900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01A-8A0A-4BCC-9768-807761F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D29-D7DF-4C68-BDC4-24638DC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29B-1DD1-4F23-B93B-C6DFA660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7915-2A00-4A9D-95B7-DEB47A99AD60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4: Funciones,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if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if/els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 (rebuscada)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+y)/2 + Math.abs(x-y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 (más breve y eficient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27640" y="2349360"/>
            <a:ext cx="2378160" cy="981000"/>
            <a:chOff x="6227640" y="2349360"/>
            <a:chExt cx="2378160" cy="981000"/>
          </a:xfrm>
        </p:grpSpPr>
        <p:sp>
          <p:nvSpPr>
            <p:cNvPr id="124" name=""/>
            <p:cNvSpPr/>
            <p:nvPr/>
          </p:nvSpPr>
          <p:spPr>
            <a:xfrm>
              <a:off x="6946920" y="2349360"/>
              <a:ext cx="91440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227640" y="2782800"/>
              <a:ext cx="2378160" cy="547560"/>
              <a:chOff x="6227640" y="2782800"/>
              <a:chExt cx="2378160" cy="5475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27640" y="28731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2764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0580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1672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42040" y="29653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91400" y="31478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227640" y="31478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 (más natural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51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000"/>
            </a:b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314172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516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56000" y="191628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 (15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establezc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alificación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que la calificación x se determina de acuerdo a la siguiente tabl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63640" y="3789360"/>
          <a:ext cx="4811760" cy="2467080"/>
        </p:xfrm>
        <a:graphic>
          <a:graphicData uri="http://schemas.openxmlformats.org/drawingml/2006/table">
            <a:tbl>
              <a:tblPr/>
              <a:tblGrid>
                <a:gridCol w="2016360"/>
                <a:gridCol w="2795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 – 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 – 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 –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0 –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 máx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 1.0 o &gt;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era de 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1: con if, sin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ota=U.readDouble(“Not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Calificacion =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nota &lt; 1.0  ||  nota &gt; 7.0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 Siempre evalúa las 5 condi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: con if -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ás eficiente, puesto que evalúa sólo hasta la primera condición verd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3: más breve y eficiente (condiciones simple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ota &lt; 1  ||  nota &gt; 7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4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5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 &lt; 6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dentación (uso de márgenes) evidencia selección múltiple (naturaleza alternativa y excluyente de las op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6: Ubicando las funciones en una clase independiente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Ordenar3 //en archivo Ordenar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ú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in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edi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x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angulo en radian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lo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floor(4.5)=4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eil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//ceil(4.5)=5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3.14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2.71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4T00:16:52Z</dcterms:modified>
  <cp:revision>45</cp:revision>
  <dc:subject/>
  <dc:title>Clase12</dc:title>
</cp:coreProperties>
</file>