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DB9-BA57-42FC-B5B7-B2EDA665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205-EEA1-474C-8B56-4C66597A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74C3-4461-4646-9A30-CCE0388C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A5C-A314-4F48-A420-06C17A98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0F8-6FF9-4BA2-AAC7-5D3C1990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C2F-3DE1-46A1-86F7-9F47A170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81A-EB8E-4993-9153-4B578B31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1E5D-6EE0-49DB-AA34-93A7AC7F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7B9-2E30-4D75-8852-8C3D8027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A7F-9888-4E6D-8CC6-31EC1AD0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F7F-DFCD-4AF8-89FA-463B18FC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388-06D2-40E7-887A-1B85BB41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D98E-C060-4382-B0C8-E3BCD58AC173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2172960"/>
            <a:ext cx="7140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3: Funcion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400"/>
            </a:b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(métodos de clase predefinida Math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57340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as las funciones reciben y entregan un dou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argumento double admite un int (int es asignable a doub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9640" y="1197000"/>
          <a:ext cx="7777080" cy="4459320"/>
        </p:xfrm>
        <a:graphic>
          <a:graphicData uri="http://schemas.openxmlformats.org/drawingml/2006/table">
            <a:tbl>
              <a:tblPr/>
              <a:tblGrid>
                <a:gridCol w="1512720"/>
                <a:gridCol w="2585160"/>
                <a:gridCol w="2059920"/>
                <a:gridCol w="1619280"/>
              </a:tblGrid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,    x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4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x,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2.0,3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71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</a:t>
                      </a:r>
                      <a:r>
                        <a:rPr b="0" lang="es-ES" sz="18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Math.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no de angul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gente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Π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cosen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tangent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0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(métodos de clase Math)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555920"/>
          <a:ext cx="7923240" cy="3746160"/>
        </p:xfrm>
        <a:graphic>
          <a:graphicData uri="http://schemas.openxmlformats.org/drawingml/2006/table">
            <a:tbl>
              <a:tblPr/>
              <a:tblGrid>
                <a:gridCol w="1420560"/>
                <a:gridCol w="1722600"/>
                <a:gridCol w="1012680"/>
                <a:gridCol w="1013040"/>
                <a:gridCol w="1825560"/>
                <a:gridCol w="928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|x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y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 al az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[0,1[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x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78519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denar dos reales entre 0 y 9 generados al a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úmeros = 7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dos = 3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78519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denar dos reales entre 0 y 9 generados al a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úmeros = 7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dos = 3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297360" y="3691080"/>
            <a:ext cx="877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generar nº reales en rango [0,1[: 0.d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ouble a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rando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), b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rando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generar enteros en rango [0,9] (de un díg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i=(int)(10*a), j=(int)(10*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Numeros= “ + i + “ “ + 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ordenar dos ent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Ordenados= “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m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i,j) + “ “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i,j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(10 min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diálogo indicado en el siguiente 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rdenar 3 enteros entre 1 y 100 generados al az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umeros = 73 8 4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rdenados = 8 46 7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Indicació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Si multiplica por 100 el Nº real 0.x1x2x3... (ej: 0.734...) que entrega la función random() obtendrá un número de la forma x1x2.x3.... (ej:73.4..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la parte entera del resultado, usando coerción (int)(expresión), se puede obtener un Nº entero de 2 dígitos (valor entre 00 y 99). Sumando uno se obtiene un número entre 1 y 1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generar al azar 3 enteros entre 1 y 1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 = (int)(Math.random()*100) + 1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= (int)(Math.random()*100) + 1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= (int)(Math.random()*100)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2º restando el menor y el mayor a suma de los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yor = Math.max(Math.max(a,b),c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 = Math.min(Math.min(a,b),c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dio = a + b + c - menor - mayor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="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+" "+medio+" "+mayo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ones 2 y 3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ol. 2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obtener 2º como el menor de los ganadores (de los 3 “partidos” entre dos números)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medio = Math.min(Math.max(a,b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th.min(Math.max(a,c),Math.max(b,c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ol. 3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obtener 2º como el mayor de los perded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medio = Math.max(Math.min(a,b),Math.max(Math.min(a,c),Math.min(b,c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Solución 4:  ordenar dos primeros, y después considerar 3º</a:t>
            </a:r>
            <a:r>
              <a:rPr b="0" lang="es-ES" sz="3200" spc="-1" strike="noStrike">
                <a:solidFill>
                  <a:srgbClr val="1822cd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minab = Math.min(a,b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xab = Math.max(a,b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w"/>
              </a:rPr>
              <a:t>int menor = Math.min(minab,c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aux =   Math.max(minab,c)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int medio = Math.min(aux,maxab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mayor = Math.max(aux,maxab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 funciones (métodos) definidos por el program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Ordenar3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Ordenar 3 numeros 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,b=azar(1,100),c=azar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 =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“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 (continúa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 public int azar(int x,int y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 - minimo(x,y,z) -maximo(x,y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//fin de la clase Ordenar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diálogo indicado en el siguiente ejempl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</a:rPr>
              <a:t>Invertir n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úmero entero de 2 dígit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úmero a invertir</a:t>
            </a:r>
            <a:r>
              <a:rPr b="0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es-ES_tradnl" sz="29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5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úmero invertido</a:t>
            </a:r>
            <a:r>
              <a:rPr b="0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6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22cd"/>
                </a:solidFill>
                <a:latin typeface="Verdana"/>
              </a:rPr>
              <a:t>Funciones definidas por el programador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tipo-resultado nombre(paráme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expresió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parámetros?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ipo nombre,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º copiar (asignar) argumentos de llamada en paráme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º ejecutar las instru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º devolver valor de la expresión (del tipo-resultado) en el punto de invocación (u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puest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112536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. Ordenar 4 números generados al a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dicación. Ordene los 3 primeros y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guida determine el lugar del 4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. Escribir la fun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atic public int mayor(int x,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n usar la función Math.max ni Math.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1: aritm</a:t>
            </a:r>
            <a:r>
              <a:rPr b="1" lang="es-CL" sz="3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ética enter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ublic static void main(String args[]) throws IOException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ln(“Invertir numero entero de dos digitos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a invertir: “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t aInvertir = U.readInt(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primerDigito = aInvertir/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segundoDigito = aInvertir – primerDigito*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invertido  ”+segundoDigito+””+primerDigito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99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2: aritmética real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a invertir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t aInvertir = U.readInt(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primerDigito = aInvertir/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segundoDigito = (int)((aInvertir/10.0 – primerDigito)*10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invertido 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segundoDigito+””+primerDigito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3: con %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a invertir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t aInvertir = U.readInt(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primerDigito = aInvertir/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segundoDigito = aInvertir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invertido 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segundoDigito+””+primerDigito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puest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Obtener una fecha (por ej: 20070308) y escribirla de la forma 08/03/2007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2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siguiente diálog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erímetro y área de triángulo de lados a, b, 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 = 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rea = N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ota. El área se calcula como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(s-a)(s-b)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 s=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urier New"/>
              </a:rPr>
              <a:t>a+b+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(semi-perímetr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4869000"/>
            <a:ext cx="288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Perimetro y área de triángulo de lados a, b, c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obtener l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 = U.readDouble(“a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 = U.readDouble(“b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c = U.readDouble(“c?”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alcular y mostrar perimetro y 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Perimetro = ”+(a+b+c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= (a+b+c)/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Area = "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s*(s-a)*(s-b)*(s-c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Area = "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pow(s*(s-a)*(s-b)*(s-c),0.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5345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22cd"/>
                </a:solidFill>
                <a:latin typeface="Verdana"/>
              </a:rPr>
              <a:t>Uso (invocación) de métodos (funciones) predefinidas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sqrt(s*(s-a)*(s-b)*(s-c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pow (s*(s-a)*(s-b)*(s-c), 0.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th.nombre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argumentos? cero o más expresiones aritméticas (separadas por com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° evaluar argumentos. Ejemplo: s*(s-a)*(s-b)*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° evaluar función (método) con/en valores de arg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° recibir resultado de la función (en el lugar o punto de invocación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12T14:46:50Z</dcterms:modified>
  <cp:revision>34</cp:revision>
  <dc:subject/>
  <dc:title>Clase12</dc:title>
</cp:coreProperties>
</file>