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B98D-7296-41B2-A4BA-4D51D34AA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EBC8-128B-405A-9AC8-BA4BE674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C635-4EB9-485A-B018-2A34565D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79A9-DAFC-4836-ABE3-B945B499F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9773-7777-4029-AD8B-5A80735C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6111-207A-430C-B8F3-4A58572A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7755-AF8C-4ED4-B724-97AE3CC1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F4F8-ACF2-4DA7-857C-5A39E09D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D0EA-17CD-4072-87E0-55604C98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ECE9-4193-4E2D-9250-E49DE371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C788-EEE9-4B9A-9083-F792BA9A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BDF7-FA18-4BC7-8DCB-B8F28823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8DF1-6633-4D88-9EC4-579E44E4BEC4}" type="slidenum">
              <a: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125000"/>
            <a:chOff x="0" y="0"/>
            <a:chExt cx="9144000" cy="1125000"/>
          </a:xfrm>
        </p:grpSpPr>
        <p:grpSp>
          <p:nvGrpSpPr>
            <p:cNvPr id="6" name=""/>
            <p:cNvGrpSpPr/>
            <p:nvPr/>
          </p:nvGrpSpPr>
          <p:grpSpPr>
            <a:xfrm>
              <a:off x="6480" y="783000"/>
              <a:ext cx="9137520" cy="244080"/>
              <a:chOff x="6480" y="783000"/>
              <a:chExt cx="9137520" cy="24408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796680"/>
                <a:ext cx="9137520" cy="5940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857160"/>
                <a:ext cx="9137520" cy="14400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783000"/>
                <a:ext cx="9137520" cy="1476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99792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85248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78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027440"/>
              <a:ext cx="9140760" cy="975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760320"/>
              <a:ext cx="9139320" cy="47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07720" y="2172960"/>
            <a:ext cx="7140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Clase 3: Funciones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5514840"/>
            <a:ext cx="813780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aleria Herskovic – vherskov@dcc.uchile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C1001 Computación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822cd"/>
                </a:solidFill>
                <a:latin typeface="Verdana"/>
              </a:rPr>
              <a:t>Funciones predefinidas en el lenguaje Java </a:t>
            </a:r>
            <a:br>
              <a:rPr sz="2400"/>
            </a:br>
            <a:r>
              <a:rPr b="1" lang="es-ES" sz="2400" spc="-1" strike="noStrike">
                <a:solidFill>
                  <a:srgbClr val="1822cd"/>
                </a:solidFill>
                <a:latin typeface="Verdana"/>
              </a:rPr>
              <a:t>(métodos de clase predefinida Math)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573408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odas las funciones reciben y entregan un dou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 argumento double admite un int (int es asignable a doubl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39640" y="1197000"/>
          <a:ext cx="7777080" cy="4459320"/>
        </p:xfrm>
        <a:graphic>
          <a:graphicData uri="http://schemas.openxmlformats.org/drawingml/2006/table">
            <a:tbl>
              <a:tblPr/>
              <a:tblGrid>
                <a:gridCol w="1512720"/>
                <a:gridCol w="2585160"/>
                <a:gridCol w="2059920"/>
                <a:gridCol w="1619280"/>
              </a:tblGrid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un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gnific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jemp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ult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qrt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,    x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qrt(4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w(x,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w(2.0,3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xp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xp(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71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g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g</a:t>
                      </a:r>
                      <a:r>
                        <a:rPr b="0" lang="es-ES" sz="18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g(Math.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n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no de angulo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n(Math.P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s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seno de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s(Math.P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an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angente de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an(Math.P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in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co-seno de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in(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Π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os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co-coseno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os(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tan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co-tangente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tan(0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8567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822cd"/>
                </a:solidFill>
                <a:latin typeface="Verdana"/>
              </a:rPr>
              <a:t>Funciones predefinidas en el lenguaje Java </a:t>
            </a:r>
            <a:br>
              <a:rPr sz="2800"/>
            </a:br>
            <a:r>
              <a:rPr b="1" lang="es-ES" sz="2800" spc="-1" strike="noStrike">
                <a:solidFill>
                  <a:srgbClr val="1822cd"/>
                </a:solidFill>
                <a:latin typeface="Verdana"/>
              </a:rPr>
              <a:t>(métodos de clase Math)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11280" y="1555920"/>
          <a:ext cx="7923240" cy="3746160"/>
        </p:xfrm>
        <a:graphic>
          <a:graphicData uri="http://schemas.openxmlformats.org/drawingml/2006/table">
            <a:tbl>
              <a:tblPr/>
              <a:tblGrid>
                <a:gridCol w="1420560"/>
                <a:gridCol w="1722600"/>
                <a:gridCol w="1012680"/>
                <a:gridCol w="1013040"/>
                <a:gridCol w="1825560"/>
                <a:gridCol w="9288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un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gnifi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u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jemp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u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bs(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|x|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bs(-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bs(-3.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(x,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yor ent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 e 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(4, 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(4.1, 6.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in(x,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nor ent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 e 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in(4, 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in(4.1, 6.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andom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º al az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n [0,1[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andom(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x.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78519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Ordenar dos reales entre 0 y 9 generados al az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Números = 7 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Ordenados = 3 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78519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Ordenar dos reales entre 0 y 9 generados al az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Números = 7 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Ordenados = 3 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297360" y="3691080"/>
            <a:ext cx="8776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//generar nº reales en rango [0,1[: 0.d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double a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ath.random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(), b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ath.random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//generar enteros en rango [0,9] (de un dígi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int i=(int)(10*a), j=(int)(10*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.println(“Numeros= “ + i + “ “ + 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//ordenar dos ent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U.println(“Ordenados= “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ath.m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(i,j) + “ “ +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Math.ma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(i,j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 (10 min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cribir las instrucciones principales de un programa que establezca el diálogo indicado en el siguiente ejempl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Ordenar 3 enteros entre 1 y 100 generados al az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umeros = 73 8 4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Ordenados = 8 46 7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Indicació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 Si multiplica por 100 el Nº real 0.x1x2x3... (ej: 0.734...) que entrega la función random() obtendrá un número de la forma x1x2.x3.... (ej:73.4...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 la parte entera del resultado, usando coerción (int)(expresión), se puede obtener un Nº entero de 2 dígitos (valor entre 00 y 99). Sumando uno se obtiene un número entre 1 y 1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1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generar al azar 3 enteros entre 1 y 1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a = (int)(Math.random()*100) + 1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 = (int)(Math.random()*100) + 1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 = (int)(Math.random()*100) +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Numeros="+a+" "+b+" "+c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2º restando el menor y el mayor a suma de los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mayor = Math.max(Math.max(a,b),c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enor = Math.min(Math.min(a,b),c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edio = a + b + c - menor - mayor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Ordenados="+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enor+" "+medio+" "+mayor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uci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ones 2 y 3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4582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ol. 2: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obtener 2º como el menor de los ganadores (de los 3 “partidos” entre dos números)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medio = Math.min(Math.max(a,b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ath.min(Math.max(a,c),Math.max(b,c)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ol. 3: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 obtener 2º como el mayor de los perdedo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medio = Math.max(Math.min(a,b),Math.max(Math.min(a,c),Math.min(b,c)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822cd"/>
                </a:solidFill>
                <a:latin typeface="Verdana"/>
              </a:rPr>
              <a:t>Solución 4:  ordenar dos primeros, y después considerar 3º</a:t>
            </a:r>
            <a:r>
              <a:rPr b="0" lang="es-ES" sz="3200" spc="-1" strike="noStrike">
                <a:solidFill>
                  <a:srgbClr val="1822cd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t minab = Math.min(a,b)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xab = Math.max(a,b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urier New"/>
              </a:rPr>
              <a:t>int menor = Math.min(minab,c)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000000"/>
                </a:solidFill>
                <a:latin typeface="Courier New"/>
              </a:rPr>
              <a:t>aux =   Math.max(minab,c)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urier New"/>
              </a:rPr>
              <a:t>int medio = Math.min(aux,maxab)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000000"/>
                </a:solidFill>
                <a:latin typeface="Courier New"/>
              </a:rPr>
              <a:t>mayor = Math.max(aux,maxab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5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 funciones (métodos) definidos por el programa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 Ordenar3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Ordenar 3 numeros “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“entre 1 y 100 generados al azar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a=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azar(1,100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,b=azar(1,100),c=azar(1,100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Numeros="+a+" "+b+" "+c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Ordenados = " +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inimo(a,b,c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+ " “ +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edio(a,b,c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+ " " +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aximo(a,b,c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5 (continúa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tic public int azar(int x,int y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 + (int)(Math.random()*(y-x+1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inim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Math.min(Math.min(x,y),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im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Math.max(Math.max(x,y),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+y+z - minimo(x,y,z) -maximo(x,y,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//fin de la clase Ordenar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scribir las instrucciones principales de un programa que establezca el diálogo indicado en el siguiente ejempl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900" spc="-1" strike="noStrike">
                <a:solidFill>
                  <a:srgbClr val="000000"/>
                </a:solidFill>
                <a:latin typeface="Courier New"/>
              </a:rPr>
              <a:t>Invertir n</a:t>
            </a:r>
            <a:r>
              <a:rPr b="1" lang="es-ES_tradnl" sz="29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úmero entero de 2 dígit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9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s-ES_tradnl" sz="29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úmero a invertir</a:t>
            </a:r>
            <a:r>
              <a:rPr b="0" lang="es-ES_tradnl" sz="29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</a:t>
            </a:r>
            <a:r>
              <a:rPr b="1" lang="es-ES_tradnl" sz="2900" spc="-1" strike="noStrike">
                <a:solidFill>
                  <a:srgbClr val="ff0000"/>
                </a:solidFill>
                <a:latin typeface="Courier New"/>
                <a:ea typeface="ＭＳ Ｐゴシック"/>
              </a:rPr>
              <a:t>56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1" lang="es-ES_tradnl" sz="29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úmero invertido</a:t>
            </a:r>
            <a:r>
              <a:rPr b="0" lang="es-ES_tradnl" sz="29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</a:t>
            </a:r>
            <a:r>
              <a:rPr b="1" lang="es-ES_tradnl" sz="29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65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1822cd"/>
                </a:solidFill>
                <a:latin typeface="Verdana"/>
              </a:rPr>
              <a:t>Funciones definidas por el programador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tipo-resultado nombre(parámetr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struc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expresió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parámetros?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tipo nombre, 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1º copiar (asignar) argumentos de llamada en parámetr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2º ejecutar las instruc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3º devolver valor de la expresión (del tipo-resultado) en el punto de invocación (us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822cd"/>
                </a:solidFill>
                <a:latin typeface="Verdana"/>
              </a:rPr>
              <a:t>Propuesto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1125360"/>
            <a:ext cx="79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. Ordenar 4 números generados al az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dicación. Ordene los 3 primeros y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guida determine el lugar del 4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. Escribir la funció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tatic public int mayor(int x,int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n usar la función Math.max ni Math.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Verdana"/>
              </a:rPr>
              <a:t>Soluci</a:t>
            </a:r>
            <a:r>
              <a:rPr b="1" lang="es-ES_tradnl" sz="32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 1: aritm</a:t>
            </a:r>
            <a:r>
              <a:rPr b="1" lang="es-CL" sz="32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ética entero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public static void main(String args[]) throws IOException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U.println(“Invertir numero entero de dos digitos”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U.print(“Numero a invertir: “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nt aInvertir = U.readInt(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int primerDigito = aInvertir/10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int segundoDigito = aInvertir – primerDigito*10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U.print(“Numero invertido  ”+segundoDigito+””+primerDigito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997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uci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 2: aritmética reales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U.print(“Numero a invertir: ”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nt aInvertir = U.readInt(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int primerDigito = aInvertir/10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int segundoDigito = (int)((aInvertir/10.0 – primerDigito)*10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U.print(“Numero invertido : ”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U.print(segundoDigito+””+primerDigito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uci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 3: con %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U.print(“Numero a invertir: ”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nt aInvertir = U.readInt(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int primerDigito = aInvertir/10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int segundoDigito = aInvertir%10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U.print(“Numero invertido : ”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U.print(segundoDigito+””+primerDigito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822cd"/>
                </a:solidFill>
                <a:latin typeface="Verdana"/>
              </a:rPr>
              <a:t>Propuesto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Obtener una fecha (por ej: 20070308) y escribirla de la forma 08/03/2007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2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Escribir las instrucciones principales de un programa que establezca el siguiente diálog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erímetro y área de triángulo de lados a, b, 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a ? 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b ? 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 ? 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erimetro = N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Area = N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Nota. El área se calcula como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(s-a)(s-b)(s-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n s=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urier New"/>
              </a:rPr>
              <a:t>a+b+c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(semi-perímetr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4869000"/>
            <a:ext cx="2881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“Perimetro y área de triángulo de lados a, b, c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obtener l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a = U.readDouble(“a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b = U.readDouble(“b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c = U.readDouble(“c?”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calcular y mostrar perimetro y ar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“Perimetro = ”+(a+b+c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s= (a+b+c)/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"Area = "+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sqrt(s*(s-a)*(s-b)*(s-c)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"Area = "+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pow(s*(s-a)*(s-b)*(s-c),0.5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5345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1822cd"/>
                </a:solidFill>
                <a:latin typeface="Verdana"/>
              </a:rPr>
              <a:t>Uso (invocación) de métodos (funciones) predefinidas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jemp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.sqrt(s*(s-a)*(s-b)*(s-c)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.pow (s*(s-a)*(s-b)*(s-c), 0.5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ath.nombre(argument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argumentos? cero o más expresiones aritméticas (separadas por coma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1° evaluar argumentos. Ejemplo: s*(s-a)*(s-b)*(s-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2° evaluar función (método) con/en valores de argu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3° recibir resultado de la función (en el lugar o punto de invocación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V. Herskovic</dc:creator>
  <dc:description/>
  <dc:language>en-US</dc:language>
  <cp:lastModifiedBy>Valeria Herskovic</cp:lastModifiedBy>
  <cp:lastPrinted>2005-03-11T14:50:06Z</cp:lastPrinted>
  <dcterms:modified xsi:type="dcterms:W3CDTF">2007-03-12T14:46:50Z</dcterms:modified>
  <cp:revision>34</cp:revision>
  <dc:subject/>
  <dc:title>Clase12</dc:title>
</cp:coreProperties>
</file>