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282-2CA6-4E45-95C6-72300BC3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563-5EAB-441A-B771-B910B77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978-ADDD-48A9-85CF-5380A9D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480-E462-4115-8A2B-BF81D266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E40-FBE4-494A-B7BE-1FB3D5BA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4EE-5812-463E-AB0D-1B926601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6F4-4D13-40F0-ADA7-079AA9E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D83-3DB8-47B1-86B9-0F79468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401-3FE1-4C83-B568-A8B3A040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753-E378-4BFE-8620-0D4F888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678-9059-46C8-84A2-8DE3FD5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69E-8DE4-49FE-8C0E-9A53359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318-1E7C-4757-AE07-250FA01F69BE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3: Fun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400"/>
            </a:b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197000"/>
          <a:ext cx="7777080" cy="4459320"/>
        </p:xfrm>
        <a:graphic>
          <a:graphicData uri="http://schemas.openxmlformats.org/drawingml/2006/table">
            <a:tbl>
              <a:tblPr/>
              <a:tblGrid>
                <a:gridCol w="1512720"/>
                <a:gridCol w="2585160"/>
                <a:gridCol w="2059920"/>
                <a:gridCol w="16192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555920"/>
          <a:ext cx="7923240" cy="3746160"/>
        </p:xfrm>
        <a:graphic>
          <a:graphicData uri="http://schemas.openxmlformats.org/drawingml/2006/table">
            <a:tbl>
              <a:tblPr/>
              <a:tblGrid>
                <a:gridCol w="1420560"/>
                <a:gridCol w="1722600"/>
                <a:gridCol w="1012680"/>
                <a:gridCol w="1013040"/>
                <a:gridCol w="1825560"/>
                <a:gridCol w="9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" y="369108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nº reales en rango [0,1[: 0.d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a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, b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enteros en rango [0,9] (de un díg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=(int)(10*a), j=(int)(10*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Numeros= “ + i + “ “ + 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ordenar dos ent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Ordenados= “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 + “ “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(10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Si multiplica por 100 el Nº real 0.x1x2x3... (ej: 0.734...) que entrega la función random() obtendrá un número de la forma x1x2.x3.... (ej:73.4..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la parte entera del resultado, usando coerción (int)(expresión), se puede obtener un Nº entero de 2 dígitos (valor entre 00 y 99). Sumando uno se obtiene un número entre 1 y 1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generar al azar 3 enteros entre 1 y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(int)(Math.random()*100)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2º restando el menor y el mayor a suma de los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 = Math.max(Math.max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 = Math.min(Math.min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dio = a + b + c - menor - mayo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="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+" "+medio+" "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ones 2 y 3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2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obtener 2º como el menor de los ganadores (de los 3 “partidos” entre dos número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in(Math.max(a,b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in(Math.max(a,c),Math.max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3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obtener 2º como el mayor de los perd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ax(Math.min(a,b),Math.max(Math.min(a,c),Math.min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4:  ordenar dos primeros, y después considerar 3º</a:t>
            </a:r>
            <a:r>
              <a:rPr b="0" lang="es-ES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minab = Math.min(a,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ab = Math.max(a,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int menor = Math.min(minab,c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aux =   Math.max(minab,c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int medio = Math.min(aux,maxa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mayor = Math.max(aux,maxa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Invertir 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entero de 2 dígi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a invertir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5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úmero invertido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253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 Ordenar 4 números generados al a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cación. Ordene los 3 primeros y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guida determine el lugar del 4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Escribir la fun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ic public int mayor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n usar la función Math.max ni Math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: aritm</a:t>
            </a:r>
            <a:r>
              <a:rPr b="1" lang="es-C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ica enter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ln(“Invertir numero entero de dos digito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“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 – primerDigito*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 ”+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99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: aritmética re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(int)((aInvertir/10.0 – primerDigito)*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: con %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Obtener una fecha (por ej: 20070308) y escribirla de la forma 08/03/200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erímetro y área de triángulo de lados a, b,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 = 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ota. El área se calcula com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 s=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urier New"/>
              </a:rPr>
              <a:t>a+b+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6900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y área de triángulo de lados a, b, 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 = U.readDouble(“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 = U.readDouble(“b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c = U.readDouble(“c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= ”+(a+b+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= 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s*(s-a)*(s-b)*(s-c),0.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534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Uso (invocación) de métodos (funciones) predefinida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° evaluar argumentos. Ejemplo: 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2T14:46:50Z</dcterms:modified>
  <cp:revision>34</cp:revision>
  <dc:subject/>
  <dc:title>Clase12</dc:title>
</cp:coreProperties>
</file>