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DBC-3097-4B11-A3FE-0DE2182E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80800"/>
            <a:ext cx="822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F20-B129-4672-A404-601D80F8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8080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8080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90D-05A1-403F-B65B-1B168F19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8080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8080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8080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F878-165D-462E-9C6B-9F214B72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080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756-E1C9-4681-AEC7-68F5591F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8080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80800"/>
            <a:ext cx="822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80800"/>
            <a:ext cx="822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8080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8080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8080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8080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8080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1AD-3CAC-4C5D-99DC-B760827C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C01-AF3C-43FF-BB9A-F2215651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61E5-1EED-40DE-8DF7-41893866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DC8-6BBD-43B4-B818-C172CF12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8080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955-33E3-486C-830C-320CC50D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8080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1914-EB05-47FE-84EB-310E0DAB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80800"/>
            <a:ext cx="822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EB9-E73B-4612-B200-8AAF22AC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C3CA-F4E7-4E00-B05A-4906F1F7EF15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2: Asignaci</a:t>
            </a:r>
            <a:r>
              <a:rPr b="1" lang="en-GB" sz="40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</a:t>
            </a: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, Ti</a:t>
            </a:r>
            <a:r>
              <a:rPr b="1" lang="en-GB" sz="40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pos de Dato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Instruc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de a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igna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mántica (significad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ero: Evaluar expresión (calcular resultado) según reglas normales del álgebr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do: Asignar (guardar) resultado a (en) la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valuar expresió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peradores unarios (-, +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peradores “multiplicativos” (*, /, 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peradores “aditivos” (+, 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caso de operadores de igual prioridad, evaluar de izq a der. Ej: 100.0*votos1/total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100.0*votos1)/to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éntesis se usan p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27880" indent="-3222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odificar orden de evaluación. Ej: (a+b)*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27880" indent="-3222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nfirmar orden de evaluación. Ej: a+(b*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27880" indent="-3222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nte confusión, usar paréntesis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280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1822cd"/>
                </a:solidFill>
                <a:latin typeface="Verdana"/>
              </a:rPr>
              <a:t>Inicialización de variables (declaración y asignación)</a:t>
            </a:r>
            <a:endParaRPr b="1" lang="en-US" sz="25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229600" cy="52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v1 = U.readInt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otal = v1 + v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nota=4.5, prom=5.3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ipo nombre1=exp1, nombre2=exp2, ...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ipo nombre1, nombre2,...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ombre1=expresión1; nombre2=exp2;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nstantes simbólicas (variables constant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tipo nombre1=exp1,nombre2=exp2,...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inal double pi=3.1416, e=2.7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inal int mayor=2147483647, menor=-mayor-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100840" y="1125360"/>
            <a:ext cx="40212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o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 SIEMPRE decla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ariables antes de usar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variable c/nombre ú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Tipos de datos numéricos (enteros y reales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71640" y="1484280"/>
          <a:ext cx="6605640" cy="3352680"/>
        </p:xfrm>
        <a:graphic>
          <a:graphicData uri="http://schemas.openxmlformats.org/drawingml/2006/table">
            <a:tbl>
              <a:tblPr/>
              <a:tblGrid>
                <a:gridCol w="960480"/>
                <a:gridCol w="626760"/>
                <a:gridCol w="2800440"/>
                <a:gridCol w="2217960"/>
              </a:tblGrid>
              <a:tr h="8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º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yor 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or 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 1 = 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-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 1 = 32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-327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1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–1 =2.147.483.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1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-2...6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4 x 10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3.4 x 10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7 x 10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.7 x 10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-217440" y="5167440"/>
            <a:ext cx="76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it: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bi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ary digi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dígito binario: 0 o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Tipo de una expres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05040" y="1192320"/>
          <a:ext cx="7335720" cy="4111560"/>
        </p:xfrm>
        <a:graphic>
          <a:graphicData uri="http://schemas.openxmlformats.org/drawingml/2006/table">
            <a:tbl>
              <a:tblPr/>
              <a:tblGrid>
                <a:gridCol w="1358640"/>
                <a:gridCol w="1428840"/>
                <a:gridCol w="1600200"/>
                <a:gridCol w="1486080"/>
                <a:gridCol w="146196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p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era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erador u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p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eran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(-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erador bi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p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“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yor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+ 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étodo (funció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p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.readInt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re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po últi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+2+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,int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Verdana"/>
              </a:rPr>
              <a:t>Tipos en instrucción de asignación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874880"/>
          <a:ext cx="8229600" cy="3786120"/>
        </p:xfrm>
        <a:graphic>
          <a:graphicData uri="http://schemas.openxmlformats.org/drawingml/2006/table">
            <a:tbl>
              <a:tblPr/>
              <a:tblGrid>
                <a:gridCol w="1446120"/>
                <a:gridCol w="1754280"/>
                <a:gridCol w="2057400"/>
                <a:gridCol w="2971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po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po expr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f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mp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ignar directa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 nota = 4.5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tir expresión a tipo T y asign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 nota = 4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nota = 4.5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Coerción de tipos (Casting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vers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dato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ólo entre algunos tipos de dato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mplícita o explíci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mplícito: de tipos más pequeños a más gran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 a = 3; double b = a; //b es 3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xp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cito: de tipos más grandes a más pequeñ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double a = 3.66; int b = (int)a; //b es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(tipo)expres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valuar expre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vertir resultado al tipo indi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tregar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1822cd"/>
                </a:solidFill>
                <a:latin typeface="Verdana"/>
              </a:rPr>
              <a:t>Casting: ejemplo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641988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double not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 4.5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.println((int)nota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.println((int)(nota+0.5)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779880" y="16700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nota trun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6960" y="224640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nota redonde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Solución Tare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cribir un programa que establezca el siguie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álo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alcular perímetro y área de rectángu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Largo ? 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ncho ? 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erímetro = N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rea = N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Calcular perímetro y area de rectángulo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(“Largo ? ”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l = 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(“Ancho ?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a = 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Perimetro = “ + 2*(l+a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Area = “ + l*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Solución Tare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Verdana"/>
              </a:rPr>
              <a:t>Diseñar el diálogo y escribir un programa que calcule la velocidad de un móvil en km/hora, dadas la distancia (en metros) y el tiempo (en segundos).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U.println(“Calcular velocidad de un movil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ouble d = U.readDouble(“Distancia(en metros) ? “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double t = U.readDouble(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“Tiempo (en segundos) ? ”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U.println(“Velocidad=“+(d/1000)/(t/3600)+“km/h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lternativamente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U.println(“Velocidad=“ + 3.6*d/t +“km/h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un programa que siga el siguiente di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log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</a:rPr>
              <a:t>Calcular porcentajes de elecci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otos candidato 1? ____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otos candidato 2? ____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otal de Votos = N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andidato 1: N.N%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andidato 2: N.N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ublic class Elecciones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ublic static void main(String args[]) throws IOException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U.println(“Calcular porcentajes de elecci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ón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votos1, votos2, total;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decl. vari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(“Votos candidato 1? 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otos1 = 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(“Votos candidato 2? 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otos2 = 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otal = votos1 + votos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Total de Votos = “+total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Candidato 1: ”+100.0*votos1/total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Candidato 2: ”+100.0*votos2/total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Operador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2286000"/>
          <a:ext cx="6858000" cy="3019320"/>
        </p:xfrm>
        <a:graphic>
          <a:graphicData uri="http://schemas.openxmlformats.org/drawingml/2006/table">
            <a:tbl>
              <a:tblPr/>
              <a:tblGrid>
                <a:gridCol w="2057400"/>
                <a:gridCol w="2971800"/>
                <a:gridCol w="1828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gnific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, -, *,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itm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t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+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to de divisi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%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, - (unari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g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x, -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bre el operador / en jav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La divis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ón entre dos números enteros es un entero (la parte entera de la división real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mplos: 5/6 = 0, 10/3 =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Si multiplicamos un entero por un real, 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resultado es re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 radio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double perimetro = 2 * radio * 3.1416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3141720"/>
            <a:ext cx="435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a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b = 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ouble resultado = a /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3068640"/>
            <a:ext cx="533520" cy="1211400"/>
          </a:xfrm>
          <a:custGeom>
            <a:avLst/>
            <a:gdLst>
              <a:gd name="textAreaLeft" fmla="*/ 0 w 533520"/>
              <a:gd name="textAreaRight" fmla="*/ 192600 w 533520"/>
              <a:gd name="textAreaTop" fmla="*/ 31320 h 1211400"/>
              <a:gd name="textAreaBottom" fmla="*/ 1180080 h 12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6720" y="335772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ado = 0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Volviendo al ejemplo…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476244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otos1/total*100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otos1/total*100.0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*votos1/tot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.0*votos1/to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5366520" y="2349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8600" y="1268280"/>
            <a:ext cx="85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Candidato 1: ”+100.0*votos1/tot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66160" y="2852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= 0.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4360" y="342900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= resultado ent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720" y="39337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22cd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  <a:ea typeface="ＭＳ Ｐゴシック"/>
              </a:rPr>
              <a:t>= resultado re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Instruc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de a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igna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362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struc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que asigna un valor a una vari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votos1 = U.readInt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total = votos1 + votos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variable = expresi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presió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 expresión se escribe en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lín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ariables y constantes (enteras y real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eradores binarios (+, -, *, /) y unarios (+, 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étodos (funciones) que devuelven un núm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presiones entre parénte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08T18:24:19Z</dcterms:modified>
  <cp:revision>26</cp:revision>
  <dc:subject/>
  <dc:title>Clase12</dc:title>
</cp:coreProperties>
</file>