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286D-DE83-45BB-A80F-CF513B38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DDF9-B353-40CA-9845-2D32631B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FD0D-4CB7-49CA-A2F0-E9658987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1D4F-232D-4E9C-890A-122ECA2E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6E27-FBE0-4C95-9C07-F435ACB2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7C2-C7E7-44F8-9600-59DC4075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3FDB-288E-4028-B657-DE9DC0E5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CD20-09EA-49C7-A123-416A1D25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3098-299F-4F49-A103-4B2E9BB8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CA89-6EBC-4D60-9C83-645B40C7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2FE6-9B35-468A-872F-A0DB46F3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BC41-929E-4256-9D94-6A1A5D25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4BF8-270E-4AF0-A5AC-88238D9F5B12}" type="slidenum">
              <a:rPr b="0" lang="es-ES_tradnl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00040" indent="-22392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35920" indent="-22392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C1001- Computación I</a:t>
            </a:r>
            <a:br>
              <a:rPr sz="4400"/>
            </a:b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Introducci</a:t>
            </a:r>
            <a:r>
              <a:rPr b="1" lang="es-ES_tradnl" sz="44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</a:t>
            </a:r>
            <a:br>
              <a:rPr sz="4400"/>
            </a:b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Valeria Herskov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vherskov@dcc.uchile.c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struir al computador para que establezca el siguiente diálogo con una persona (usuario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put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gresa un N°: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12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perso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Gano yo con el 12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putado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1332000" y="321300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332000" y="4581360"/>
            <a:ext cx="0" cy="820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Algoritmo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tapas (pasos, instrucciones) qu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debe realizar (ejecutar) el computad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para resolver un proble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Pas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¿ . . . 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Algoritmo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Pas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scribir (mostrar) en la pantalla la frase “Ingresa un N°: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¿...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Algoritmo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Pa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scribir (mostrar) en la pantalla la frase “Ingresa un N°: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eer (obtener) el N° ingresado por la persona usando el tecl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scribir en la pantalla una línea co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frase “Gano yo con el “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número (ingresado por la persona) más u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Progra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Programa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lgoritmo expresado en un lenguaje de program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Programa en lenguaje Ja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(instrucciones principa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(“Ingresa un N°:“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 = U.readInt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“Gano yo con el “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n+1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3500280"/>
            <a:ext cx="431640" cy="50508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4365720"/>
            <a:ext cx="431640" cy="79200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5589720"/>
            <a:ext cx="431640" cy="79200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3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Lenguaje Java: </a:t>
            </a: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aracterísticas principale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n idioma inglé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palabras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,..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Uso de notación matemátic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xpresiones: n+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funciones: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print(...)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readInt(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Sintaxis (gramática, escritura) reglamenta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instrucciones terminan con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palabras con significados especiales (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readInt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uso de minúsculas (salvo casos especial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Semántica (interpretación) precisa (sin ambigüedad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instrucciones con significado/efecto bien defini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467480" y="1905120"/>
            <a:ext cx="1292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Lenguaje Java: </a:t>
            </a: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aracterísticas técnica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reado (diseñado) en 1994 en empresa SU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uperconjunto” del lenguaje C (197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ubconjunto” del lenguaje C++ (198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enguaje orientado a obje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es para modelar/simular problemas re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mueve herencia (reutilización) de progra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enguaje orientado a redes y w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es para insertar programas en páginas w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ción concurrente y distribuid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133720"/>
            <a:ext cx="2971800" cy="1066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++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2286000"/>
            <a:ext cx="2133720" cy="7621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ava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48720" y="2438280"/>
            <a:ext cx="914400" cy="4572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Explicaciones detallad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U.print(“Ingresa un N°:“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n = U.readInt(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U.print(“Gano yo con el “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U.print(n+1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0520" y="3504960"/>
            <a:ext cx="81536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mántica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scribe en la pantalla la frase encerrada entre “ y “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intaxis: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U.print(“...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unción (método) que escribe parámetro (argumento) en la pantalla del comput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Explicaciones detallad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U.print(“Ingresa un N°:“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n = U.readInt(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U.print(“Gano yo con el “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U.print(n+1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0520" y="3352320"/>
            <a:ext cx="85345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mántica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lara (define) n como una variable ente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¿variabl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presentación simbólica de un valor (número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presenta una ubicación (celda) en la memoria del computad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pacidad: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u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valor/número (del tipo indicado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uede variar (cambiar) su val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po nombr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mbre (identificador): letra seguida de letras, dígitos o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ipo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úmero entero sin punto decimal (ejs:123, -4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úmero real (ejs: 5.8, 0.000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Explicaciones detallad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U.print(“Ingresa un N°:“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 = U.readInt(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U.print(“Gano yo con el “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U.print(n+1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80520" y="3352320"/>
            <a:ext cx="85345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Semántica: 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lee un número entero  y lo guarda en la variable 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76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1º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 método (función sin argumentos) U.readInt(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987840" indent="-20772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spera que el usuario ingrese un número (dígitos y enter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987840" indent="-20772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ee (obtiene) el númer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987840" indent="-20772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rega el número como resultad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76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2º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 número se guarda en (asigna a ) la variable 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variable = U.</a:t>
            </a:r>
            <a:r>
              <a:rPr b="0" i="1" lang="es-ES" sz="1900" spc="-1" strike="noStrike">
                <a:solidFill>
                  <a:srgbClr val="000000"/>
                </a:solidFill>
                <a:latin typeface="Courier New"/>
              </a:rPr>
              <a:t>readTipo(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s-ES" sz="1900" spc="-1" strike="noStrike">
                <a:solidFill>
                  <a:srgbClr val="000000"/>
                </a:solidFill>
                <a:latin typeface="Courier New"/>
              </a:rPr>
              <a:t>readTipo</a:t>
            </a: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(): readInt() o readDouble(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C1001- Computación I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2133720"/>
            <a:ext cx="3048120" cy="1904760"/>
          </a:xfrm>
          <a:prstGeom prst="roundRect">
            <a:avLst>
              <a:gd name="adj" fmla="val 16667"/>
            </a:avLst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57150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-720" y="1752480"/>
            <a:ext cx="5181480" cy="2667240"/>
          </a:xfrm>
          <a:prstGeom prst="cloudCallout">
            <a:avLst>
              <a:gd name="adj1" fmla="val -26749"/>
              <a:gd name="adj2" fmla="val 72138"/>
            </a:avLst>
          </a:prstGeom>
          <a:solidFill>
            <a:srgbClr val="e6ea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2438280"/>
            <a:ext cx="50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azonamiento algorítmico/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pacidad modelamiento/abs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abilidad gral resolver probl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5562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52680" y="51055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5029200"/>
            <a:ext cx="1447560" cy="1447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715000" y="38862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5" idx="0"/>
            <a:endCxn id="113" idx="2"/>
          </p:cNvCxnSpPr>
          <p:nvPr/>
        </p:nvCxnSpPr>
        <p:spPr>
          <a:xfrm flipH="1" flipV="1" rot="5400000">
            <a:off x="4571640" y="3733200"/>
            <a:ext cx="915120" cy="1524960"/>
          </a:xfrm>
          <a:prstGeom prst="curvedConnector5">
            <a:avLst>
              <a:gd name="adj1" fmla="val 49980"/>
              <a:gd name="adj2" fmla="val 49988"/>
              <a:gd name="adj3" fmla="val 4998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6172200" y="38862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49528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49528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/>
          <p:nvPr/>
        </p:nvCxnSpPr>
        <p:spPr>
          <a:xfrm rot="5400000">
            <a:off x="5257080" y="3962160"/>
            <a:ext cx="915120" cy="1067760"/>
          </a:xfrm>
          <a:prstGeom prst="curvedConnector5">
            <a:avLst>
              <a:gd name="adj1" fmla="val 58638"/>
              <a:gd name="adj2" fmla="val 49983"/>
              <a:gd name="adj3" fmla="val 5863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Explicaciones detallad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U.print(“Ingresa un N°:“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n = U.readInt(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U.print(“Gano yo con el “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.print(n+1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80520" y="3352320"/>
            <a:ext cx="85345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scribe el valor de la variable n más u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1º evaluar expresión n+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2º escribir result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(expresión aritmétic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xpresión aritmética : operando  operador  operan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operador: +, -, *, 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operando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variable (ej: n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onstante (ej: 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xpresión con/sin paréntesis (ejs: a*b,(a/b)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Abreviatur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urier New"/>
              </a:rPr>
              <a:t>U.print(“Ingresa un N°:“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n = U.readInt(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 equivalente a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U.print(“Ingresa un nº:”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nt n = U.readInt(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 es equivalente a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nt n=U.readInt(“Ingresa un nº:”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Abreviatur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“Gano yo con el “)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n+1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 equivalente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“Gano yo con el “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+(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+1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+: operador de concatenación (añadidu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éntesis obligan a calcular primer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“Gano yo con el “+(n+1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intln (print line): escribe y después posiciona el cursor al comienzo de la siguiente línea en la pantal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6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scribir un programa que establezca el siguiente diálog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urier New"/>
              </a:rPr>
              <a:t>Calcular perímetro y área de círcul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urier New"/>
              </a:rPr>
              <a:t>radio ? </a:t>
            </a:r>
            <a:r>
              <a:rPr b="0" lang="es-ES" sz="3000" spc="-1" strike="noStrike">
                <a:solidFill>
                  <a:srgbClr val="ff0000"/>
                </a:solidFill>
                <a:latin typeface="Courier New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urier New"/>
              </a:rPr>
              <a:t>perímetro = N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urier New"/>
              </a:rPr>
              <a:t>área = N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Sol. 1: </a:t>
            </a:r>
            <a:r>
              <a:rPr b="1" lang="es-ES_tradnl" sz="2800" spc="-1" strike="noStrike">
                <a:solidFill>
                  <a:srgbClr val="1822cd"/>
                </a:solidFill>
                <a:latin typeface="Verdana"/>
              </a:rPr>
              <a:t>Suponiendo que radio es un n</a:t>
            </a:r>
            <a:r>
              <a:rPr b="1" lang="es-ES_tradnl" sz="28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úmero entero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U.println(“Calcular perímetro y área de círculo”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U.print(“radio ?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“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; r=U.readInt(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(“perímetro = “)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ln(2*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.141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r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(“área = “)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ln(3.1416*r*r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ando abreviatur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U.println(“Calcular perímetro y área de círculo”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=U.readInt(“radio ? “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U.println(“perímetro = “ + 2*3.1416*r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U.println(“área = “ + 3.1416*r*r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 No es necesario parentizar las expresiones puesto que * tiene mayor prioridad que + (igual que en álgebr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“</a:t>
            </a: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Errores” posible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No seguir fielmente el diálogo propues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Olvidar escribir línea de títul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scribir con mayúscul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scribir línea de título con print y no printl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scribir pregunta con println y no con pri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Nombrar inadecuadamente la variable (n y no r o rad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scribir la letra griega л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scribir 3,1416 y no 3.1416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quivocarse en valor de л (Ej: 3.4116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Olvidar operador de multiplicación *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Usar notación inexistente para elevar al cuadrado (r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o r^2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Sol. 2: </a:t>
            </a:r>
            <a:r>
              <a:rPr b="1" lang="es-ES_tradnl" sz="2800" spc="-1" strike="noStrike">
                <a:solidFill>
                  <a:srgbClr val="1822cd"/>
                </a:solidFill>
                <a:latin typeface="Verdana"/>
              </a:rPr>
              <a:t>Suponiendo radio real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56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U.println(“Calcular perímetro y área de círculo”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r=U.readDouble(“radio ?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“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ln(“perimetro = “ + 2*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th.PI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r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ln(“area = “+Math.PI*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th.pow(r,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Math.PI :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valor predefinido de 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л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(3.14159265358979323846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s una constante real (valor inmodificabl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Math.pow(r,2):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alcula y entrega r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unción predefinida (incorporada al lenguaje Jav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sintaxis: Math.pow(x,y), x e y: expres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semántica: x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y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, con resultado re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Programa completo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07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todo programa debe estar contenido en una cl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class Nombre{…} y grabarse en archivo Nombre.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lass Jalisco //nunca pier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encabezamiento del método principal (mai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main(String[]args) throws IO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n=U.readInt(“Ingresa un nº: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Gano yo con el “+(n+1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comentarios (observaciones opcionales)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//... (hasta el final de la líne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lase U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e U: clase de la U con métodos para leer y escribir númer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teclado.readLine(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return Double.parseDouble(teclado.readLine(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(x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Tare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tregar al comienzo de próxima clas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cribir un programa que establezca el siguien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álo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lcular perímetro y área de rectángu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Largo ? 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ncho ? 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erímetro = N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rea = N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Diseñar el diálogo y escribir un programa que calcule la velocidad de un móvil en km/hora, dadas la distancia (en metros) y el tiempo (en segundo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nventar un problema, diseñar el diálogo y escribir el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grama correspondien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Objetivo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solver probl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pec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fic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ribir programas que resuelvan probl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 largo plazo (pro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ósito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azonamientos algor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tmico y lóg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pacidades de abstracción y modela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abilidad general para resolver probl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Metodologí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Pedagogí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rientación al aprendiza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lases de cátedra (con profesor) y clases auxiliares (con profesor auxiliar) centradas en problemas y alum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enguajes Java y Matla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mbiente Internet/we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ontenido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Fundamentos de program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Programación orientada a obje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Interfaces de usuar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Listas y tablas de valo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Computación numér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Evaluació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NF (nota final): 70%NC+30%NT (NC,NT </a:t>
            </a:r>
            <a:r>
              <a:rPr b="0" lang="es-E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≥ </a:t>
            </a: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4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NT (nota tareas): promedio tarea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NC (nota control): prom ponderado controles/exame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1 control recuperativo (después de c1 y c2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71640" y="3789360"/>
          <a:ext cx="6985080" cy="29415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86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m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or confirm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nde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y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y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Reglas del curso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tar inform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30960" indent="-5014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ada en clases y publicada en u-cursos es oficial, y es su responsabilidad saberl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 copi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30960" indent="-5014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s tareas son individuales y no se tolerar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 la cop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0960" indent="-5014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¿Qué es copia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35160" indent="-4294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viar, recibir tareas, escribirle la tarea (o partes) a alguien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0960" indent="-5014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¿Qué NO es copi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35160" indent="-4294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sar lo aprendido en clases, discutir verbalmente la tare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Reglas del curso 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(… cont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Plazo de reclam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061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rrores, problemas con sus notas se pod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n reclamar hasta 30 días después de la publicación de la nota.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spués no se aceptarán reclamos y no hay excepcion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1er Programa:</a:t>
            </a:r>
            <a:br>
              <a:rPr sz="4400"/>
            </a:b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Jalisco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743200" y="56383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4:31:24Z</dcterms:created>
  <dc:creator>Valeria Herskovic</dc:creator>
  <dc:description/>
  <dc:language>en-US</dc:language>
  <cp:lastModifiedBy>Valeria Herskovic</cp:lastModifiedBy>
  <cp:lastPrinted>2006-03-02T13:33:10Z</cp:lastPrinted>
  <dcterms:modified xsi:type="dcterms:W3CDTF">2007-03-07T13:49:47Z</dcterms:modified>
  <cp:revision>19</cp:revision>
  <dc:subject/>
  <dc:title>  CC1001- Computación I </dc:title>
</cp:coreProperties>
</file>