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D0C-10FC-4DAB-A80B-95FC9DD8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BA1-A852-4D1B-9DBC-BD5A5DEE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6EA-D5F8-404C-BB90-AB56F435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1FB-2C0D-4156-9654-4CD3A81D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CE6-2682-477F-A014-E193B3BE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5EC-1C02-429A-8752-71821BD7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12E-CABE-44DA-8A68-C63B2D18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F8D-D1BE-4A1F-BC35-815582E7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DD2-08FC-4ED2-B581-459431F9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20B-F674-4D9E-9519-7EED993E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F0C-0988-4406-8E73-2F95C389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141-6694-4DD2-A856-5FCD904B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B677-9B25-4E0C-B59B-A6C5A3DE4CEF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Introducci</a:t>
            </a:r>
            <a:r>
              <a:rPr b="1" lang="es-ES_tradnl" sz="4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br>
              <a:rPr sz="4400"/>
            </a:b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ruir al computador para que establezca el siguiente diálogo con una persona (usuario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ut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gresa un N°: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12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ers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Gano yo con el 1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utad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321300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332000" y="4581360"/>
            <a:ext cx="0" cy="820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tapas (pasos, instrucciones) q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be realizar (ejecutar) el computad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para resolver un probl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¿ . . .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scribir (mostrar) en la pantalla la frase “Ingresa un N°: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¿...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(mostrar) en la pantalla la frase “Ingresa un N°: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eer (obtener) el N° ingresado por la persona usando el tecl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en la pantalla una línea c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frase “Gano yo con el 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número (ingresado por la persona) más u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ograma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lgoritmo expresado en un lenguaje de progra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ograma en lenguaje 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instrucciones princip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“Gano yo con el 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500280"/>
            <a:ext cx="431640" cy="50508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4365720"/>
            <a:ext cx="431640" cy="79200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5589720"/>
            <a:ext cx="431640" cy="79200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Lenguaje Java: 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aracterísticas princip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 idioma inglé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.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notación matemátic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xpresiones: n+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unciones: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(...)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Int(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intaxis (gramática, escritura) reglamenta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terminan con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con significados especiales (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minúsculas (salvo casos especial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emántica (interpretación) precisa (sin ambigüedad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con significado/efecto bien defini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292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Lenguaje Java: 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aracterísticas técnica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eado (diseñado) en 1994 en empresa S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uperconjunto” del lenguaje C (197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ubconjunto” del lenguaje C++ (198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es para modelar/simular problemas re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mueve herencia (reutilización) de pro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nguaje orientado a redes y w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es para insertar programas en páginas w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ción concurrente y distribuid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133720"/>
            <a:ext cx="2971800" cy="1066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++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2286000"/>
            <a:ext cx="213372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ava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2438280"/>
            <a:ext cx="914400" cy="45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“Gano yo con el 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0520" y="3504960"/>
            <a:ext cx="8153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e en la pantalla la frase encerrada entre “ y 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(“...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nción (método) que escribe parámetro (argumento) en la pantalla del comput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“Gano yo con el 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520" y="3352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lara (define) n como una variable ente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¿variabl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resentación simbólica de un valor (númer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resenta una ubicación (celda) en la memoria del computad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u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lor/número (del tipo indicad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ede variar (cambiar) su va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mbre (identificador): letra seguida de letras, dígitos o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po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úmero entero sin punto decimal (ejs:123, -4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úmero real (ejs: 5.8, 0.000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“Gano yo con el 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0520" y="3352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lee un número entero  y lo guarda en la variable 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1º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método (función sin argumentos) U.readInt(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spera que el usuario ingrese un número (dígitos y ente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ee (obtiene) el númer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rega el número como result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º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número se guarda en (asigna a ) la variable 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variable = U.</a:t>
            </a:r>
            <a:r>
              <a:rPr b="0" i="1" lang="es-ES" sz="1900" spc="-1" strike="noStrike">
                <a:solidFill>
                  <a:srgbClr val="000000"/>
                </a:solidFill>
                <a:latin typeface="Courier New"/>
              </a:rPr>
              <a:t>readTipo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s-ES" sz="1900" spc="-1" strike="noStrike">
                <a:solidFill>
                  <a:srgbClr val="000000"/>
                </a:solidFill>
                <a:latin typeface="Courier New"/>
              </a:rPr>
              <a:t>readTipo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(): readInt() o readDouble(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2133720"/>
            <a:ext cx="3048120" cy="1904760"/>
          </a:xfrm>
          <a:prstGeom prst="roundRect">
            <a:avLst>
              <a:gd name="adj" fmla="val 16667"/>
            </a:avLst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7150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-720" y="1752480"/>
            <a:ext cx="5181480" cy="2667240"/>
          </a:xfrm>
          <a:prstGeom prst="cloudCallout">
            <a:avLst>
              <a:gd name="adj1" fmla="val -26749"/>
              <a:gd name="adj2" fmla="val 72138"/>
            </a:avLst>
          </a:prstGeom>
          <a:solidFill>
            <a:srgbClr val="e6ea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43828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5029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150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3" idx="2"/>
          </p:cNvCxnSpPr>
          <p:nvPr/>
        </p:nvCxnSpPr>
        <p:spPr>
          <a:xfrm flipH="1" flipV="1" rot="5400000">
            <a:off x="4571640" y="3733200"/>
            <a:ext cx="915120" cy="1524960"/>
          </a:xfrm>
          <a:prstGeom prst="curvedConnector5">
            <a:avLst>
              <a:gd name="adj1" fmla="val 49980"/>
              <a:gd name="adj2" fmla="val 49988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1722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rot="5400000">
            <a:off x="5257080" y="3962160"/>
            <a:ext cx="915120" cy="1067760"/>
          </a:xfrm>
          <a:prstGeom prst="curvedConnector5">
            <a:avLst>
              <a:gd name="adj1" fmla="val 58638"/>
              <a:gd name="adj2" fmla="val 49983"/>
              <a:gd name="adj3" fmla="val 5863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“Gano yo con el 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0520" y="3352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scribe el valor de la variable n más u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1º evaluar expresión n+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º escribi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expresión aritmétic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presión aritmética : operando  operador  operan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operador: +, -, *, 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operando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variable (ej: n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stante (ej: 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xpresión con/sin paréntesis (ejs: a*b,(a/b)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breviatur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equivalente a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 = U.readInt(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 es equivalente a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breviatur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+: operador de concatenación (añadi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éntesis obligan a calcular primer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+(n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intln (print line): escribe y después posiciona el cursor al comienzo de la siguiente línea en la pantal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scribir un programa que establezca el siguiente diálog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urier New"/>
              </a:rPr>
              <a:t>Calcular perímetro y área de círcu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urier New"/>
              </a:rPr>
              <a:t>radio ? </a:t>
            </a:r>
            <a:r>
              <a:rPr b="0" lang="es-ES" sz="30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urier New"/>
              </a:rPr>
              <a:t>área = N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Sol. 1: </a:t>
            </a: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Suponiendo que radio es un n</a:t>
            </a:r>
            <a:r>
              <a:rPr b="1" lang="es-ES_tradnl" sz="28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úmero enter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“Calcular perímetro y área de círculo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(“radio 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; r=U.readInt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“perímetro = “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2*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.141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r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“área = “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3.1416*r*r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ando abreviatur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“Calcular perímetro y área de círculo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=U.readInt(“radio ? “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“perímetro = “ + 2*3.1416*r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“área = “ + 3.1416*r*r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No es necesario parentizar las expresiones puesto que * tiene mayor prioridad que + (igual que en álgeb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“</a:t>
            </a: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Errores” posibl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o seguir fielmente el diálogo propues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lvidar escribir línea de títu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cribir con mayúscu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cribir línea de título con print y no printl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cribir pregunta con println y no con pr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ombrar inadecuadamente la variable (n y no r o rad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cribir la letra griega л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cribir 3,1416 y no 3.141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quivocarse en valor de л (Ej: 3.4116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lvidar operador de multiplicación 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r notación inexistente para elevar al cuadrado (r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r^2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Sol. 2: </a:t>
            </a: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Suponiendo radio real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“Calcular perímetro y área de círculo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=U.readDouble(“radio ?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“perimetro = “ + 2*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r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“area = “+Math.PI*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th.pow(r,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th.PI :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alor predefinido de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л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3.14159265358979323846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 una constante real (valor inmodificab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th.pow(r,2):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lcula y entrega r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ción predefinida (incorporada al lenguaje Jav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intaxis: Math.pow(x,y), x e y: expres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emántica: 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, con resultado re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grama complet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07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todo programa debe estar contenido en una cl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lass Nombre{…} y grabarse en archivo Nombre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Jalisco //nunca pier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encabezamiento del método principal (ma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 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Ingresa un nº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Gano yo con el “+(n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mentarios (observaciones opcionales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... (hasta el final de la lín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e U: clase de la U con métodos para leer y escribir núme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Tare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egar al comienzo de próxima clas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ir un programa que establezca el sigui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lcular perímetro y área de rectángu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Largo ?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ncho ?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ar el diálogo y escribir un programa que calcule la velocidad de un móvil en km/hora, dadas la distancia (en metros) y el tiempo (en segundo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nventar un problema, diseñar el diálogo y escribir el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grama correspondi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Objetiv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pec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f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 largo plazo (p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ósi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azonamientos algo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tmico y lóg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pacidades de abstracción y model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Metodologí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ontenid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Fundamentos de progra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gramación orientada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terfaces de usuar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istas y tablas de val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mputación numé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Evalu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F (nota final): 70%NC+30%NT (NC,NT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≥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T (nota tareas): promedio tare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C (nota control): prom ponderado controles/exam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 control recuperativo (después de c1 y c2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3789360"/>
          <a:ext cx="6985080" cy="29415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or confirm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e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y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y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Reglas del curs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tar inform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ada en clases y publicada en u-cursos es oficial, y es su responsabilidad saber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copi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s tareas son individuales y no se toler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 l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Qué es copia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35160" indent="-4294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viar, recibir tareas, escribirle la tarea (o partes) a alguien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Qué NO es copi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35160" indent="-4294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ar lo aprendido en clases, discutir verbalmente la tar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Reglas del curso 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(… cont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lazo de reclam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rrores, problemas con sus notas se pod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n reclamar hasta 30 días después de la publicación de la nota.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pués no se aceptarán reclamos y no hay excepcio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1er Programa:</a:t>
            </a: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Jalisc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7-03-07T13:49:47Z</dcterms:modified>
  <cp:revision>19</cp:revision>
  <dc:subject/>
  <dc:title>  CC1001- Computación I </dc:title>
</cp:coreProperties>
</file>