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6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07F4-17A0-4508-A0CE-7E07AF5C2632}"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6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4FBD-DDE9-4B67-9441-945052ADCCB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3FEDD-17A4-4329-9CF3-A5287765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1FBB-AF81-4036-B532-28B009D4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C5FD9F-D4EF-4E51-B0A9-97B000B02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06795-65B7-46F5-9D86-2F077AB44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E5D064-36DC-4982-86FC-26F0690C8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CEED0-F548-47B3-AF4B-7C64D998C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FB078-AC76-40F8-A8B5-9223F4EEE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0B910-9249-44D2-8914-60271EDA5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4DDD76-1B78-439E-8581-2263D9E572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768F3C-8791-46B1-AC85-B423813108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0E0E93-076B-4B91-B4A2-CBD9BA4B1F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7011B5-54F9-45EA-B714-35C16EDB2A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7DD8F-CE4F-4B19-8561-B3FB2ED44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F5593B-D0C5-4F71-B1FA-4B09B053AB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B8F8EC-A84F-49E2-BA6F-0ACC4382CB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D8F201-0E70-47D8-9FFF-EECE12C878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9DF101-A307-4DCD-9EDE-6BCFECC38E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D75FB0-F274-4DBB-8110-2D9BDE81AB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6725D3-BEE3-4F15-9FF1-69BCBFDAE3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12A71D-F8C8-4D8D-9292-AA8BDE6738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82B9F8-76B0-4BF3-B2C3-29B231B3C0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34EA37-A3EF-42E5-9D89-2BE4253796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C98BBF-0605-426B-8CB6-FEC41A9353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E0DAC-3739-44A3-9A8F-468ECB3F3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4F20F5-5653-42D2-AFAA-DC5FA9978E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575276-850D-485F-BFE1-1BE3EDACC0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70DC37-89BA-4E62-914C-F70F06B12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1F2F53-977B-4C4D-A083-45BBFDFF06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2A8689-CE98-4C47-981D-E66DFB1B38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BA87CB-1601-4E14-89C4-922457BCB1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65E766-14F5-4F7B-BE12-6F620EA968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B2E2E6-3682-459D-9A83-431725F2B2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14BA3D-9631-40EB-ADF3-769E7CA1D4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FE1D6B-71C6-48FA-A049-BD3BBA9FDD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E355B-25D2-4EB3-A440-FF863537D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00EF14-704D-4A26-B290-79EA03A7EF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667702-2605-424B-B7DB-DA7BE5166E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27F9F9-280D-4B72-8B6D-F131FE87B0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940AC1-F816-42E3-8B38-B7B59F6017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0761B8-8A8D-4049-AABF-2BF7F0BD2F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99B4CD-6A67-44BE-B612-5349826DC8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680382-A7D4-46B5-83B2-C19581ED38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9E06A0-CE6B-42F5-9896-647C7239E6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4D9CBD-5D22-4E76-8D9B-93DD693CFD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EFF4BF-3D2D-4583-BBA0-865A2497BA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0A84A-972D-40BB-B61B-465596AF0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37A42C-EBBE-4950-838B-2908E585CE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ED86BD-38BC-4A28-B686-53B4E7DF17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0B0492-B19D-4E53-B362-BD2880850B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507B99-DF8D-42D7-84DA-080F6CF441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A7BA1B-D072-410F-8DEF-7039896831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9E6D9-A49C-45AC-B4C6-8DAFC6F83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26CF9-CF86-4143-AF38-516C735DC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E9B98-1AA0-41EB-9673-02A78A17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129EC-F1F6-492C-A34A-C66B2BED9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2DC28-69DD-4885-ACFE-B4E1D847A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4DBE-1337-4CD5-A5D5-45E3CDC6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2AEC6-52B0-465F-9A34-9408A16A2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C865-E32A-4383-BDB9-F27C8D4B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D1452-1D44-4B52-9D87-55A209EF6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33614-0CF3-4548-A1DF-FAD99B138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F0D35-CE43-4B18-995A-A5BAAA908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C650D3-D25C-4FE4-ADA1-007AF50D1C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B512B-A212-4FAD-B678-44023B47F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C5B4F-3B85-4303-9A98-4A8C0FAF1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BF21B-078A-4E93-B8F7-DE7F6254A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BEDD7-11B2-44B8-A5E0-232152D10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5AF0-0425-40C8-9FFF-E4DFBFF01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2DC2D-35D9-4350-8AAD-6F73FBAA0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5DF88-251C-4E4F-B4D3-48A4CC801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E7138-D75D-4DD1-801B-4735147CB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19158-2A0A-4F17-8EDC-98536A548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7EE68-7A97-481A-9190-31244FC52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B0F98C-4423-45B3-9442-8B71C69CF3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E4233-767D-446E-A0B7-F3958C306B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235A2-8DF0-402D-B287-ACC87F41C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D9102-96AB-4A18-B423-DE83CB857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93D0B-0934-422E-80BA-45C2FC989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726E-2EED-4768-BB73-7486D76D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FAE17-C702-480C-B762-7E92AD303B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B8C7E-EFE7-4550-8D4B-5A25A9FE5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175ED-0CB7-43CD-BAD6-8BA3C8E5F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ADF69-581C-4769-A3B3-E8E76430E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9F2AD-4242-4763-9226-966DDE3DB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AFA8C-F9FC-45AD-B1AA-F345A81F6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29474-16FA-4DA2-9B06-68A1AF0B3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79C68-3151-499B-8989-76339A628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398087-BCF1-4E11-A1E0-92E7DA9BBE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F57B03-1486-4105-9774-72D11F1F8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D773-CF9D-4F00-8B5B-060157C3D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1E86C-1419-4A5F-B4D5-74D9E93F8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4AF36-CD01-4CC4-97C5-1669E4A3D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36180-8B49-4226-97C6-3BE721A4F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141C0-9CC4-49A0-84B3-F3A0DFCD2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C73D8-C621-47BC-B78D-8D82487EC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966F1-EE7C-4E60-BCC2-D5C4A6E94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621E0-4F20-402B-8D09-FCAE5AC77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2BCF2-5D96-485F-8E82-C2BCCEBB4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6968A-0894-403B-9ECD-2C35F1ED4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DC7B1-8EDB-4239-96F4-E820A5BD2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74026-53DB-42F8-BE36-F22F080B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0C963E-E224-4487-A859-257A2EFDC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3AC9DA-85BB-4A0D-B45B-DAE4E74BFD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8E6E0-9F5D-46BD-B2EA-160D06C5E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97F1D-C716-4130-8674-873ED172AD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68B67-1471-493C-9DCB-2402C404B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36CDD-59FA-40F9-848F-467D1A764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12666-13F2-45DB-AC60-3878AEBE7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C6061-6349-4AE9-83FB-FFBA22B24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5C0DE-6724-45F2-A755-9FD5BAFE8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D2778-6D33-45CE-BF99-3654933E2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2BA4-9A18-4171-BC75-1500F3AA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84D4FA-E313-4B7B-9470-A2F7283B3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BCE114-C1C9-4983-BAD6-BEF6ED587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682C3-2D85-472F-8160-B731FD8D17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772F2-D8C5-4346-93A4-B7D68C43E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66A26-F146-4923-9196-CFB91E9EA7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926C3-97F2-4F85-84C1-B8D84B982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22D449-4320-431F-B77B-95366F9CD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80D46-6845-4645-BC73-4F038C97F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00D84-8D63-44D2-9990-F030F00C3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BFF66-9A6B-45B1-A448-7AB974123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3883-70FB-4668-9F05-7324D32A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3C54B-1329-4B08-A923-2C65CFD12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870BA-7404-417B-875B-A1F6BD021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181F0-1479-4D8B-BA2A-994040089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A2013-17B9-4EDE-AFB1-7FB51201E9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2F4DCA-BF8C-423B-9B74-44E323A40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321176-C7DE-42ED-898E-066FF25EA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9A378-5457-4FCD-AF80-0D7438478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6A3A3-4B94-4979-8FD6-BF75B85F58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6C2B4-CF9F-4B5F-94EE-DBDD396221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5F1B0-ACE9-4114-B6BB-80C42FC30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1AD9-CEA3-4A4C-B382-CD17774E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4CB71-6BF6-446B-BA9F-4CF9534D73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AD6F0-1D2E-4991-B8A1-81525E54A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311BD-7BF3-42AB-AF8C-FF186A56C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B53ED-C89C-402F-B2DC-6F9D61490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F2CD73-9050-4EE2-8C06-E13D2E019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E1D14E-3FFF-4D61-9E84-ACFB8EC09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A7C614-203A-4048-A9D1-4A736D196D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D3A8C2-842C-4400-B59B-7963D35EEC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A8B51-FC99-472F-B234-AB65D12F4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29275-0FF2-47B5-A2BF-ED24EC5617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B7DF-06AF-4F71-AAE0-84F7E3ABD862}"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0804-0683-497C-AA6A-9F03356E5D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12 Rectángulo"/>
          <p:cNvGrpSpPr/>
          <p:nvPr/>
        </p:nvGrpSpPr>
        <p:grpSpPr>
          <a:xfrm>
            <a:off x="646200" y="969840"/>
            <a:ext cx="4803840" cy="4802400"/>
            <a:chOff x="646200" y="969840"/>
            <a:chExt cx="4803840" cy="4802400"/>
          </a:xfrm>
        </p:grpSpPr>
        <p:pic>
          <p:nvPicPr>
            <p:cNvPr id="417" name="12 Rectángulo"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0F36-54A8-4135-8BE6-06224C86FFDD}"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0140-A7CA-4F86-9662-E61F4CA7482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10 Anillo"/>
          <p:cNvGrpSpPr/>
          <p:nvPr/>
        </p:nvGrpSpPr>
        <p:grpSpPr>
          <a:xfrm>
            <a:off x="165240" y="1036800"/>
            <a:ext cx="1170000" cy="1170000"/>
            <a:chOff x="165240" y="1036800"/>
            <a:chExt cx="1170000" cy="1170000"/>
          </a:xfrm>
        </p:grpSpPr>
        <p:pic>
          <p:nvPicPr>
            <p:cNvPr id="465" name="10 Anillo"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097E-81A9-4B27-AF15-3C292429630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C306-745B-416A-B84D-BA00362B8AE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10 Anillo"/>
          <p:cNvGrpSpPr/>
          <p:nvPr/>
        </p:nvGrpSpPr>
        <p:grpSpPr>
          <a:xfrm>
            <a:off x="165240" y="1036800"/>
            <a:ext cx="1170000" cy="1170000"/>
            <a:chOff x="165240" y="1036800"/>
            <a:chExt cx="1170000" cy="1170000"/>
          </a:xfrm>
        </p:grpSpPr>
        <p:pic>
          <p:nvPicPr>
            <p:cNvPr id="513" name="10 Anillo"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BE23-06BF-4070-9FAC-F4B36D966608}"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51D4-97F1-44A5-A66E-F47040DDD51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EF52-740F-49B9-8A91-55EF8A6C6D00}"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3F31-B0C6-4818-B46A-9C4AF2705FF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ED1E-4A0B-4E5A-8DE3-D1B1BEDA0339}"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98CA-01FB-48EA-A007-94C5C42416F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15 Elipse"/>
          <p:cNvGrpSpPr/>
          <p:nvPr/>
        </p:nvGrpSpPr>
        <p:grpSpPr>
          <a:xfrm>
            <a:off x="2163600" y="2809800"/>
            <a:ext cx="231840" cy="225360"/>
            <a:chOff x="2163600" y="2809800"/>
            <a:chExt cx="231840" cy="225360"/>
          </a:xfrm>
        </p:grpSpPr>
        <p:pic>
          <p:nvPicPr>
            <p:cNvPr id="151" name="15 Elipse"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9137-89AB-4864-AD92-F436FCBED29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7C1-CF43-4843-896D-83277AC38EC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0 Anillo"/>
          <p:cNvGrpSpPr/>
          <p:nvPr/>
        </p:nvGrpSpPr>
        <p:grpSpPr>
          <a:xfrm>
            <a:off x="165240" y="1036800"/>
            <a:ext cx="1170000" cy="1170000"/>
            <a:chOff x="165240" y="1036800"/>
            <a:chExt cx="1170000" cy="1170000"/>
          </a:xfrm>
        </p:grpSpPr>
        <p:pic>
          <p:nvPicPr>
            <p:cNvPr id="198" name="10 Anillo"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5F33-2783-4004-9CEC-45FD7B67278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2500-C533-4448-9CDE-97926BE6334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C4AF-E630-48A6-B6DA-85886B59DEA4}"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161C-933F-4919-AD26-45248714C47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10 Anillo"/>
          <p:cNvGrpSpPr/>
          <p:nvPr/>
        </p:nvGrpSpPr>
        <p:grpSpPr>
          <a:xfrm>
            <a:off x="165240" y="1036800"/>
            <a:ext cx="1170000" cy="1170000"/>
            <a:chOff x="165240" y="1036800"/>
            <a:chExt cx="1170000" cy="1170000"/>
          </a:xfrm>
        </p:grpSpPr>
        <p:pic>
          <p:nvPicPr>
            <p:cNvPr id="287" name="10 Anillo"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B13C-7CD6-40BB-8910-51C330E488B1}"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489D-DCC3-4C21-AB4A-C826A2668C2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5362-33CF-4913-B424-20708DF9762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DE51-212F-4030-9C6B-7A3139FECEB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ADB-6C83-4FA0-BCD0-D3FAFD94D35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EA64-847D-4349-95C1-CB1A534466C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Clase 7</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28840" y="5000400"/>
            <a:ext cx="7407360" cy="157932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Fecha:</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30 de Marzo de 2007</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Sección:</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05</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rofesor:  </a:t>
            </a:r>
            <a:r>
              <a:rPr b="0" lang="es-ES" sz="1900" spc="-1" strike="noStrike">
                <a:solidFill>
                  <a:srgbClr val="320e04"/>
                </a:solidFill>
                <a:latin typeface="Gill Sans MT"/>
              </a:rPr>
              <a:t>	</a:t>
            </a:r>
            <a:r>
              <a:rPr b="0" lang="es-ES" sz="1900" spc="-1" strike="noStrike">
                <a:solidFill>
                  <a:srgbClr val="320e04"/>
                </a:solidFill>
                <a:latin typeface="Gill Sans MT"/>
              </a:rPr>
              <a:t>Andrés Muñoz Ordenes</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E-Mail:</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andmunoz@dcc.uchile.cl</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ágina Web:</a:t>
            </a:r>
            <a:r>
              <a:rPr b="0" lang="es-ES" sz="1900" spc="-1" strike="noStrike">
                <a:solidFill>
                  <a:srgbClr val="320e04"/>
                </a:solidFill>
                <a:latin typeface="Gill Sans MT"/>
              </a:rPr>
              <a:t>	</a:t>
            </a:r>
            <a:r>
              <a:rPr b="0" lang="es-ES" sz="1900" spc="-1" strike="noStrike">
                <a:solidFill>
                  <a:srgbClr val="320e04"/>
                </a:solidFill>
                <a:latin typeface="Gill Sans MT"/>
              </a:rPr>
              <a:t>http://ucursos.ing.uchile.cl </a:t>
            </a:r>
            <a:endParaRPr b="0" lang="en-US" sz="1900" spc="-1" strike="noStrike">
              <a:solidFill>
                <a:srgbClr val="000000"/>
              </a:solidFill>
              <a:latin typeface="Gill Sans MT"/>
            </a:endParaRPr>
          </a:p>
        </p:txBody>
      </p:sp>
      <p:pic>
        <p:nvPicPr>
          <p:cNvPr id="567" name="3 Imagen" descr="logo_dcc.jpg"/>
          <p:cNvPicPr/>
          <p:nvPr/>
        </p:nvPicPr>
        <p:blipFill>
          <a:blip r:embed="rId1"/>
          <a:stretch/>
        </p:blipFill>
        <p:spPr>
          <a:xfrm>
            <a:off x="5643720" y="285840"/>
            <a:ext cx="3111480" cy="1452600"/>
          </a:xfrm>
          <a:prstGeom prst="rect">
            <a:avLst/>
          </a:prstGeom>
          <a:ln w="0">
            <a:noFill/>
          </a:ln>
        </p:spPr>
      </p:pic>
      <p:sp>
        <p:nvSpPr>
          <p:cNvPr id="568"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EF25-DEE9-4D63-918E-B06A90FDC83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3 Imagen" descr="logo_dcc.jpg"/>
          <p:cNvPicPr/>
          <p:nvPr/>
        </p:nvPicPr>
        <p:blipFill>
          <a:blip r:embed="rId1"/>
          <a:stretch/>
        </p:blipFill>
        <p:spPr>
          <a:xfrm>
            <a:off x="7532640" y="0"/>
            <a:ext cx="1611360" cy="752400"/>
          </a:xfrm>
          <a:prstGeom prst="rect">
            <a:avLst/>
          </a:prstGeom>
          <a:ln w="0">
            <a:noFill/>
          </a:ln>
        </p:spPr>
      </p:pic>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3"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Métodos (Funciones)</a:t>
            </a:r>
            <a:endParaRPr b="0" lang="en-US" sz="20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on trozos repetibles de código a ejecutar.</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ibrerías de Java estánda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Librería Matemática Math.</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Math.&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matemáticas estándares y avanzadas como mínimo (min), máximo (max), valor absoluto (abs), seno (sin), coseno (cos), etc.</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lase U:</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Creado para este curso.</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U.&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de lectura desde el teclado (readInt, readDouble) y además de salida a pantalla (println, print).</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readas por el programado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escriben dentro de la clase Programa</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usan sin ningún prefijo &lt;nombre_funcion(…)</a:t>
            </a:r>
            <a:endParaRPr b="0" lang="en-US" sz="1400" spc="-1" strike="noStrike">
              <a:solidFill>
                <a:srgbClr val="000000"/>
              </a:solidFill>
              <a:latin typeface="Gill Sans MT"/>
            </a:endParaRPr>
          </a:p>
        </p:txBody>
      </p:sp>
      <p:sp>
        <p:nvSpPr>
          <p:cNvPr id="61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5B1B-63BE-4E79-A237-7E562674B62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3 Imagen" descr="logo_dcc.jpg"/>
          <p:cNvPicPr/>
          <p:nvPr/>
        </p:nvPicPr>
        <p:blipFill>
          <a:blip r:embed="rId1"/>
          <a:stretch/>
        </p:blipFill>
        <p:spPr>
          <a:xfrm>
            <a:off x="7532640" y="0"/>
            <a:ext cx="1611360" cy="752400"/>
          </a:xfrm>
          <a:prstGeom prst="rect">
            <a:avLst/>
          </a:prstGeom>
          <a:ln w="0">
            <a:noFill/>
          </a:ln>
        </p:spPr>
      </p:pic>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ndiciona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ejecutar instrucciones en forma selectiva (condición verdadera o fals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f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1&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else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2&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ambién tiene su forma abreviada:</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lt;condicion&gt;?&lt;instruccion_1&gt;:&lt;instruccion_2&gt;)</a:t>
            </a: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1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0A45-8333-45AC-BDFB-9C5BE86CB38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3 Imagen" descr="logo_dcc.jpg"/>
          <p:cNvPicPr/>
          <p:nvPr/>
        </p:nvPicPr>
        <p:blipFill>
          <a:blip r:embed="rId1"/>
          <a:stretch/>
        </p:blipFill>
        <p:spPr>
          <a:xfrm>
            <a:off x="7532640" y="0"/>
            <a:ext cx="1611360" cy="752400"/>
          </a:xfrm>
          <a:prstGeom prst="rect">
            <a:avLst/>
          </a:prstGeom>
          <a:ln w="0">
            <a:noFill/>
          </a:ln>
        </p:spPr>
      </p:pic>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While)</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mientras una condición sea verdader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Otra forma es:</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while (true) {</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if (!&lt;condicion&gt;) break;</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9606-D20E-484A-BEED-34F4B225C2F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3 Imagen" descr="logo_dcc.jpg"/>
          <p:cNvPicPr/>
          <p:nvPr/>
        </p:nvPicPr>
        <p:blipFill>
          <a:blip r:embed="rId1"/>
          <a:stretch/>
        </p:blipFill>
        <p:spPr>
          <a:xfrm>
            <a:off x="7532640" y="0"/>
            <a:ext cx="1611360" cy="752400"/>
          </a:xfrm>
          <a:prstGeom prst="rect">
            <a:avLst/>
          </a:prstGeom>
          <a:ln w="0">
            <a:noFill/>
          </a:ln>
        </p:spPr>
      </p:pic>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For)</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un número de veces conocid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for (&lt;inicio&gt;; &lt;condicion&gt;; &lt;incremento&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6"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74A4-96A0-4A31-9F21-E3407A860BFB}"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3 Imagen" descr="logo_dcc.jpg"/>
          <p:cNvPicPr/>
          <p:nvPr/>
        </p:nvPicPr>
        <p:blipFill>
          <a:blip r:embed="rId1"/>
          <a:stretch/>
        </p:blipFill>
        <p:spPr>
          <a:xfrm>
            <a:off x="7532640" y="0"/>
            <a:ext cx="1611360" cy="752400"/>
          </a:xfrm>
          <a:prstGeom prst="rect">
            <a:avLst/>
          </a:prstGeom>
          <a:ln w="0">
            <a:noFill/>
          </a:ln>
        </p:spPr>
      </p:pic>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Iterat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utiliza ciclos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a repetición de un patrón un número de veces o hasta que se cumpla una condición</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nt i = 10;</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i &gt;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30"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3BFB-05E2-4602-8C83-345F7A4FF9B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3 Imagen" descr="logo_dcc.jpg"/>
          <p:cNvPicPr/>
          <p:nvPr/>
        </p:nvPicPr>
        <p:blipFill>
          <a:blip r:embed="rId1"/>
          <a:stretch/>
        </p:blipFill>
        <p:spPr>
          <a:xfrm>
            <a:off x="7532640" y="0"/>
            <a:ext cx="1611360" cy="752400"/>
          </a:xfrm>
          <a:prstGeom prst="rect">
            <a:avLst/>
          </a:prstGeom>
          <a:ln w="0">
            <a:noFill/>
          </a:ln>
        </p:spPr>
      </p:pic>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Recurs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se basa en su propia definición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os auto-llamados a si mismos bajo una hipótesis o caso genérico y utilizando un caso base como condición de salid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lo es aplicable a métodos</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void contador(int n)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contador(n-1);</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ontador(10);</a:t>
            </a:r>
            <a:r>
              <a:rPr b="0" lang="es-ES" sz="1400" spc="-1" strike="noStrike">
                <a:solidFill>
                  <a:srgbClr val="000000"/>
                </a:solidFill>
                <a:latin typeface="Consolas"/>
              </a:rPr>
              <a:t>	</a:t>
            </a:r>
            <a:r>
              <a:rPr b="0" lang="es-ES" sz="1400" spc="-1" strike="noStrike">
                <a:solidFill>
                  <a:srgbClr val="000000"/>
                </a:solidFill>
                <a:latin typeface="Consolas"/>
              </a:rPr>
              <a:t>// Invocación inicial</a:t>
            </a:r>
            <a:endParaRPr b="0" lang="en-US" sz="1400" spc="-1" strike="noStrike">
              <a:solidFill>
                <a:srgbClr val="000000"/>
              </a:solidFill>
              <a:latin typeface="Gill Sans MT"/>
            </a:endParaRPr>
          </a:p>
        </p:txBody>
      </p:sp>
      <p:sp>
        <p:nvSpPr>
          <p:cNvPr id="63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20AD-F368-4844-9A7F-7321BA55123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3 Imagen" descr="logo_dcc.jpg"/>
          <p:cNvPicPr/>
          <p:nvPr/>
        </p:nvPicPr>
        <p:blipFill>
          <a:blip r:embed="rId1"/>
          <a:stretch/>
        </p:blipFill>
        <p:spPr>
          <a:xfrm>
            <a:off x="7532640" y="0"/>
            <a:ext cx="1611360" cy="752400"/>
          </a:xfrm>
          <a:prstGeom prst="rect">
            <a:avLst/>
          </a:prstGeom>
          <a:ln w="0">
            <a:noFill/>
          </a:ln>
        </p:spPr>
      </p:pic>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Escriba un método recursivo que realice el juego de adivinar un número, en donde el usuario piensa un número de 1 a 100 y el computador lo busca dividiendo el intervalo en mitades y buscando la mitad dependiendo si es mayor o menor que el número elegido, es decir:</a:t>
            </a:r>
            <a:endParaRPr b="0" lang="en-US" sz="2000" spc="-1" strike="noStrike">
              <a:solidFill>
                <a:srgbClr val="000000"/>
              </a:solidFill>
              <a:latin typeface="Gill Sans MT"/>
            </a:endParaRPr>
          </a:p>
        </p:txBody>
      </p:sp>
      <p:sp>
        <p:nvSpPr>
          <p:cNvPr id="63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F82E-3884-4E46-AFF8-50C8C74D60F5}"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39" name="7 Rectángulo redondeado"/>
          <p:cNvSpPr/>
          <p:nvPr/>
        </p:nvSpPr>
        <p:spPr>
          <a:xfrm>
            <a:off x="1928880" y="328608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Piensa un número entre 1 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0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75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62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6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9 tu número? (0=si, 1=mayor, 2=menor):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Lo logr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3 Imagen" descr="logo_dcc.jpg"/>
          <p:cNvPicPr/>
          <p:nvPr/>
        </p:nvPicPr>
        <p:blipFill>
          <a:blip r:embed="rId1"/>
          <a:stretch/>
        </p:blipFill>
        <p:spPr>
          <a:xfrm>
            <a:off x="7532640" y="0"/>
            <a:ext cx="1611360" cy="752400"/>
          </a:xfrm>
          <a:prstGeom prst="rect">
            <a:avLst/>
          </a:prstGeom>
          <a:ln w="0">
            <a:noFill/>
          </a:ln>
        </p:spPr>
      </p:pic>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Solución:</a:t>
            </a:r>
            <a:endParaRPr b="0" lang="en-US" sz="20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adivina(int i, int 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n = i + (s - i) / 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x = U.readInt("Es " + n + " tu numero? “ +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r>
              <a:rPr b="0" lang="es-ES" sz="1400" spc="-1" strike="noStrike">
                <a:solidFill>
                  <a:srgbClr val="000000"/>
                </a:solidFill>
                <a:latin typeface="Consolas"/>
              </a:rPr>
              <a:t>(0=si, 1=mayor, 2=menor):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0)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Lo logré");</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n, 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el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i, 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643"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9AFA-1FF7-48AC-89D9-50B66C014CA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3 Imagen" descr="logo_dcc.jpg"/>
          <p:cNvPicPr/>
          <p:nvPr/>
        </p:nvPicPr>
        <p:blipFill>
          <a:blip r:embed="rId1"/>
          <a:stretch/>
        </p:blipFill>
        <p:spPr>
          <a:xfrm>
            <a:off x="7532640" y="0"/>
            <a:ext cx="1611360" cy="752400"/>
          </a:xfrm>
          <a:prstGeom prst="rect">
            <a:avLst/>
          </a:prstGeom>
          <a:ln w="0">
            <a:noFill/>
          </a:ln>
        </p:spPr>
      </p:pic>
      <p:sp>
        <p:nvSpPr>
          <p:cNvPr id="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1: Un cajero automático da una cantidad de dinero en billetes que tenga disponible. Suponga que el cajero posee billetes de $20.000, $10.000, $5.000, $2.000 y $1.000. Realice el diálogo que indique los billetes que debe entregar el cajero como el que sigue:</a:t>
            </a:r>
            <a:endParaRPr b="0" lang="en-US" sz="2000" spc="-1" strike="noStrike">
              <a:solidFill>
                <a:srgbClr val="000000"/>
              </a:solidFill>
              <a:latin typeface="Gill Sans MT"/>
            </a:endParaRPr>
          </a:p>
        </p:txBody>
      </p:sp>
      <p:sp>
        <p:nvSpPr>
          <p:cNvPr id="647"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438D-12C5-4387-A7D4-1313554BE658}"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48" name="5 Rectángulo redondeado"/>
          <p:cNvSpPr/>
          <p:nvPr/>
        </p:nvSpPr>
        <p:spPr>
          <a:xfrm>
            <a:off x="1928880" y="335772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Monto a girar: </a:t>
            </a:r>
            <a:r>
              <a:rPr b="0" lang="es-ES" sz="2000" spc="-1" strike="noStrike">
                <a:solidFill>
                  <a:srgbClr val="ff0000"/>
                </a:solidFill>
                <a:latin typeface="Consolas"/>
              </a:rPr>
              <a:t>5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te es su efec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2 billetes de $2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0 billetes de $5.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3 Imagen" descr="logo_dcc.jpg"/>
          <p:cNvPicPr/>
          <p:nvPr/>
        </p:nvPicPr>
        <p:blipFill>
          <a:blip r:embed="rId1"/>
          <a:stretch/>
        </p:blipFill>
        <p:spPr>
          <a:xfrm>
            <a:off x="7532640" y="0"/>
            <a:ext cx="1611360" cy="752400"/>
          </a:xfrm>
          <a:prstGeom prst="rect">
            <a:avLst/>
          </a:prstGeom>
          <a:ln w="0">
            <a:noFill/>
          </a:ln>
        </p:spPr>
      </p:pic>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2: En una tienda se está haciendo un inventario de los productos que existen en ella. El dependiente necesita saber cuánto vale la mercadería que tiene, así que ha decidido realizarlo con un programa que simule el siguiente diálogo:</a:t>
            </a:r>
            <a:endParaRPr b="0" lang="en-US" sz="2000" spc="-1" strike="noStrike">
              <a:solidFill>
                <a:srgbClr val="000000"/>
              </a:solidFill>
              <a:latin typeface="Gill Sans MT"/>
            </a:endParaRPr>
          </a:p>
        </p:txBody>
      </p:sp>
      <p:sp>
        <p:nvSpPr>
          <p:cNvPr id="65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83E7-0100-404F-BF8A-12619DFB071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53" name="5 Rectángulo redondeado"/>
          <p:cNvSpPr/>
          <p:nvPr/>
        </p:nvSpPr>
        <p:spPr>
          <a:xfrm>
            <a:off x="1928880" y="2857680"/>
            <a:ext cx="6715080" cy="350028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2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7; SubT = $17500; Total = $17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9; SubT = $6000; Total = $23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Unidades: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Valor: $6230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3 Imagen" descr="logo_dcc.jpg"/>
          <p:cNvPicPr/>
          <p:nvPr/>
        </p:nvPicPr>
        <p:blipFill>
          <a:blip r:embed="rId1"/>
          <a:stretch/>
        </p:blipFill>
        <p:spPr>
          <a:xfrm>
            <a:off x="7532640" y="0"/>
            <a:ext cx="1611360" cy="752400"/>
          </a:xfrm>
          <a:prstGeom prst="rect">
            <a:avLst/>
          </a:prstGeom>
          <a:ln w="0">
            <a:noFill/>
          </a:ln>
        </p:spPr>
      </p:pic>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n esta clase…</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Solución Trabajo Anterio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sum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Ejercic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Trabajo Práctico</a:t>
            </a:r>
            <a:endParaRPr b="0" lang="en-US" sz="3200" spc="-1" strike="noStrike">
              <a:solidFill>
                <a:srgbClr val="000000"/>
              </a:solidFill>
              <a:latin typeface="Gill Sans MT"/>
            </a:endParaRPr>
          </a:p>
        </p:txBody>
      </p:sp>
      <p:sp>
        <p:nvSpPr>
          <p:cNvPr id="57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7566-4986-4698-AE48-20765AD6DC5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Fin de la Clase</a:t>
            </a:r>
            <a:endParaRPr b="0" lang="en-US" sz="4300" spc="-1" strike="noStrike">
              <a:solidFill>
                <a:srgbClr val="572314"/>
              </a:solidFill>
              <a:latin typeface="Gill Sans MT"/>
            </a:endParaRPr>
          </a:p>
        </p:txBody>
      </p:sp>
      <p:sp>
        <p:nvSpPr>
          <p:cNvPr id="655" name="PlaceHolder 2"/>
          <p:cNvSpPr>
            <a:spLocks noGrp="1"/>
          </p:cNvSpPr>
          <p:nvPr>
            <p:ph type="subTitle"/>
          </p:nvPr>
        </p:nvSpPr>
        <p:spPr>
          <a:xfrm>
            <a:off x="1428840" y="6215040"/>
            <a:ext cx="7407360" cy="3650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20e04"/>
                </a:solidFill>
                <a:latin typeface="Gill Sans MT"/>
              </a:rPr>
              <a:t>El Presente es la única salida del Pasado y la única entrada al Futuro</a:t>
            </a:r>
            <a:endParaRPr b="0" lang="en-US" sz="2000" spc="-1" strike="noStrike">
              <a:solidFill>
                <a:srgbClr val="000000"/>
              </a:solidFill>
              <a:latin typeface="Gill Sans MT"/>
            </a:endParaRPr>
          </a:p>
        </p:txBody>
      </p:sp>
      <p:pic>
        <p:nvPicPr>
          <p:cNvPr id="656" name="3 Imagen" descr="logo_dcc.jpg"/>
          <p:cNvPicPr/>
          <p:nvPr/>
        </p:nvPicPr>
        <p:blipFill>
          <a:blip r:embed="rId1"/>
          <a:stretch/>
        </p:blipFill>
        <p:spPr>
          <a:xfrm>
            <a:off x="5643720" y="285840"/>
            <a:ext cx="3111480" cy="1452600"/>
          </a:xfrm>
          <a:prstGeom prst="rect">
            <a:avLst/>
          </a:prstGeom>
          <a:ln w="0">
            <a:noFill/>
          </a:ln>
        </p:spPr>
      </p:pic>
      <p:sp>
        <p:nvSpPr>
          <p:cNvPr id="657" name="5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97CC-A2D8-47EB-95C5-228C7159438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3 Imagen" descr="logo_dcc.jpg"/>
          <p:cNvPicPr/>
          <p:nvPr/>
        </p:nvPicPr>
        <p:blipFill>
          <a:blip r:embed="rId1"/>
          <a:stretch/>
        </p:blipFill>
        <p:spPr>
          <a:xfrm>
            <a:off x="7532640" y="0"/>
            <a:ext cx="1611360" cy="752400"/>
          </a:xfrm>
          <a:prstGeom prst="rect">
            <a:avLst/>
          </a:prstGeom>
          <a:ln w="0">
            <a:noFill/>
          </a:ln>
        </p:spPr>
      </p:pic>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1: Escriba una función (método) recursiva que permita calcular la sumatoria:</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 </a:t>
            </a:r>
            <a:r>
              <a:rPr b="0" lang="es-ES" sz="2800" spc="-1" strike="noStrike">
                <a:solidFill>
                  <a:srgbClr val="000000"/>
                </a:solidFill>
                <a:latin typeface="Gill Sans MT"/>
              </a:rPr>
              <a:t>x</a:t>
            </a:r>
            <a:r>
              <a:rPr b="0" lang="es-ES" sz="2800" spc="-1" strike="noStrike" baseline="30000">
                <a:solidFill>
                  <a:srgbClr val="000000"/>
                </a:solidFill>
                <a:latin typeface="Gill Sans MT"/>
              </a:rPr>
              <a:t>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 Recuerda que  ∑ x</a:t>
            </a:r>
            <a:r>
              <a:rPr b="0" lang="es-ES" sz="2000" spc="-1" strike="noStrike" baseline="30000">
                <a:solidFill>
                  <a:srgbClr val="000000"/>
                </a:solidFill>
                <a:latin typeface="Gill Sans MT"/>
              </a:rPr>
              <a:t>i</a:t>
            </a:r>
            <a:r>
              <a:rPr b="0" lang="es-ES" sz="2000" spc="-1" strike="noStrike">
                <a:solidFill>
                  <a:srgbClr val="000000"/>
                </a:solidFill>
                <a:latin typeface="Gill Sans MT"/>
              </a:rPr>
              <a:t> = x</a:t>
            </a:r>
            <a:r>
              <a:rPr b="0" lang="es-ES" sz="2000" spc="-1" strike="noStrike" baseline="30000">
                <a:solidFill>
                  <a:srgbClr val="000000"/>
                </a:solidFill>
                <a:latin typeface="Gill Sans MT"/>
              </a:rPr>
              <a:t>n</a:t>
            </a:r>
            <a:r>
              <a:rPr b="0" lang="es-ES" sz="2000" spc="-1" strike="noStrike">
                <a:solidFill>
                  <a:srgbClr val="000000"/>
                </a:solidFill>
                <a:latin typeface="Gill Sans MT"/>
              </a:rPr>
              <a:t> + ∑ x</a:t>
            </a:r>
            <a:r>
              <a:rPr b="0" lang="es-ES" sz="2000" spc="-1" strike="noStrike" baseline="30000">
                <a:solidFill>
                  <a:srgbClr val="000000"/>
                </a:solidFill>
                <a:latin typeface="Gill Sans MT"/>
              </a:rPr>
              <a:t>i</a:t>
            </a:r>
            <a:endParaRPr b="0" lang="en-US" sz="20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double sumatoria(double x, 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Math.pow(x, n) + sumatoria(x, n-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57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4C5A-723A-4C1F-B290-43AFEDF1829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77" name="5 CuadroTexto"/>
          <p:cNvSpPr/>
          <p:nvPr/>
        </p:nvSpPr>
        <p:spPr>
          <a:xfrm>
            <a:off x="3643200" y="3335400"/>
            <a:ext cx="28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a:t>
            </a:r>
            <a:endParaRPr b="0" lang="en-US" sz="1400" spc="-1" strike="noStrike">
              <a:solidFill>
                <a:srgbClr val="000000"/>
              </a:solidFill>
              <a:latin typeface="Arial"/>
            </a:endParaRPr>
          </a:p>
        </p:txBody>
      </p:sp>
      <p:sp>
        <p:nvSpPr>
          <p:cNvPr id="578" name="6 CuadroTexto"/>
          <p:cNvSpPr/>
          <p:nvPr/>
        </p:nvSpPr>
        <p:spPr>
          <a:xfrm>
            <a:off x="4786200" y="333540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3 Imagen" descr="logo_dcc.jpg"/>
          <p:cNvPicPr/>
          <p:nvPr/>
        </p:nvPicPr>
        <p:blipFill>
          <a:blip r:embed="rId1"/>
          <a:stretch/>
        </p:blipFill>
        <p:spPr>
          <a:xfrm>
            <a:off x="7532640" y="0"/>
            <a:ext cx="1611360" cy="752400"/>
          </a:xfrm>
          <a:prstGeom prst="rect">
            <a:avLst/>
          </a:prstGeom>
          <a:ln w="0">
            <a:noFill/>
          </a:ln>
        </p:spPr>
      </p:pic>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2: Los números de Fibonacci son una sucesión de números que se calculan en forma recursiva. Escriba el método fibonacci(n) que calcule el valor de la sucesión en n con la fórmula general:</a:t>
            </a:r>
            <a:endParaRPr b="0" lang="en-US" sz="2400" spc="-1" strike="noStrike">
              <a:solidFill>
                <a:srgbClr val="000000"/>
              </a:solidFill>
              <a:latin typeface="Gill Sans MT"/>
            </a:endParaRPr>
          </a:p>
          <a:p>
            <a:pPr lvl="4" marL="1297080" indent="-18252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n) = F(n-1) + F(n-2)</a:t>
            </a:r>
            <a:endParaRPr b="0" lang="en-US" sz="2400" spc="-1" strike="noStrike">
              <a:solidFill>
                <a:srgbClr val="000000"/>
              </a:solidFill>
              <a:latin typeface="Gill Sans MT"/>
            </a:endParaRPr>
          </a:p>
          <a:p>
            <a:pPr lvl="4" marL="1297080" indent="-182520" algn="ctr">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	</a:t>
            </a:r>
            <a:r>
              <a:rPr b="0" lang="es-ES" sz="2400" spc="-1" strike="noStrike">
                <a:solidFill>
                  <a:srgbClr val="000000"/>
                </a:solidFill>
                <a:latin typeface="Gill Sans MT"/>
              </a:rPr>
              <a:t>Además, considere que:</a:t>
            </a:r>
            <a:endParaRPr b="0" lang="en-US" sz="2400" spc="-1" strike="noStrike">
              <a:solidFill>
                <a:srgbClr val="000000"/>
              </a:solidFill>
              <a:latin typeface="Gill Sans MT"/>
            </a:endParaRPr>
          </a:p>
          <a:p>
            <a:pPr lvl="4" marL="1297080" indent="-1825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0) = F(1) = 1</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B6DC-C7C2-4763-BE3D-093500B8BD0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3 Imagen" descr="logo_dcc.jpg"/>
          <p:cNvPicPr/>
          <p:nvPr/>
        </p:nvPicPr>
        <p:blipFill>
          <a:blip r:embed="rId1"/>
          <a:stretch/>
        </p:blipFill>
        <p:spPr>
          <a:xfrm>
            <a:off x="7532640" y="0"/>
            <a:ext cx="1611360" cy="752400"/>
          </a:xfrm>
          <a:prstGeom prst="rect">
            <a:avLst/>
          </a:prstGeom>
          <a:ln w="0">
            <a:noFill/>
          </a:ln>
        </p:spPr>
      </p:pic>
      <p:sp>
        <p:nvSpPr>
          <p:cNvPr id="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int fibonacci(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1 || n == 2)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fibonacci(n-1) + fibonacci(n-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58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5232-A8C3-457E-9CF8-CDDF13FC973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587" name="9 Imagen" descr="conejo.gif"/>
          <p:cNvPicPr/>
          <p:nvPr/>
        </p:nvPicPr>
        <p:blipFill>
          <a:blip r:embed="rId2"/>
          <a:stretch/>
        </p:blipFill>
        <p:spPr>
          <a:xfrm>
            <a:off x="5234040" y="3438360"/>
            <a:ext cx="2838240" cy="2133720"/>
          </a:xfrm>
          <a:prstGeom prst="rect">
            <a:avLst/>
          </a:prstGeom>
          <a:ln w="0">
            <a:noFill/>
          </a:ln>
        </p:spPr>
      </p:pic>
      <p:pic>
        <p:nvPicPr>
          <p:cNvPr id="588" name="11 Imagen" descr="conejo.gif"/>
          <p:cNvPicPr/>
          <p:nvPr/>
        </p:nvPicPr>
        <p:blipFill>
          <a:blip r:embed="rId3"/>
          <a:stretch/>
        </p:blipFill>
        <p:spPr>
          <a:xfrm>
            <a:off x="6091200" y="4295880"/>
            <a:ext cx="2838600" cy="2133360"/>
          </a:xfrm>
          <a:prstGeom prst="rect">
            <a:avLst/>
          </a:prstGeom>
          <a:ln w="0">
            <a:noFill/>
          </a:ln>
        </p:spPr>
      </p:pic>
      <p:pic>
        <p:nvPicPr>
          <p:cNvPr id="589" name="10 Imagen" descr="conejo.gif"/>
          <p:cNvPicPr/>
          <p:nvPr/>
        </p:nvPicPr>
        <p:blipFill>
          <a:blip r:embed="rId4"/>
          <a:stretch/>
        </p:blipFill>
        <p:spPr>
          <a:xfrm>
            <a:off x="4448160" y="4295880"/>
            <a:ext cx="2838600" cy="213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3 Imagen" descr="logo_dcc.jpg"/>
          <p:cNvPicPr/>
          <p:nvPr/>
        </p:nvPicPr>
        <p:blipFill>
          <a:blip r:embed="rId1"/>
          <a:stretch/>
        </p:blipFill>
        <p:spPr>
          <a:xfrm>
            <a:off x="7532640" y="0"/>
            <a:ext cx="1611360" cy="752400"/>
          </a:xfrm>
          <a:prstGeom prst="rect">
            <a:avLst/>
          </a:prstGeom>
          <a:ln w="0">
            <a:noFill/>
          </a:ln>
        </p:spPr>
      </p:pic>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5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natomía de un Programa JAVA</a:t>
            </a:r>
            <a:endParaRPr b="0" lang="en-US" sz="28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Definición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lass Programa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Nombre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int suma(int a, int b)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 a + b;</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Uno o más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 Ejecutabl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main(String arg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a = U.readInt(“a: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b = U.readInt(“b: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Programa principal</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suma(a, b));</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vocación de un método de la clase</a:t>
            </a:r>
            <a:endParaRPr b="0" lang="en-US" sz="1400" spc="-1" strike="noStrike">
              <a:solidFill>
                <a:srgbClr val="000000"/>
              </a:solidFill>
              <a:latin typeface="Gill Sans MT"/>
            </a:endParaRPr>
          </a:p>
        </p:txBody>
      </p:sp>
      <p:sp>
        <p:nvSpPr>
          <p:cNvPr id="593"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05E1-09F6-4DCE-9556-9197E2DDC83B}"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94" name="5 Cerrar llave"/>
          <p:cNvSpPr/>
          <p:nvPr/>
        </p:nvSpPr>
        <p:spPr>
          <a:xfrm>
            <a:off x="6072120" y="278604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5" name="7 Conector recto de flecha"/>
          <p:cNvCxnSpPr/>
          <p:nvPr/>
        </p:nvCxnSpPr>
        <p:spPr>
          <a:xfrm>
            <a:off x="4286160" y="2428920"/>
            <a:ext cx="1858320" cy="2160"/>
          </a:xfrm>
          <a:prstGeom prst="straightConnector1">
            <a:avLst/>
          </a:prstGeom>
          <a:ln w="9360">
            <a:solidFill>
              <a:srgbClr val="3891a7"/>
            </a:solidFill>
            <a:miter/>
            <a:tailEnd len="med" type="arrow" w="med"/>
          </a:ln>
        </p:spPr>
      </p:cxnSp>
      <p:sp>
        <p:nvSpPr>
          <p:cNvPr id="596" name="8 Cerrar llave"/>
          <p:cNvSpPr/>
          <p:nvPr/>
        </p:nvSpPr>
        <p:spPr>
          <a:xfrm>
            <a:off x="6072120" y="435780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1 Conector recto de flecha"/>
          <p:cNvCxnSpPr/>
          <p:nvPr/>
        </p:nvCxnSpPr>
        <p:spPr>
          <a:xfrm>
            <a:off x="3785760" y="5143680"/>
            <a:ext cx="429480" cy="35784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3 Imagen" descr="logo_dcc.jpg"/>
          <p:cNvPicPr/>
          <p:nvPr/>
        </p:nvPicPr>
        <p:blipFill>
          <a:blip r:embed="rId1"/>
          <a:stretch/>
        </p:blipFill>
        <p:spPr>
          <a:xfrm>
            <a:off x="7532640" y="0"/>
            <a:ext cx="1611360" cy="752400"/>
          </a:xfrm>
          <a:prstGeom prst="rect">
            <a:avLst/>
          </a:prstGeom>
          <a:ln w="0">
            <a:noFill/>
          </a:ln>
        </p:spPr>
      </p:pic>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Instruccion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mandos que se le entregan al computador en un programa.</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Terminan con un punto y com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Declar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nt x;</a:t>
            </a:r>
            <a:r>
              <a:rPr b="0" lang="es-ES" sz="1600" spc="-1" strike="noStrike">
                <a:solidFill>
                  <a:srgbClr val="000000"/>
                </a:solidFill>
                <a:latin typeface="Gill Sans MT"/>
              </a:rPr>
              <a:t>	</a:t>
            </a:r>
            <a:r>
              <a:rPr b="0" lang="es-ES" sz="1600" spc="-1" strike="noStrike">
                <a:solidFill>
                  <a:srgbClr val="000000"/>
                </a:solidFill>
                <a:latin typeface="Gill Sans MT"/>
              </a:rPr>
              <a:t>// declara x como un enter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ouble y;</a:t>
            </a:r>
            <a:r>
              <a:rPr b="0" lang="es-ES" sz="1600" spc="-1" strike="noStrike">
                <a:solidFill>
                  <a:srgbClr val="000000"/>
                </a:solidFill>
                <a:latin typeface="Gill Sans MT"/>
              </a:rPr>
              <a:t>	</a:t>
            </a:r>
            <a:r>
              <a:rPr b="0" lang="es-ES" sz="1600" spc="-1" strike="noStrike">
                <a:solidFill>
                  <a:srgbClr val="000000"/>
                </a:solidFill>
                <a:latin typeface="Gill Sans MT"/>
              </a:rPr>
              <a:t>// declara y como un real</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Asign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x = 3;</a:t>
            </a:r>
            <a:r>
              <a:rPr b="0" lang="es-ES" sz="1600" spc="-1" strike="noStrike">
                <a:solidFill>
                  <a:srgbClr val="000000"/>
                </a:solidFill>
                <a:latin typeface="Gill Sans MT"/>
              </a:rPr>
              <a:t>	</a:t>
            </a:r>
            <a:r>
              <a:rPr b="0" lang="es-ES" sz="1600" spc="-1" strike="noStrike">
                <a:solidFill>
                  <a:srgbClr val="000000"/>
                </a:solidFill>
                <a:latin typeface="Gill Sans MT"/>
              </a:rPr>
              <a:t>// asigna a x el valor de 3 (constante)</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y = 2.0 - x;</a:t>
            </a:r>
            <a:r>
              <a:rPr b="0" lang="es-ES" sz="1600" spc="-1" strike="noStrike">
                <a:solidFill>
                  <a:srgbClr val="000000"/>
                </a:solidFill>
                <a:latin typeface="Gill Sans MT"/>
              </a:rPr>
              <a:t>	</a:t>
            </a:r>
            <a:r>
              <a:rPr b="0" lang="es-ES" sz="1600" spc="-1" strike="noStrike">
                <a:solidFill>
                  <a:srgbClr val="000000"/>
                </a:solidFill>
                <a:latin typeface="Gill Sans MT"/>
              </a:rPr>
              <a:t>// asigna a y el valor calculado de la expresió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xpresion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fórmulas (matemáticas) que nos permiten calcular un valor.</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iguen la norma de evaluación que conocemos de algebra y cálculo.</a:t>
            </a:r>
            <a:endParaRPr b="0" lang="en-US" sz="1600" spc="-1" strike="noStrike">
              <a:solidFill>
                <a:srgbClr val="000000"/>
              </a:solidFill>
              <a:latin typeface="Gill Sans MT"/>
            </a:endParaRPr>
          </a:p>
        </p:txBody>
      </p:sp>
      <p:sp>
        <p:nvSpPr>
          <p:cNvPr id="601"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B8D3-11F9-4196-95D6-8E9AD8BB847C}"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3 Imagen" descr="logo_dcc.jpg"/>
          <p:cNvPicPr/>
          <p:nvPr/>
        </p:nvPicPr>
        <p:blipFill>
          <a:blip r:embed="rId1"/>
          <a:stretch/>
        </p:blipFill>
        <p:spPr>
          <a:xfrm>
            <a:off x="7532640" y="0"/>
            <a:ext cx="1611360" cy="752400"/>
          </a:xfrm>
          <a:prstGeom prst="rect">
            <a:avLst/>
          </a:prstGeom>
          <a:ln w="0">
            <a:noFill/>
          </a:ln>
        </p:spPr>
      </p:pic>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Operador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Matemáticos: suma (+), resta (-), multiplicación (*), división (/), módul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ógicos: conjunción (&amp;&amp;), disjunción (||), negación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omparativos: mayor que (&gt;), menor que (&lt;), mayor o igual que (&gt;=), menor o igual que (&lt;=), igual que (==), distint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asting: cambia el tipo de dato menor en un dato de mayor precisión</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Unarios: se aplican a una variable o constante</a:t>
            </a:r>
            <a:endParaRPr b="0" lang="en-US" sz="18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re-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t-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igno</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    -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Negación</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Otros: condicionales (...?...:...) y de asignacion (=)</a:t>
            </a:r>
            <a:endParaRPr b="0" lang="en-US" sz="1800" spc="-1" strike="noStrike">
              <a:solidFill>
                <a:srgbClr val="000000"/>
              </a:solidFill>
              <a:latin typeface="Gill Sans MT"/>
            </a:endParaRPr>
          </a:p>
        </p:txBody>
      </p:sp>
      <p:sp>
        <p:nvSpPr>
          <p:cNvPr id="605"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E94-C3A5-4C6B-9C42-B1B24FB7218C}"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3 Imagen" descr="logo_dcc.jpg"/>
          <p:cNvPicPr/>
          <p:nvPr/>
        </p:nvPicPr>
        <p:blipFill>
          <a:blip r:embed="rId1"/>
          <a:stretch/>
        </p:blipFill>
        <p:spPr>
          <a:xfrm>
            <a:off x="7532640" y="0"/>
            <a:ext cx="1611360" cy="752400"/>
          </a:xfrm>
          <a:prstGeom prst="rect">
            <a:avLst/>
          </a:prstGeom>
          <a:ln w="0">
            <a:noFill/>
          </a:ln>
        </p:spPr>
      </p:pic>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ioridad de los operadores</a:t>
            </a:r>
            <a:endParaRPr b="0" lang="en-US" sz="20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09"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46CB-9849-4220-AF05-F55241AD123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graphicFrame>
        <p:nvGraphicFramePr>
          <p:cNvPr id="610" name=""/>
          <p:cNvGraphicFramePr/>
          <p:nvPr/>
        </p:nvGraphicFramePr>
        <p:xfrm>
          <a:off x="2214720" y="2286000"/>
          <a:ext cx="6095880" cy="4022640"/>
        </p:xfrm>
        <a:graphic>
          <a:graphicData uri="http://schemas.openxmlformats.org/drawingml/2006/table">
            <a:tbl>
              <a:tblPr/>
              <a:tblGrid>
                <a:gridCol w="1214280"/>
                <a:gridCol w="2000160"/>
                <a:gridCol w="28814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Prior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Operad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Prefijo y sufij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Unar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a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Multiplic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di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l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gt;   &lt;   &gt;=   &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gual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is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di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sign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3:18:40Z</dcterms:created>
  <dc:creator>Andrés Muñoz Ordenes</dc:creator>
  <dc:description/>
  <dc:language>en-US</dc:language>
  <cp:lastModifiedBy>Andrés Muñoz Ordenes</cp:lastModifiedBy>
  <dcterms:modified xsi:type="dcterms:W3CDTF">2007-03-30T13:25:55Z</dcterms:modified>
  <cp:revision>67</cp:revision>
  <dc:subject/>
  <dc:title>CC1001 – Computación I Clase 0</dc:title>
</cp:coreProperties>
</file>