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3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3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3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4F61-CE2D-4725-9E0F-219D0739449D}" type="slidenum">
              <a:rPr b="0" lang="es-C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95CF-8F3C-4C77-B48A-A8D49F1E870E}" type="slidenum">
              <a:rPr b="0" lang="es-C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DF2E-2D19-4DBA-9FF7-9DA5C5F8C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BC8E-D605-4F94-B764-6B8B86AF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F26B1-74F0-4D42-8224-A9892326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113BE-4DE4-44D4-89D3-48FBD745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93C400-1555-4CC2-872D-81C1B33F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3383E-A96D-421A-80B4-4B96EA01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43801-566F-4911-9230-67CC7F12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030F3-8292-44BC-89A7-2F7DED1F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BEAD2F-A13D-473C-9484-B087DCA1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BAD79-1786-4DEE-AC10-B7DD6DA56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C34A86-1BF4-4FAB-B13E-4DDBC6FD9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8593C-7005-46DB-B9DF-D75B4707B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2DF7-419B-4AFC-A9D6-6BC51E5EE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242B2A-0D79-4EA5-A555-EE8F06E6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72B590-A84D-4CE9-BA47-33E3548F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9CB59-8BC3-43F8-8682-B87AF358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DDD3E4-4900-4FC7-9BE3-8A82351B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CE7486-8C8A-4DCE-B91D-7DE8D0BE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69E3F-339A-43DA-A894-2E413B28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99B4CF-A57D-4B69-8F8F-3C144AD6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73A36-1889-4E7F-8A1E-E4D4540E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7967F6-41DE-436C-9EB9-AA5C8993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C5823E-3EF7-43F1-BE58-B3B8ADBB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20F4-76CA-494A-A047-867134C76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453FC9-E6C2-4CA8-B293-65406BF3B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ECB82-1FA2-4CC6-8B17-17E63EEAD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58219-4378-4E7B-B7EA-B1231360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735D5-3645-42B9-9062-221133C2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1CEAB-5F71-4EE0-BAFE-F4C80AED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6B52F-9081-471D-8EAC-5EEEFE26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B4C91-821D-47BE-82B3-CD378041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4C27E-3111-4F47-A112-26A19E5F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6BD81-50BD-4756-A78C-BC4A1259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2EE57-34E3-4838-8B81-3AF34AD0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C1CA-691B-45FB-92EF-FC485B226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EFF78-E02D-4CAF-B85A-B1BC34BD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C561B-14BD-4DC2-BE05-B8E5EFE50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3F202-E6E9-46B9-863E-58900CF5A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3DBEC4-557A-47CF-A080-29A37CFA3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8A0A01-FABD-4BF2-8F58-65C12E76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6ACEC9-96B4-4364-8764-1A948CEE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E53D0C-323D-4076-8133-7204C255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23B067-8154-4FF4-A57C-F83610EE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0FC5E7-7089-4E48-8F09-33220AAA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9221E2-E5EC-4DCE-B337-BCE0490B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C342-B0A3-4E51-8F8D-17363D9F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74DBA6-A7B1-447C-9242-B77234DF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30DB2C-F4BB-47A3-920B-B2683CD6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6B35A1-C76F-4E60-87C3-BB405E15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D8B926-74A5-42B7-9C34-DA846CA95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84C1E1-E68F-41FC-A070-A7AEFF733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32B2-8D42-46AD-92FE-3268A304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6C98-3D38-4AF2-B2B2-54CD5C49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EF44-468F-403A-9C96-E48FBAE7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8D4A-5758-4144-B2B4-961B7C59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E147-3B99-4977-BE14-A7909B8E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FE87-436A-4F04-8CA6-D221057A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5FB4-55A7-455F-A808-C93152BF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AA61-7C05-48EF-822C-CFB33849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85FF-23B4-4543-8D63-949BB548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8341-2873-48A4-96E7-77191E876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84FF-C8F3-4344-88E2-C7C15A68B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64615-1C1A-4AD4-AF1D-3329BBDC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16C07-C244-4D9D-B065-05868057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B2C9F-B495-4442-83F8-BBFE6999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E6941-EC56-42B2-84B4-D3CA4DC5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599AF-2CA6-45B6-B61C-D0E9C30F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50FA-4D2A-4A08-9040-3B4F1D7E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4FAE2-B283-4E85-9764-37E4C960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EA375-9CB2-4D98-B9D2-2857979F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1114C-8EBE-4BF2-B228-6710240E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5F159-0E00-481C-9C48-AFF02C46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2829E-492D-4A0D-BFFB-B7ED37DD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6C37F-FCEE-48EB-9618-E7BFEFA49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B7615-91FC-4631-A72F-65D573F70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EF0A3-98A6-49B6-A0C9-D3BE6EC13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86438-12EE-4F01-8CCE-591D3FF9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91500-0172-4CF0-BE38-AD17CFC2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1C14-9157-4311-BEF2-B8C9D3AB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C2B94-314F-4772-9BE7-FE08E62A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F2481-D3B3-43A5-8D4E-AD247198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B4A14-FCE0-4FBE-876A-B749ABDA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580CE-94AF-47C7-84E0-EC7D90F0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8B294-FFC3-4653-A0F2-86913567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5D879-005C-4BBD-B919-97F67BEE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CA313-1594-4271-BB3B-A0F8B22C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58342-6526-4D2B-A521-AA397E43F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7093A-3F6D-497E-973F-1E86625BA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00D2C-C288-475F-B04D-8C8FD9DA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E611-553B-4947-9826-EFC6003E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BD3DC-B06F-48B0-A7F7-92132FF7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7B63E-C522-4961-BBE6-14CC8A4B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16897-39AF-4757-B4AD-4BBC06A3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5E647-62D5-45A4-9EEB-8EC7969C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988A7-6A26-48B4-A14D-B69A9726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71C00-711B-42CD-A423-F0D26D3C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FFBFB-CD07-4CB6-9821-6AFBDB8D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9A761-CDF1-4258-8E2B-D95AEB43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57E79-2525-4861-A78D-56C2CF6A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88BC2-8A80-46A7-8C88-27F212A8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50F9-A7A4-45EF-9590-9FECC909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F5B14-6163-408D-AB2D-A1C600C03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C5BA8-4D68-4252-BFBF-9FE081E61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D107F-6BD7-4ED0-8437-B34194F7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D9F4F-E65A-4FC1-8C10-1956758D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9F083-9419-4989-B16F-AEBE0482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9EAA0-227D-45E9-96FD-C667DF14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1D0A9-CCDC-47EC-9B9F-6A2FEE8C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7D4E4-E5AF-408C-A611-8BA0759E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DD1AB-6FE0-415D-BC25-E106F5F5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6F9F3-85CF-40A1-8C25-0880F35D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B776-CD27-4363-8A43-42675731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30DDC-FE8D-4B07-8ABD-21CB9622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80A06-8678-4AAB-BCF2-47FEC5F08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7D3F1-2448-430C-BAC6-689EEA7A7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0BA77-BE74-4692-9BA1-B26FD9C34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110C8-C534-4EDA-B6DC-2F358711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6A7CD-5674-4EA0-8184-714C3D29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513F2-4197-4CBC-9963-4E88FE99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40511-1DD0-40E9-9695-5D6F2F3A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01FB5-18F7-4BF3-A953-30BB61E3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ADDBA-FA1F-4331-B432-5FB7BD7E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FAF3-EBA7-4480-82B5-74172DB0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79888-3FE0-42EE-A166-60C74CB9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1B2EA-207C-4985-A479-701C38D1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9FFAA-71B9-41EE-9DAD-9A6AE79B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7B15A-22BA-4A0F-BBEC-776DB1CFE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EB0D5-75AD-43C2-A827-F0E03F78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C74E5-BD7E-4E7E-B47B-155C627C2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C97D4-704D-4D3C-B0D4-3F0C725D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A6BA0-2DCF-442E-AC8B-A6AEC366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B6E00-C30B-4EC7-BA32-2D102650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F8497-1262-4FE0-B511-CE7EB63E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AC59-3E63-4407-A011-98B2B61C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255DD-6B62-4D55-B3CA-3B42624B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2F2CF-C4B3-4CDB-8FF3-96AF048F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C6BE9-850F-4438-B45B-FDFD8457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A0B22-5C30-458D-AD58-1D1D4FCF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C586B-003A-44E2-91BE-00B33B2F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D19C0-0F9A-48F5-AA3B-FC22DC256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E07CE-1EA5-4F2D-88DF-B944F25BF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ECA0E2-D734-4D45-93D8-3A6044F86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1FBFD-FA31-4A0E-B05F-E6EA1CD9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A3D33-8F0D-49B0-9AE3-662EE2FC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8548-732D-4DBB-A751-AB2D8A5BF05B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84E0-68F1-4462-84FA-D7C4B354D37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17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6C5D-A600-4572-9495-83CB6BA8D5E1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2C45-625A-4E07-9D06-03D2CC20905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65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B2C7-9BC1-452C-A28C-AD3DC2B769FE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ACAA-281A-4F13-91AE-C61339D8962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1131-E83D-47AE-8DA6-79510ED5D385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B2C1-4347-4191-AA85-C95C797D17A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7B61-F7E4-4556-B39E-8E320CF61CA5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F68F-AC3B-4AFD-A788-BC0811A4605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97D2-5034-48CB-B791-3D5F2343FA28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57B6-72A8-4D2E-B2BC-5C5AD69F569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C6D4-52B6-4095-A308-8AEDE161FAF6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6B25-364D-4A7C-93C5-76ECBF9C7EA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98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93AD-5AC8-443C-BA87-D3D3BBD6902F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C222-008E-42EB-AC54-5412BB5D848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5552-D639-4D26-A4A7-4DA58596DFD5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A614-2656-460E-8089-5EB07151E54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87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E9C3-CF4C-45A0-A9DE-A1D00A2F24E5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8210-B126-4191-8720-52A4C60DD63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E472-7BA6-4D3B-A2F9-3216431A7BFE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0B76-6105-4E51-ACC7-4CA775FE4CA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08CC-303D-420A-9BBD-CDDDAB6DC0A3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B7C8-DFBA-45D8-AB4B-91E1F818FB3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28840" y="24289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C1001 – Computación I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lase 6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428840" y="5000400"/>
            <a:ext cx="7407360" cy="1579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Fecha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28 de Marzo de 2007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Sección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05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rofesor:  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rés Muñoz Ordene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E-Mail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munoz@dcc.uchile.c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ágina Web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http://ucursos.ing.uchile.cl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7" name="3 Imagen" descr="logo_dcc.jpg"/>
          <p:cNvPicPr/>
          <p:nvPr/>
        </p:nvPicPr>
        <p:blipFill>
          <a:blip r:embed="rId1"/>
          <a:stretch/>
        </p:blipFill>
        <p:spPr>
          <a:xfrm>
            <a:off x="5643720" y="285840"/>
            <a:ext cx="3111480" cy="1452600"/>
          </a:xfrm>
          <a:prstGeom prst="rect">
            <a:avLst/>
          </a:prstGeom>
          <a:ln w="0">
            <a:noFill/>
          </a:ln>
        </p:spPr>
      </p:pic>
      <p:sp>
        <p:nvSpPr>
          <p:cNvPr id="56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233A-A6F5-4C9F-9EC4-F5758826B5F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recursiva del factorial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Descompongamos el factorial matemáticamente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2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n! = n * (n-1) * (n-2) * … * 3 * 2 * 1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Si  además pensamos en el factorial de n-1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(n-1)! = (n-1) * (n-2) * … * 3 * 2 * 1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Por lo tanto, podemos decir que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n! = n * (n-1)!</a:t>
            </a: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// CASO GENERA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Además, podemos decir que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2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1! = 1</a:t>
            </a: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      // CASO BAS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44C6-CA1F-402C-AB97-C07753E9FAA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recursiva del factorial (cont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int factorial (int n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Caso Bas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n == 1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Caso General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n * factorial(n-1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9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32C0-F45B-4809-A687-DBBA1DC18E9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Traza de la solució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Por ejemplo, n=5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factorial(5) = 5 * factorial(4)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// Caso Genera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factorial(4) = 4 * factorial(3) 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// Caso Genera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factorial(3) = 3 * factorial(2) 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// Caso Genera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factorial(2) = 2 * factorial(1) 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// Caso Genera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factorial(1) = 1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// Caso Bas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2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Luego: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factorial(5) = 5 * (4 * (3 * (2 * (1) ) ) ) = 12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ABCA-88CF-4805-9B6B-5A61E75507D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6 Cerrar llave"/>
          <p:cNvSpPr/>
          <p:nvPr/>
        </p:nvSpPr>
        <p:spPr>
          <a:xfrm rot="5400000">
            <a:off x="5643360" y="4929120"/>
            <a:ext cx="142920" cy="285840"/>
          </a:xfrm>
          <a:custGeom>
            <a:avLst/>
            <a:gdLst>
              <a:gd name="textAreaLeft" fmla="*/ 0 w 142920"/>
              <a:gd name="textAreaRight" fmla="*/ 51480 w 142920"/>
              <a:gd name="textAreaTop" fmla="*/ 3600 h 285840"/>
              <a:gd name="textAreaBottom" fmla="*/ 28224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16200" y="10800"/>
                  <a:pt x="21600" y="10800"/>
                </a:cubicBezTo>
                <a:cubicBezTo>
                  <a:pt x="162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7 Cerrar llave"/>
          <p:cNvSpPr/>
          <p:nvPr/>
        </p:nvSpPr>
        <p:spPr>
          <a:xfrm rot="5400000">
            <a:off x="5464800" y="4964760"/>
            <a:ext cx="142920" cy="928800"/>
          </a:xfrm>
          <a:custGeom>
            <a:avLst/>
            <a:gdLst>
              <a:gd name="textAreaLeft" fmla="*/ 0 w 142920"/>
              <a:gd name="textAreaRight" fmla="*/ 51480 w 142920"/>
              <a:gd name="textAreaTop" fmla="*/ 3600 h 928800"/>
              <a:gd name="textAreaBottom" fmla="*/ 9252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9"/>
                  <a:pt x="10800" y="277"/>
                </a:cubicBezTo>
                <a:lnTo>
                  <a:pt x="10800" y="10523"/>
                </a:lnTo>
                <a:cubicBezTo>
                  <a:pt x="10800" y="10662"/>
                  <a:pt x="16200" y="10800"/>
                  <a:pt x="21600" y="10800"/>
                </a:cubicBezTo>
                <a:cubicBezTo>
                  <a:pt x="16200" y="10800"/>
                  <a:pt x="10800" y="10939"/>
                  <a:pt x="10800" y="11077"/>
                </a:cubicBezTo>
                <a:lnTo>
                  <a:pt x="10800" y="21323"/>
                </a:lnTo>
                <a:cubicBezTo>
                  <a:pt x="10800" y="2146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8 Cerrar llave"/>
          <p:cNvSpPr/>
          <p:nvPr/>
        </p:nvSpPr>
        <p:spPr>
          <a:xfrm rot="5400000">
            <a:off x="5321880" y="5107320"/>
            <a:ext cx="142920" cy="1500480"/>
          </a:xfrm>
          <a:custGeom>
            <a:avLst/>
            <a:gdLst>
              <a:gd name="textAreaLeft" fmla="*/ 0 w 142920"/>
              <a:gd name="textAreaRight" fmla="*/ 51480 w 142920"/>
              <a:gd name="textAreaTop" fmla="*/ 3600 h 1500480"/>
              <a:gd name="textAreaBottom" fmla="*/ 1496880 h 150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6"/>
                  <a:pt x="10800" y="171"/>
                </a:cubicBezTo>
                <a:lnTo>
                  <a:pt x="10800" y="10629"/>
                </a:lnTo>
                <a:cubicBezTo>
                  <a:pt x="10800" y="10715"/>
                  <a:pt x="16200" y="10800"/>
                  <a:pt x="21600" y="10800"/>
                </a:cubicBezTo>
                <a:cubicBezTo>
                  <a:pt x="16200" y="10800"/>
                  <a:pt x="10800" y="10886"/>
                  <a:pt x="10800" y="10971"/>
                </a:cubicBezTo>
                <a:lnTo>
                  <a:pt x="10800" y="21429"/>
                </a:lnTo>
                <a:cubicBezTo>
                  <a:pt x="10800" y="2151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9 Cerrar llave"/>
          <p:cNvSpPr/>
          <p:nvPr/>
        </p:nvSpPr>
        <p:spPr>
          <a:xfrm rot="5400000">
            <a:off x="5178960" y="5250600"/>
            <a:ext cx="142920" cy="2071800"/>
          </a:xfrm>
          <a:custGeom>
            <a:avLst/>
            <a:gdLst>
              <a:gd name="textAreaLeft" fmla="*/ 0 w 142920"/>
              <a:gd name="textAreaRight" fmla="*/ 51480 w 142920"/>
              <a:gd name="textAreaTop" fmla="*/ 3600 h 2071800"/>
              <a:gd name="textAreaBottom" fmla="*/ 2068200 h 20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2"/>
                  <a:pt x="10800" y="124"/>
                </a:cubicBezTo>
                <a:lnTo>
                  <a:pt x="10800" y="10676"/>
                </a:lnTo>
                <a:cubicBezTo>
                  <a:pt x="10800" y="10738"/>
                  <a:pt x="16200" y="10800"/>
                  <a:pt x="21600" y="10800"/>
                </a:cubicBezTo>
                <a:cubicBezTo>
                  <a:pt x="16200" y="10800"/>
                  <a:pt x="10800" y="10862"/>
                  <a:pt x="10800" y="10924"/>
                </a:cubicBezTo>
                <a:lnTo>
                  <a:pt x="10800" y="21476"/>
                </a:lnTo>
                <a:cubicBezTo>
                  <a:pt x="10800" y="2153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10 CuadroTexto"/>
          <p:cNvSpPr/>
          <p:nvPr/>
        </p:nvSpPr>
        <p:spPr>
          <a:xfrm>
            <a:off x="5429160" y="5072040"/>
            <a:ext cx="5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11 CuadroTexto"/>
          <p:cNvSpPr/>
          <p:nvPr/>
        </p:nvSpPr>
        <p:spPr>
          <a:xfrm>
            <a:off x="5214960" y="5500800"/>
            <a:ext cx="57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12 CuadroTexto"/>
          <p:cNvSpPr/>
          <p:nvPr/>
        </p:nvSpPr>
        <p:spPr>
          <a:xfrm>
            <a:off x="5072040" y="5929200"/>
            <a:ext cx="5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(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13 CuadroTexto"/>
          <p:cNvSpPr/>
          <p:nvPr/>
        </p:nvSpPr>
        <p:spPr>
          <a:xfrm>
            <a:off x="4929120" y="6357960"/>
            <a:ext cx="5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jemplo: Escriba una función que cuente la cantidad de dígitos de un número entero. Ej: digitos(345) = 3, digitos(6) = 1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Iterativa (no recursiva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int digitos (int x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n = 1;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El número tiene al menos 1 dígit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while (x &gt;= 10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n = n + 1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x = x / 10;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Se elimina el último dígit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n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5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14C2-2740-406D-B628-85DED3DCFB5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Recursiv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 x &lt; 10 entonces el número tiene 1 dígito (caso bas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 x &gt;= 10 entonces el número tiene 1 dígito + los dígitos que tiene el mismo número sin el último dígito (caso general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int digitos (int x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x &lt; 10) {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Caso Bas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1 + digitos(x/10);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Caso General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9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2355-B140-4928-9006-24F517AC2BF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: Escribir el método invertir(n) que permite invertir los dígitos de un número entero positivo. Hágalo primero en su forma iterativa y luego en su forma recursiv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jemplo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invertir(345) = 543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invertir(16) = 61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invertir(100) = 1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// viene de 001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3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B734-E271-441A-ADC4-71E59319A2F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Iterativ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2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int invertir(int x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y = 0; 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Número invertid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while (x &gt; 0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y = (y * 10) + (x % 10);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Tomamos últimos dígitos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x = x / 10;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Sacamos el resto de los números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y;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Retornamos el invertid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El método va achicando el número desde su último dígito y lo vamos poniendo al principio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7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F6F9-064A-4EC0-9B3F-91BB6A34094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Recursiv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2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int invertir(int x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Caso Bas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x &lt; 10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x;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El número de un dígito YA está invertid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Caso General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(x % 10) * Math.pow(10, digitos(x) - 1) + invertir(x / 10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La traza es similar a la versión iterativa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En este caso, el caso general es un poco más complejo, por la matemática que hay detrás era más compleja, por eso la concatenación de Strings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1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CFA8-F757-4B0E-BCB2-2C263F212D8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rabajo Práctic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 1: Escriba una función (método) recursiva que permita calcular la sumatori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∑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Gill Sans MT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06000" indent="-16956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 2: Los números de Fibonacci son una sucesión de números que se calculan en forma recursiva. Escriba el método fibonacci(n) que calcule el valor de la sucesión en n con la fórmula general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F(n) = F(n-1) + F(n-2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Además, considere qu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F(0) = F(1) = 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(Mayor información en http://es.wikipedia.org/wiki/Sucesi%C3%B3n_de_Fibonacci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5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61F1-09E3-4514-BE68-963D935F6C4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428840" y="24289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C1001 – Computación I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Fin de la Cla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1428840" y="6215040"/>
            <a:ext cx="7407360" cy="365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20e04"/>
                </a:solidFill>
                <a:latin typeface="Gill Sans MT"/>
              </a:rPr>
              <a:t>El Presente es la única salida del Pasado y la única entrada al Futur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48" name="3 Imagen" descr="logo_dcc.jpg"/>
          <p:cNvPicPr/>
          <p:nvPr/>
        </p:nvPicPr>
        <p:blipFill>
          <a:blip r:embed="rId1"/>
          <a:stretch/>
        </p:blipFill>
        <p:spPr>
          <a:xfrm>
            <a:off x="5643720" y="285840"/>
            <a:ext cx="3111480" cy="1452600"/>
          </a:xfrm>
          <a:prstGeom prst="rect">
            <a:avLst/>
          </a:prstGeom>
          <a:ln w="0">
            <a:noFill/>
          </a:ln>
        </p:spPr>
      </p:pic>
      <p:sp>
        <p:nvSpPr>
          <p:cNvPr id="649" name="5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84FE-3B58-44F6-B3E8-56CD07BF006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n esta clase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Solución Trabajo Anterio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Motivació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Ejercicio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Trabajo Práctic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D47C-C25E-4B5F-84A4-01A10896454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Solución Trabajo Anteri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 1: Escribir un programa que calcule el promedio de una cantidad indeterminada de números reales utilizando el siguiente diálog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Nota: El 0 indica que la entrada de datos terminó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74BB-5783-4F41-982D-80420EFB84D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5 Rectángulo redondeado"/>
          <p:cNvSpPr/>
          <p:nvPr/>
        </p:nvSpPr>
        <p:spPr>
          <a:xfrm>
            <a:off x="1928880" y="2714760"/>
            <a:ext cx="6715080" cy="2786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Númer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4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uenta = 1, Promedio = 4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Númer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5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uenta = 2, Promedio = 5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Númer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Solución Trabajo Anteri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1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Variables acumulativas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cuenta = 0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double promedio = 0.0, n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Solicitud de primer dat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n = U.readDouble(“Número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while(n != 0.0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cuenta++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Calculamos el promedi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promedio = (promedio * (cuenta - 1) + n) / cuenta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Cuenta = “ + cuenta + “, Promedio = “ + promedio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Solicitud de siguientes datos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n = U.readDouble(“Número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1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F60D-E310-4622-86F8-09FD7815EEF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Solución Trabajo Anteri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2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Variables acumulativas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cuenta = 0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double promedio = 0.0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while(true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Solicitud de datos y verificar si no es el final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double n = U.readDouble(“Número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n == 0.0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cuenta++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Calculamos el promedi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promedio = (promedio * (cuenta – 1) + n) / cuenta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Cuenta = “ + cuenta + “, Promedio = “ + promedio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9318-47D1-48E1-8BE2-74AB0DD9F15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Solución Trabajo Anteri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 2: Escribir un programa que solicite un número entero y que luego le calcule el factorial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70800" indent="-17856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70800" indent="-17856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Solicitamos el número de n!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n = U.readInt(“Ingrese el valor a calcular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La base es 1, por lo tanto el total es 1 hasta ahor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factorial = 1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for (int i=2; i&lt;=n; i++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Acumulativamente vamos multiplicando por cada i entre 2 y 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factorial = factorial * i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Mostramos el resultad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El “ + n + “! = “ + factorial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9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A9EF-4FDA-4B8C-AEF8-198464A3912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Motiv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Factorial como una funció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int factorial (int n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factorial = 1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for (int i=2; i&lt;=n; i++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factorial = factorial * i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factorial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void main (String args[]) throws Exception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n = U.readInt(“Ingrese el valor a calcular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El “ + n + “! = “ + factorial(n)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15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¿Existirá otra forma más “eficiente” para realizarlo?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3" name="9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F7F0-8651-4527-A1C2-895CEFBAE89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Recursividad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Defini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Algoritmo que se especifica a través de su propia definición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Se basa en el concepto matemático de la Inducción (caso base, hipótesis/caso genérico)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mántic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Si se encuentra en el caso base, se retorna el valor correspondiente a ese caso y termina el algoritmo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Si no se encuentra en el caso base, se evalúa un valor dependiente de casos anteriores del algoritmo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¡¡ Es una definición RECURSIVA !!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7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5D67-602D-4FCB-A584-553F1362891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Recursividad (cont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ntaxi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&lt;tipo&gt; &lt;nombre&gt; (&lt;parametros&gt;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&lt;caso base&gt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&lt;caso general&gt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caso base&gt;: Salida no recursiva del métod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caso general&gt;: Llamada a si mismo con variación de parámetros que converjan hacia el caso base (utilizando pasos anteriores)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Como se puede ver, no es fácil entender la sintaxis de un método recursivo, es por eso que importa más verlo con ejemplos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1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E1A1-B78D-40CF-9DE1-9F14E494F07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13:18:40Z</dcterms:created>
  <dc:creator>Andrés Muñoz Ordenes</dc:creator>
  <dc:description/>
  <dc:language>en-US</dc:language>
  <cp:lastModifiedBy>Andrés Muñoz Ordenes</cp:lastModifiedBy>
  <dcterms:modified xsi:type="dcterms:W3CDTF">2007-03-28T13:44:37Z</dcterms:modified>
  <cp:revision>78</cp:revision>
  <dc:subject/>
  <dc:title>CC1001 – Computación I Clase 0</dc:title>
</cp:coreProperties>
</file>