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C889-5EEC-46A5-9FBA-47E826355921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AC7B-EFD8-4202-B7A2-F024D0DB68C9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222-C52D-4B68-AB2E-E409198C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90-AD18-420D-B615-D54418F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9EC87-4C17-4E3D-A0FF-958683A3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F688-BC27-4966-AA66-6F89CCA3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45738-EBAD-4743-AA56-A3C68AF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E2524-E0B0-4716-A27C-9A57E41A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F0C44-B651-4EEF-92E8-74CE564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5408D-2B1B-45DD-A884-D2FB6FA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D9D5E-C680-4E5C-8E51-1516957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E9815-0477-404F-A131-3A2AD045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08367-9460-404D-91FA-95E1EDF0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B87CE-121D-4F99-B8A8-C6C304A1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A6E-4FC9-45E0-B294-E188F735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CD104-225E-45F1-91C1-A807132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DEF60-4359-4372-90D1-04F3726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F3B93-312A-4F23-A669-AB207C29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D3107-EE13-4E54-ADC2-B8EA5001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BEABB-8DEC-4BA8-96A2-E5A4271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54F41-CD4E-4AE8-8F16-5A45044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2D88E-0538-48C4-AC32-6513E84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6405C-9895-41BC-AE76-C79CE0A9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5D42B-123B-4E52-9BCF-E93A8C0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08C52-6DAA-4230-A60F-0FF61382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215-0A42-48E2-B571-CCDD73C1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93FAD-E446-4691-AF69-27E4CF0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C94DB-6AEE-442A-9627-7B833FAC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BCC5-E0DA-4D9E-A52C-EE7A6BA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C3DB2-3445-4A42-BC5C-BE6FA264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CEC82-0DD0-4921-87CA-3E82B79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5AB2-4F41-4418-AD23-EE386BF9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CDF2A-365A-49D0-9EB2-1D62BF61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B9D96-C6F7-4C7C-BA45-505C3F4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C9FE-9E97-4999-B28D-4FEEAC7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F849B-A47B-48FA-A0FF-FBBB9EAD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147B-87EC-42B3-9896-DA842DB6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5FDD-6432-404B-8212-11324F3C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5AED8-4AF9-4038-8697-27E05026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FD78-BC26-4F42-9FD1-EF1D48D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9C91C-1B7B-4809-8E59-036383EC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11DC3-3384-4ABD-9730-90947655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97252-59FA-4E2C-8936-545B0530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59D67-E2A8-4846-A1D3-9EDB9E07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81DAB-BD61-42FE-B3E0-5B802828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96DCD-E5BF-443C-BCF4-44AA5DA2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E9887-CA16-42BC-B661-0A8AA680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3125-25A7-499C-8481-7D20EC90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98F2B-DF15-4CCC-AB1A-2914723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7F819-01A2-43AD-B387-4DC9F28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A2018-8F44-4218-B72B-7AD0DD8A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683C9-8017-4351-B40E-6DA0EA08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0BA70-CD8D-416D-9538-09CF42B6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C507-9F15-4F44-A053-DADA1FF8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954-2779-451D-93B0-60D7BF5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934A-2AEB-4006-908C-F80549D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250-45BB-486D-BACB-05E101D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2CDC-B8A3-49D6-B05E-423F110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BE1-DFEA-4AF5-BF91-F85DCFD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F89-0BA7-4635-9CB7-8FCB8FC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AFB-D7D4-446D-84B5-2853803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19FB-92A2-4CD9-B357-A80E5326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971A-4E00-4D0B-AD18-02495FF6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B44-0351-41FB-AE71-23B038AA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8A55-03DC-4A7A-92C8-7F54F3F0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8A01-6497-471A-ABAB-6989EC3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EF70-89A5-495C-8E80-13A3E11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F66C-D2EE-479B-98D5-0721931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E499-113E-42EE-B6D6-3EC918B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380-47BC-4EA2-9761-AC176EA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70A9-9023-4EA0-B4D2-52D2AB0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78E8-F34C-410F-B2A9-8C7ED3D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3BC5-F487-4C96-9FC4-9F0C56E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7CE1-27EE-4316-896A-26E70A5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EA38-C5F6-4818-9BF2-83606734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B750-1039-4A5E-8F99-7350DD7E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09DB-157F-4330-8A2E-8D401D83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2BB7-A1D0-44E8-B950-2FF9858D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30E5-2C09-4C27-93B1-D2F8342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5D80-839D-4E35-A177-17B1502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A7B-8526-4999-9123-EDBB927C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21A6-70C2-442D-83D4-6EB94CF8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2F80-2A99-4C44-8B7B-44EAFC9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4D23-2427-45DE-98F2-F69AEBFC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5F271-8F55-42A5-A3FE-5B8C75F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CDC3-ABB1-49A9-A39A-97E7DE1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99DD-7C8E-479F-84DD-6271941B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2E2C-02D3-4203-AFFA-1A0CB549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560F-DA66-4C4A-9083-7680723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C141-7A7E-42EE-89CE-0C5C8AD5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826C5-39C4-4A26-A046-A84F0C8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FB7-D79C-4DE9-8F84-F3F874D6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A126-20BF-491B-BC99-B7C71DA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E2E1-A251-41D2-B17B-F9C2CDA0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AF3F5-A394-447E-8EFF-AAD3490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A7FD5-7A74-4EF1-96E9-2F2786F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CC418-FCD8-41AC-89F8-9E771FE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274A-1692-474F-A8AC-A328C7F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F436-A443-425A-8699-857874F8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7E19E-7F50-4E54-A1F1-83EE186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AE4B-63EC-43D1-895C-7254A2B8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2E41-D0E5-43E2-AB4A-9197F0DE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D7E-08BA-4C2A-9C1B-3A5BCD96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5A083-7DE0-482E-B8A6-ECA598CE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ADED4-9906-4647-BDC1-FF7FE0B4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3EA12-7B1A-4ECD-B34E-7C3922DA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7241-C3D9-4909-9437-7D9B65A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09AB-AC2F-4EE2-86FC-A3AE50E4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6CE18-E31C-4BA3-BAD9-7D8F456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C5E8-E852-437E-AD04-7F7F80E4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0880-CB63-4454-BA87-BBC9942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2AA7-5078-4E1D-8B06-A98481B1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95FC-3929-401D-A5D0-A7A739E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826-BB4D-4EAB-91EA-99E410DF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38DAB-FFF8-4741-A6BE-D01964D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4C14A-9978-411F-9BCF-575E6743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B23C-C2E0-4E79-9C9C-2D181086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DCAC4-A0CA-4940-8D88-018E355E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EAA1-F609-41C9-B96A-2D8AD56B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54C6-3E4F-46B3-9CE5-FEDB7BED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45ED-5FFB-479C-A5CA-93A14CCF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5929-2FE6-4B73-B43C-B17FB93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43CF-A0F6-479F-AB61-E90AE42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FBBB-3A3A-4A11-B434-6FB2B20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291-13B9-4E59-8C42-440929E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DD91A-25B4-48DA-84B5-44BB700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999A-206D-42AD-B65A-A6452FD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5D94F-FAA2-4943-992F-AFD48105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A4F75-7AA6-4A07-8851-1795B832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80C5-5F83-4725-8F4F-35A2C701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5AEAB-7E0B-4FB8-B8E1-42B1792A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D533D-5037-4ACB-8CAB-B9F8E0F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3CAE-7AF2-487D-9A65-961736CE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B919-7F02-427B-99C5-71C67779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CA72-FFCE-430E-89D5-3407B8E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BB9-FA75-460F-A232-E9358CC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BCAA2-2A5C-4678-9E20-85DD52D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3C0A-ADAB-42D2-915D-60DF40C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A095-E088-40DE-8533-2D84861F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0BEF-5ED1-4920-8196-AA901DA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4984-0DD8-48D2-9DF1-021FDD1F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F080-7698-46A1-A5DA-6A493B5F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4FA7E-7005-4B00-BA9C-22A7F1AD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98F9-CA49-4827-8280-4B7DC879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FFD7D-27E2-4C9C-82F7-42AF29E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A2630-75F9-45A9-8D14-D00C6C9B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2BC-B034-4EDC-B364-1F604BAB68C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500-F465-40EA-9BF1-F552174D4B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0A0-AF78-4A6B-8D01-8E99CA6526C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2842-29C8-4DAF-91E6-A944C999D2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D83-8437-4DC6-B2A2-5F89488019B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083-770C-40DB-A071-7FB599C3E2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4E6-AA9E-4BFA-AB75-CC0AA04F6F2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36A-83EE-4377-9D4B-082907282D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451-05ED-47AB-B92E-6ED3EAB3905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7080-5118-4DD1-846A-250511CA33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AAF-0B02-4998-9B5F-F79B67751D2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A45D-275F-4822-A35C-73B5A2592F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1B8A-4334-41B0-8E4D-F2409A1CC3F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B9CA-E2CC-46BA-9855-F78E3072AB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0527-8542-41E9-883A-B1002A725B0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26C6-95ED-4C91-98D8-8595DC61DF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806A-1CA8-4292-BDD6-D231FE22D8E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773C-9D17-4BB7-BF08-9B472D6E4D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6D7F-412F-43E9-B7EF-35B19C81BC6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C08E-76F3-4D1C-B41F-E7D9A6B094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EF82-55C6-4E4D-893F-BE5CCA25243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B431-8BDA-4BFD-B140-8262E7D264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96B3-FB0C-4DFD-88CF-632CE50CA1B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27A-26F5-476D-9105-B39017AE94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8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5F00-77C3-464A-825F-10602997CA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 del factorial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scompongamos el factorial matemáticament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! = n * (n-1) * (n-2) * … * 3 * 2 *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  además pensamos en el factorial de n-1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(n-1)! = (n-1) * (n-2) * … * 3 * 2 *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or lo tanto, podemos decir qu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! = n * (n-1)!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demás, podemos decir qu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1! = 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      // CASO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2B1-9C4D-4777-92C4-FC7D3BA6FE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 del factorial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factorial 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==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 * factorial(n-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0312-C407-4C96-8ECF-EB5CD74D0DC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za de la 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or ejemplo, n=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5) = 5 * factorial(4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4) = 4 * factorial(3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3) = 3 * factorial(2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2) = 2 * factorial(1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1) = 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torial(5) = 5 * (4 * (3 * (2 * (1) ) ) ) = 12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F0AD-5FFE-45FC-B83D-FE4E26D478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6 Cerrar llave"/>
          <p:cNvSpPr/>
          <p:nvPr/>
        </p:nvSpPr>
        <p:spPr>
          <a:xfrm rot="5400000">
            <a:off x="5643360" y="4929120"/>
            <a:ext cx="142920" cy="285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85840"/>
              <a:gd name="textAreaBottom" fmla="*/ 28224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7 Cerrar llave"/>
          <p:cNvSpPr/>
          <p:nvPr/>
        </p:nvSpPr>
        <p:spPr>
          <a:xfrm rot="5400000">
            <a:off x="5464800" y="4964760"/>
            <a:ext cx="142920" cy="928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8 Cerrar llave"/>
          <p:cNvSpPr/>
          <p:nvPr/>
        </p:nvSpPr>
        <p:spPr>
          <a:xfrm rot="5400000">
            <a:off x="5321880" y="5107320"/>
            <a:ext cx="142920" cy="150048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500480"/>
              <a:gd name="textAreaBottom" fmla="*/ 149688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9 Cerrar llave"/>
          <p:cNvSpPr/>
          <p:nvPr/>
        </p:nvSpPr>
        <p:spPr>
          <a:xfrm rot="5400000">
            <a:off x="5178960" y="5250600"/>
            <a:ext cx="142920" cy="2071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0 CuadroTexto"/>
          <p:cNvSpPr/>
          <p:nvPr/>
        </p:nvSpPr>
        <p:spPr>
          <a:xfrm>
            <a:off x="5429160" y="50720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1 CuadroTexto"/>
          <p:cNvSpPr/>
          <p:nvPr/>
        </p:nvSpPr>
        <p:spPr>
          <a:xfrm>
            <a:off x="5214960" y="550080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2 CuadroTexto"/>
          <p:cNvSpPr/>
          <p:nvPr/>
        </p:nvSpPr>
        <p:spPr>
          <a:xfrm>
            <a:off x="5072040" y="59292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13 CuadroTexto"/>
          <p:cNvSpPr/>
          <p:nvPr/>
        </p:nvSpPr>
        <p:spPr>
          <a:xfrm>
            <a:off x="4929120" y="635796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: Escriba una función que cuente la cantidad de dígitos de un número entero. Ej: digitos(345) = 3, digitos(6) = 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Iterativa (no recursiva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digitos 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número tiene al menos 1 dígi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&gt;= 1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x / 10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e elimina el último dígi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A77-6250-4D39-9498-35B3625DC1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x &lt; 10 entonces el número tiene 1 dígito (caso ba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x &gt;= 10 entonces el número tiene 1 dígito + los dígitos que tiene el mismo número sin el último dígito (caso genera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digitos 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10) {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 + digitos(x/1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D76B-0C13-41C6-AB48-CB8A24AFBF0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el método invertir(n) que permite invertir los dígitos de un número entero positivo. Hágalo primero en su forma iterativa y luego en su forma recursi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345) = 54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16) = 6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100) = 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viene de 00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A39D-51DB-47CE-A3D2-C46F19F82B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Iterat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invertir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y = 0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Número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&gt;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y = (y * 10) + (x % 1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Tomamos últimos dígi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x / 10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acamos el resto de los númer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y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Retornamos el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l método va achicando el número desde su último dígito y lo vamos poniendo al principi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8F36-B3B4-4EF9-97FE-5CEA98CEAC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invertir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1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x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número de un dígito YA está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x % 10) * Math.pow(10, digitos(x) - 1) + invertir(x /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La traza es similar a la versión iterativa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este caso, el caso general es un poco más complejo, por la matemática que hay detrás era más compleja, por eso la concatenación de String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A5F-54CE-452A-A6A2-59964E7276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(método) recursiva que permita calcular la sumatori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∑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Los números de Fibonacci son una sucesión de números que se calculan en forma recursiva. Escriba el método fibonacci(n) que calcule el valor de la sucesión en n con la fórmula genera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(n) = F(n-1) + F(n-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demás, considere q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(0) = F(1)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(Mayor información en http://es.wikipedia.org/wiki/Sucesi%C3%B3n_de_Fibonacc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B95F-9499-4092-A4FD-DB62ACBC2D1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8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49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4904-94B7-46FB-A0BE-4E524F280D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B86A-D3AA-4053-A3EF-442FAA5CBA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A4C-E358-4479-B83B-522D9EC6371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ariables acumulativa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cuenta =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0.0,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primer da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(n != 0.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uenta++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lculamos el promedi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promedio = (promedio * (cuenta - 1) + n) / cuent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uenta = “ + cuenta + “, Promedio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siguientes da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8FA-8470-4502-BCF2-F85CC0F7FD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ariables acumulativa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cuenta =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0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datos y verificar si no es el fin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== 0.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uenta++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lculamos el promedi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promedio = (promedio * (cuenta – 1) + n) / cuent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uenta = “ + cuenta + “, Promedio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A04-A5E7-49BE-A88E-118625AA30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amos el número de n!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e el valor a calcular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La base es 1, por lo tanto el total es 1 hasta ahor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factorial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or (int i=2; i&lt;=n; i++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cumulativamente vamos multiplicando por cada i entre 2 y 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actorial = factorial * i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“ + n + “! = “ + factorial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FC1-79C1-45E9-B7AF-A6DBEA62677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actorial como una f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factorial 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factorial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or (int i=2; i&lt;=n; i++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actorial = factorial * i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factoria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 (String args[]) throws 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e el valor a calcular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“ + n + “! = “ + factorial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1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¿Existirá otra forma más “eficiente” para realizarlo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8B6-A60B-43D9-80EE-42763B8CDB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ursivida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goritmo que se especifica a través de su propia defin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basa en el concepto matemático de la Inducción (caso base, hipótesis/caso genéric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se encuentra en el caso base, se retorna el valor correspondiente a ese caso y termina el algorit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no se encuentra en el caso base, se evalúa un valor dependiente de casos anteriores del algorit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¡¡ Es una definición RECURSIVA !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78C-C2CF-43E1-AB40-FC77F12453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ursividad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&lt;tipo&gt; &lt;nombre&gt; (&lt;parametros&gt;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caso bas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caso general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aso base&gt;: Salida no recursiva del méto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aso general&gt;: Llamada a si mismo con variación de parámetros que converjan hacia el caso base (utilizando pasos anteriores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mo se puede ver, no es fácil entender la sintaxis de un método recursivo, es por eso que importa más verlo con ejempl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F91-940E-44A6-A013-09E8B66BEF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8T13:44:37Z</dcterms:modified>
  <cp:revision>78</cp:revision>
  <dc:subject/>
  <dc:title>CC1001 – Computación I Clase 0</dc:title>
</cp:coreProperties>
</file>