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dt" idx="3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ftr" idx="3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 type="sldNum" idx="3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9D658-1EBC-42FA-98F2-01931A0431AF}" type="slidenum">
              <a:rPr b="0" lang="es-C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99F3B-BE6D-41FE-A59D-92EC9DB005F4}" type="slidenum">
              <a:rPr b="0" lang="es-C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2D70-FC92-4B67-9972-ACDD7A676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CF2E-A404-4933-BFF8-C934BFBE4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8302D8-B92A-436E-AE4D-3CF6876A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C62BED-9D2C-4BA4-A964-4F6F140C9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1CE645-DD42-4749-8C58-01AF8373B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266E17-D046-490A-8249-4A08169A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F73AAB-E54F-400B-B566-4F82E15C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1F4AAF-97B9-49DB-900E-1C654EF5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2B0AEE-5A8F-4596-959E-A1AB0EB04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285553-022F-4968-8A30-9749B606B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A201BA-A7EA-45E8-A5EA-85B22684A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40EED1-E617-4FD4-9155-C361AF293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5EA4-BEE9-4955-A4FF-419554127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F07B60-0C70-43FC-8AD2-475B96267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D3B81E-5678-42F2-AB67-5E9834CA5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989E70-9093-4A6D-AF03-B6E7FF8C6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6C4AA8-BD1D-4671-AC65-9DAB3156C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BE4B5D-7157-4E46-B76E-7009BE0D8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243039-01D0-4E26-AF62-E431AEA6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4EC7AF-E2E3-4608-8D19-9ABD5FC8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055DB9-934E-4C2E-85DF-42555232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6082F1-1C85-4091-AE23-05261157F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1B0E8B-6C43-439D-86FE-1F0A07392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D3EA-2852-4C7D-B228-639C18E8E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020666-0CB5-402F-8AF7-4F1E5A2AE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75DBC4-ACE3-48D2-94B3-E3D32AD0B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1DC3DA-9FBF-48B7-93C6-E115176A9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A0643E-DF8C-4C96-8AE2-C4CAD41BB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2497B9-6A0C-47C9-89F9-863409DF6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428ADB-5FD0-4402-B01F-6327172EE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92752C-BEF9-413F-8BB2-F43F30A1D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0D7CBC-2615-4B49-BB41-7164BE0D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699B0F-ED49-4A48-B618-8C1A462E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9893CF-799F-4A50-9393-EC33FE6B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32882-A02F-40CD-A7DD-811EFAB54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06F558-E597-4374-A4E2-528FD2ACA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6B3D58-1A9C-4D8D-89CF-663C53FCC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499866-06FB-429F-8463-1EFA0D4CB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BD50A8-675D-4DB5-944F-0968D3F62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4475DD-91FB-46C7-B574-3E1CB31B7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78AD1F-2A9E-4D12-BB02-C459252C4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31DB67-EA01-44CD-8DDF-0919A9519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552152-C87C-4D2C-BAA9-C8EB25D71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9926F6-C6EB-4C42-A5C3-B9070ACC6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226275-BB9A-490A-AA49-FA20B8AF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FAA52-0F35-4773-804F-69E38D865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47298B-06AA-430A-8B4A-04BA0D70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4362A5-48E0-4FBB-98D0-345B9A9C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276A39-EFB0-4D84-BB77-5F13D4071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0CFA6B-F631-46A4-9766-70902C629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9205C8-8404-46F6-9D33-00D805F24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703F0-2333-48AC-886C-19877C54F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6099C-F197-47E7-A5FF-C1F81EA63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CF03F-FD1D-49E9-A57C-62170367F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4AC11-9B40-493E-A96F-0B82563C6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3328A-1C31-4678-B56D-F106F5DF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C807-322B-45AA-A160-46B95717E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FCCD6-B2CF-4F7B-8547-9D07CF57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6A8BD-6EC6-48AF-97EA-F1F5F2FE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67851-5872-4FFB-B43F-1BDF9D4E3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02ECA-A80C-4507-943F-EB1FE2788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6F444-D26C-4C62-B886-39BAD4476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CB94E-8687-4406-B44B-3D118A716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89F80-ACDB-4094-B9A0-1EA36DF74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154F1-11B1-4C82-A488-765201267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C0672-1E52-41A6-BCD8-46E08EDC3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BB23A-E6B3-4495-A196-C0E4B77C2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4331-5C67-40DC-8E02-710B957F3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A3953-74DE-44E3-AF7F-2CB760654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F3568-DE53-405F-943E-572E5186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4FDD3-D9D7-4801-9554-98A33E73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C13CD-8229-45B6-B4B8-D3BDE860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A63BB-ABB1-4BD9-98B9-10EEF3B4E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96628-23CB-4C34-A4C0-E6736C15B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A74D7-98AD-4C10-9B91-9A76F0F68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61BBE-73B7-4490-BDF0-2211DAF93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082BD-CFBE-4BC1-BADB-62F738589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83AE4-B337-431F-A9D0-216513905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8F6F-724D-4D66-B229-FB5806B58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8125B-E021-4B33-AD00-EA4E7D1B7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C0A10-99FF-4830-9EC8-454BBEA24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17C38-BFDE-40AF-B3FF-0B385255F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27D02-5584-4C33-939B-1465B75B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7ADA9-C2DF-4891-8057-48070676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80664-E757-492B-9199-377C5F35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E4962-9792-436D-914E-D545BAD45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4471E-618D-4566-B648-64CEF91B3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89E99-BC28-4CC4-9A4A-819207E48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66FC8-9CC5-4DF2-B5B2-DF4BF6415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AD35-1461-494B-B589-162CBD27F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02DF3-B273-4122-99A3-C48C43020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0B890-4A7C-4397-A41A-5428F7D33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5CCA6-632D-4A7C-81F0-FBB89A363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A8B5C-0A15-447B-879D-6D10B1A9E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DF73F-B305-4FD6-ACDE-9347E68BE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44BE4-87B9-4029-9CD0-1CC4527F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438BE-8C92-4660-A7F5-AE225E42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4A497-2918-4DDA-832C-A6294FBE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9BAE2-6DD9-498A-81C0-9B7E4BC32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CE4FF-6FF1-49F1-AC74-6B23A1EBE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1955-D446-4314-BC95-2740BED88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1BAB7-031E-4828-A582-3B2A198B3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FFD50-BD5F-47A7-8C4B-B722C31C9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57FA00-C913-4666-8E84-0E4A34DA4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776F2F-C264-4845-AC34-1244C3824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6A3DCD-A35C-4338-B525-72720A3C0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58D6E-9BDE-42E9-9095-2C8AB88E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3BCC27-9BD8-4A35-ABAC-61D77B9F8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4730AC-2A32-4ABD-B922-14E6BDBE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69BE7-0B8F-41AF-AD65-C7C4DC5C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954E45-C7AD-4D50-B061-0296F1A2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0D81-59A7-46BB-84D3-C717487A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4EE4F-B39A-4653-8FDB-A849FC51C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F5854-168D-4019-A589-0D1FAA52A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F87ED-7A08-49FE-937C-72093D4D4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19C84A-6E7F-4EC0-8CF6-FD9C955FA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BC1F3-B208-43BC-9941-24BFF0C26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DDF0C-8F35-4493-80E1-896DCD1A0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4B0E87-5713-4872-A2BC-C9705C89E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7A898-C3D2-4436-A8EE-F9FBD6634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D6399-0CDD-48BE-BC2C-9FF347FBD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43042-5200-478C-8A00-777E92EA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A34A-8FDB-4654-AD0D-AB6D6A03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1A72F-AD9F-489F-B40D-1DB406AC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DFE2A-A498-4437-93BB-A32F7DD0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C0EE66-9CD1-4C44-B16E-8861A1E1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1D8B8-5F73-4E80-A43A-5ACDB0B94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6D3EC-01A4-46E7-A8C3-1F81B6A66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FD7BA1-5688-41EE-89AE-B4BD98476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CE652D-302B-47BC-88C3-005920A25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A0D814-3A5D-4837-B7DD-A3C415DFE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9EC143-243B-4AE7-9136-5CCB65963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206AD5-ACF0-4BC5-928A-937DF5057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2E64-5639-4EE0-A7AB-9E415F79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7357D1-2A19-4D8B-B974-11613059A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2777E1-F780-4D52-9E48-B0AFAF0C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0354B8-6ED5-4123-83B1-FC4B4A69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54347A-CFE7-4852-AAB4-665726ED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CFC967-ADFE-44BA-AE32-6E9341AC6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BB46DA-F3CE-4A10-A80B-7C4B5024E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24486-E30A-41D8-8DD5-C6AF32465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DD083B-B374-42F5-BB27-049308671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CC5957-1576-4E3C-820F-268CB91A5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CEE169-8ACD-4C5A-9E29-BB3F13DE5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D008F-C0C5-4D8C-8640-D31C3306C915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1F006-D96B-4A10-A2D8-A009C26C4D7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417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172CA-C5E8-4ECB-9E4B-1846E8EE654E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178AE-DAF8-4FB4-BBCE-6B71A3193C4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65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2E352-039E-4B30-8992-B72378F22A9C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55037-0E58-4E3A-9E81-ED5D59912F6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09230-0BE0-45EB-9EC4-153ECD915409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A47F7-CA97-4BBA-805B-9FB9FEDA7CA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C1234-58A1-4C6B-AF92-CABA7C2F916B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6580F-7B6E-4EDE-865A-9D1B78B5EB5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7273B-56C8-4A5A-9CE9-E250339C6451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AC929-4D42-4A5A-991C-14A00F0B620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51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6C25F-1107-4688-AF6B-1EE6ED332B7C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01548-C1A6-457A-8D19-BB1FA0CF17D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98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6601B-F6B6-4995-904B-9B31BC7F4E2C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D2B9F-3921-49E0-AF17-30DBE780328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53B23-9560-4BCF-847F-E9D4A9D4EAFD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5F03-6EAD-458A-AB29-2F2C1968BC6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87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C43C6-7ABE-494E-8A22-998BD160CA47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286DA-5F6D-4B57-A381-5DF7B081A1C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1F23F-9A8B-4241-AEE2-583F21EB1E53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F7669-63F7-4377-ACD2-23D680AEC77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98036-EB73-4997-9D9B-9724964C97B5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14907-370E-47F8-BD21-7944565A60F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428840" y="242892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C1001 – Computación I</a:t>
            </a:r>
            <a:br>
              <a:rPr sz="4300"/>
            </a:b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lase 6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1428840" y="5000400"/>
            <a:ext cx="7407360" cy="15793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Fecha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28 de Marzo de 2007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Sección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05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Profesor:  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Andrés Muñoz Ordenes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E-Mail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andmunoz@dcc.uchile.cl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Página Web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http://ucursos.ing.uchile.cl 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7" name="3 Imagen" descr="logo_dcc.jpg"/>
          <p:cNvPicPr/>
          <p:nvPr/>
        </p:nvPicPr>
        <p:blipFill>
          <a:blip r:embed="rId1"/>
          <a:stretch/>
        </p:blipFill>
        <p:spPr>
          <a:xfrm>
            <a:off x="5643720" y="285840"/>
            <a:ext cx="3111480" cy="1452600"/>
          </a:xfrm>
          <a:prstGeom prst="rect">
            <a:avLst/>
          </a:prstGeom>
          <a:ln w="0">
            <a:noFill/>
          </a:ln>
        </p:spPr>
      </p:pic>
      <p:sp>
        <p:nvSpPr>
          <p:cNvPr id="568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6F2C2-97E2-4DA5-9DC7-72B83769225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olución recursiva del factorial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Descompongamos el factorial matemáticamente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2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n! = n * (n-1) * (n-2) * … * 3 * 2 * 1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Si  además pensamos en el factorial de n-1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(n-1)! = (n-1) * (n-2) * … * 3 * 2 * 1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Por lo tanto, podemos decir que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n! = n * (n-1)!</a:t>
            </a: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// CASO GENERA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Además, podemos decir que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2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1! = 1</a:t>
            </a: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      // CASO BAS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5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50C20-46C4-4924-915A-6C351EA5DF9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olución recursiva del factorial (cont)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3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static public int factorial (int n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Caso Bas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f (n == 1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return 1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Caso General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return n * factorial(n-1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9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8EA9C-19E1-48FC-9089-F1D029961E8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Traza de la solució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Por ejemplo, n=5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3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factorial(5) = 5 * factorial(4)</a:t>
            </a: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// Caso Genera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factorial(4) = 4 * factorial(3) </a:t>
            </a: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// Caso Genera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factorial(3) = 3 * factorial(2) </a:t>
            </a: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// Caso Genera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factorial(2) = 2 * factorial(1) </a:t>
            </a: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// Caso Genera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factorial(1) = 1</a:t>
            </a: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// Caso Base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2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Luego: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factorial(5) = 5 * (4 * (3 * (2 * (1) ) ) ) = 120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3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D8611-60B6-47D0-B207-ED4BF507B52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6 Cerrar llave"/>
          <p:cNvSpPr/>
          <p:nvPr/>
        </p:nvSpPr>
        <p:spPr>
          <a:xfrm rot="5400000">
            <a:off x="5643360" y="4929120"/>
            <a:ext cx="142920" cy="285840"/>
          </a:xfrm>
          <a:custGeom>
            <a:avLst/>
            <a:gdLst>
              <a:gd name="textAreaLeft" fmla="*/ 0 w 142920"/>
              <a:gd name="textAreaRight" fmla="*/ 51480 w 142920"/>
              <a:gd name="textAreaTop" fmla="*/ 3600 h 285840"/>
              <a:gd name="textAreaBottom" fmla="*/ 28224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50"/>
                  <a:pt x="10800" y="900"/>
                </a:cubicBezTo>
                <a:lnTo>
                  <a:pt x="10800" y="9900"/>
                </a:lnTo>
                <a:cubicBezTo>
                  <a:pt x="10800" y="10350"/>
                  <a:pt x="16200" y="10800"/>
                  <a:pt x="21600" y="10800"/>
                </a:cubicBezTo>
                <a:cubicBezTo>
                  <a:pt x="16200" y="10800"/>
                  <a:pt x="10800" y="11250"/>
                  <a:pt x="10800" y="11700"/>
                </a:cubicBezTo>
                <a:lnTo>
                  <a:pt x="10800" y="20700"/>
                </a:lnTo>
                <a:cubicBezTo>
                  <a:pt x="10800" y="2115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7 Cerrar llave"/>
          <p:cNvSpPr/>
          <p:nvPr/>
        </p:nvSpPr>
        <p:spPr>
          <a:xfrm rot="5400000">
            <a:off x="5464800" y="4964760"/>
            <a:ext cx="142920" cy="928800"/>
          </a:xfrm>
          <a:custGeom>
            <a:avLst/>
            <a:gdLst>
              <a:gd name="textAreaLeft" fmla="*/ 0 w 142920"/>
              <a:gd name="textAreaRight" fmla="*/ 51480 w 142920"/>
              <a:gd name="textAreaTop" fmla="*/ 3600 h 928800"/>
              <a:gd name="textAreaBottom" fmla="*/ 92520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9"/>
                  <a:pt x="10800" y="277"/>
                </a:cubicBezTo>
                <a:lnTo>
                  <a:pt x="10800" y="10523"/>
                </a:lnTo>
                <a:cubicBezTo>
                  <a:pt x="10800" y="10662"/>
                  <a:pt x="16200" y="10800"/>
                  <a:pt x="21600" y="10800"/>
                </a:cubicBezTo>
                <a:cubicBezTo>
                  <a:pt x="16200" y="10800"/>
                  <a:pt x="10800" y="10939"/>
                  <a:pt x="10800" y="11077"/>
                </a:cubicBezTo>
                <a:lnTo>
                  <a:pt x="10800" y="21323"/>
                </a:lnTo>
                <a:cubicBezTo>
                  <a:pt x="10800" y="2146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8 Cerrar llave"/>
          <p:cNvSpPr/>
          <p:nvPr/>
        </p:nvSpPr>
        <p:spPr>
          <a:xfrm rot="5400000">
            <a:off x="5321880" y="5107320"/>
            <a:ext cx="142920" cy="1500480"/>
          </a:xfrm>
          <a:custGeom>
            <a:avLst/>
            <a:gdLst>
              <a:gd name="textAreaLeft" fmla="*/ 0 w 142920"/>
              <a:gd name="textAreaRight" fmla="*/ 51480 w 142920"/>
              <a:gd name="textAreaTop" fmla="*/ 3600 h 1500480"/>
              <a:gd name="textAreaBottom" fmla="*/ 1496880 h 1500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6"/>
                  <a:pt x="10800" y="171"/>
                </a:cubicBezTo>
                <a:lnTo>
                  <a:pt x="10800" y="10629"/>
                </a:lnTo>
                <a:cubicBezTo>
                  <a:pt x="10800" y="10715"/>
                  <a:pt x="16200" y="10800"/>
                  <a:pt x="21600" y="10800"/>
                </a:cubicBezTo>
                <a:cubicBezTo>
                  <a:pt x="16200" y="10800"/>
                  <a:pt x="10800" y="10886"/>
                  <a:pt x="10800" y="10971"/>
                </a:cubicBezTo>
                <a:lnTo>
                  <a:pt x="10800" y="21429"/>
                </a:lnTo>
                <a:cubicBezTo>
                  <a:pt x="10800" y="2151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9 Cerrar llave"/>
          <p:cNvSpPr/>
          <p:nvPr/>
        </p:nvSpPr>
        <p:spPr>
          <a:xfrm rot="5400000">
            <a:off x="5178960" y="5250600"/>
            <a:ext cx="142920" cy="2071800"/>
          </a:xfrm>
          <a:custGeom>
            <a:avLst/>
            <a:gdLst>
              <a:gd name="textAreaLeft" fmla="*/ 0 w 142920"/>
              <a:gd name="textAreaRight" fmla="*/ 51480 w 142920"/>
              <a:gd name="textAreaTop" fmla="*/ 3600 h 2071800"/>
              <a:gd name="textAreaBottom" fmla="*/ 2068200 h 20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2"/>
                  <a:pt x="10800" y="124"/>
                </a:cubicBezTo>
                <a:lnTo>
                  <a:pt x="10800" y="10676"/>
                </a:lnTo>
                <a:cubicBezTo>
                  <a:pt x="10800" y="10738"/>
                  <a:pt x="16200" y="10800"/>
                  <a:pt x="21600" y="10800"/>
                </a:cubicBezTo>
                <a:cubicBezTo>
                  <a:pt x="16200" y="10800"/>
                  <a:pt x="10800" y="10862"/>
                  <a:pt x="10800" y="10924"/>
                </a:cubicBezTo>
                <a:lnTo>
                  <a:pt x="10800" y="21476"/>
                </a:lnTo>
                <a:cubicBezTo>
                  <a:pt x="10800" y="2153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10 CuadroTexto"/>
          <p:cNvSpPr/>
          <p:nvPr/>
        </p:nvSpPr>
        <p:spPr>
          <a:xfrm>
            <a:off x="5429160" y="5072040"/>
            <a:ext cx="57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11 CuadroTexto"/>
          <p:cNvSpPr/>
          <p:nvPr/>
        </p:nvSpPr>
        <p:spPr>
          <a:xfrm>
            <a:off x="5214960" y="5500800"/>
            <a:ext cx="57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(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12 CuadroTexto"/>
          <p:cNvSpPr/>
          <p:nvPr/>
        </p:nvSpPr>
        <p:spPr>
          <a:xfrm>
            <a:off x="5072040" y="5929200"/>
            <a:ext cx="57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(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13 CuadroTexto"/>
          <p:cNvSpPr/>
          <p:nvPr/>
        </p:nvSpPr>
        <p:spPr>
          <a:xfrm>
            <a:off x="4929120" y="6357960"/>
            <a:ext cx="57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(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Ejemplo: Escriba una función que cuente la cantidad de dígitos de un número entero. Ej: digitos(345) = 3, digitos(6) = 1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3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olución Iterativa (no recursiva)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3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static public int digitos (int x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nt n = 1;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El número tiene al menos 1 dígito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while (x &gt;= 10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n = n + 1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x = x / 10;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Se elimina el último dígito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return n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5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80A3F-22A7-4D92-B19F-08280AC5FB1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olución Recursiva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i x &lt; 10 entonces el número tiene 1 dígito (caso base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i x &gt;= 10 entonces el número tiene 1 dígito + los dígitos que tiene el mismo número sin el último dígito (caso general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3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static public int digitos (int x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f (x &lt; 10) {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Caso Bas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return 1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return 1 + digitos(x/10);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Caso General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9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3A821-D26D-498A-AC20-58E5D99C201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jercici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Problema: Escribir el método invertir(n) que permite invertir los dígitos de un número entero positivo. Hágalo primero en su forma iterativa y luego en su forma recursiv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jemplo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invertir(345) = 543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invertir(16) = 61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invertir(100) = 1</a:t>
            </a: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// viene de 001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3" name="6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88C01-2047-4DA6-9752-25543C29D0E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jercici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olución Iterativa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2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static public int invertir(int x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nt y = 0; 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Número invertido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while (x &gt; 0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y = (y * 10) + (x % 10);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Tomamos últimos dígitos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x = x / 10;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Sacamos el resto de los números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return y;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Retornamos el invertido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El método va achicando el número desde su último dígito y lo vamos poniendo al principio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7" name="6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6FB25-7078-4626-86C6-2371337AD82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jercici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olución Recursiva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2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static public int invertir(int x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Caso Bas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f (x &lt; 10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return x;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El número de un dígito YA está invertido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Caso General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return (x % 10) * Math.pow(10, digitos(x) - 1) + invertir(x / 10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La traza es similar a la versión iterativa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En este caso, el caso general es un poco más complejo, por la matemática que hay detrás era más compleja, por eso la concatenación de Strings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1" name="6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CC698-F3A7-4A98-BCAF-98EEA4F97F8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rabajo Práctic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Problema 1: Escriba una función (método) recursiva que permita calcular la sumatoria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∑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es-ES" sz="2400" spc="-1" strike="noStrike" baseline="30000">
                <a:solidFill>
                  <a:srgbClr val="000000"/>
                </a:solidFill>
                <a:latin typeface="Gill Sans MT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06000" indent="-16956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Problema 2: Los números de Fibonacci son una sucesión de números que se calculan en forma recursiva. Escriba el método fibonacci(n) que calcule el valor de la sucesión en n con la fórmula general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F(n) = F(n-1) + F(n-2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Además, considere qu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F(0) = F(1) = 1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(Mayor información en http://es.wikipedia.org/wiki/Sucesi%C3%B3n_de_Fibonacci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5" name="6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1AC5E-8927-4DEF-9E40-8FC5DED02C1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428840" y="242892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C1001 – Computación I</a:t>
            </a:r>
            <a:br>
              <a:rPr sz="4300"/>
            </a:b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Fin de la Clas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1428840" y="6215040"/>
            <a:ext cx="7407360" cy="3650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320e04"/>
                </a:solidFill>
                <a:latin typeface="Gill Sans MT"/>
              </a:rPr>
              <a:t>El Presente es la única salida del Pasado y la única entrada al Futur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48" name="3 Imagen" descr="logo_dcc.jpg"/>
          <p:cNvPicPr/>
          <p:nvPr/>
        </p:nvPicPr>
        <p:blipFill>
          <a:blip r:embed="rId1"/>
          <a:stretch/>
        </p:blipFill>
        <p:spPr>
          <a:xfrm>
            <a:off x="5643720" y="285840"/>
            <a:ext cx="3111480" cy="1452600"/>
          </a:xfrm>
          <a:prstGeom prst="rect">
            <a:avLst/>
          </a:prstGeom>
          <a:ln w="0">
            <a:noFill/>
          </a:ln>
        </p:spPr>
      </p:pic>
      <p:sp>
        <p:nvSpPr>
          <p:cNvPr id="649" name="5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DEE26-79EF-4875-9E68-68517153FDC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n esta clase…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Solución Trabajo Anterio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Motivació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Ejercicio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Trabajo Práctic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05CCC-513B-4A3D-9BBB-545667A798C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Solución Trabajo Anterio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Problema 1: Escribir un programa que calcule el promedio de una cantidad indeterminada de números reales utilizando el siguiente diálog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Nota: El 0 indica que la entrada de datos terminó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6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FC3B4-FBC5-48E0-A73A-F4F73218908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5 Rectángulo redondeado"/>
          <p:cNvSpPr/>
          <p:nvPr/>
        </p:nvSpPr>
        <p:spPr>
          <a:xfrm>
            <a:off x="1928880" y="2714760"/>
            <a:ext cx="6715080" cy="2786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26697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Número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4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Cuenta = 1, Promedio = 4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Número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5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Cuenta = 2, Promedio = 5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Número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Solución Trabajo Anterio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olución 1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3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Variables acumulativas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nt cuenta = 0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double promedio = 0.0, n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Solicitud de primer dato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n = U.readDouble(“Número: “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while(n != 0.0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cuenta++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Calculamos el promedio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promedio = (promedio * (cuenta - 1) + n) / cuenta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Cuenta = “ + cuenta + “, Promedio = “ + promedio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Solicitud de siguientes datos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n = U.readDouble(“Número: “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1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D2312-2F6A-4875-B3DC-3EB0322244E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Solución Trabajo Anterio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olución 2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3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Variables acumulativas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nt cuenta = 0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double promedio = 0.0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while(true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Solicitud de datos y verificar si no es el final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double n = U.readDouble(“Número: “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f (n == 0.0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cuenta++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Calculamos el promedio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promedio = (promedio * (cuenta – 1) + n) / cuenta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Cuenta = “ + cuenta + “, Promedio = “ + promedio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5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989CF-322A-41C9-A073-7C93AB231468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Solución Trabajo Anterio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Problema 2: Escribir un programa que solicite un número entero y que luego le calcule el factorial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70800" indent="-178560">
              <a:spcBef>
                <a:spcPts val="3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olució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70800" indent="-178560">
              <a:spcBef>
                <a:spcPts val="3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Solicitamos el número de n!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nt n = U.readInt(“Ingrese el valor a calcular: “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La base es 1, por lo tanto el total es 1 hasta ahora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nt factorial = 1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for (int i=2; i&lt;=n; i++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Acumulativamente vamos multiplicando por cada i entre 2 y n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factorial = factorial * i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Mostramos el resultado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El “ + n + “! = “ + factorial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9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1F226-812D-4777-8C47-8B5624400DA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Motivació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Factorial como una funció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3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static public int factorial (int n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nt factorial = 1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for (int i=2; i&lt;=n; i++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factorial = factorial * i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return factorial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static public void main (String args[]) throws Exception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nt n = U.readInt(“Ingrese el valor a calcular: “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El “ + n + “! = “ + factorial(n)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15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¿Existirá otra forma más “eficiente” para realizarlo?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3" name="9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23215-81CC-40B0-9A4E-CE44DC4D9DF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Recursividad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Definició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Algoritmo que se especifica a través de su propia definición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Se basa en el concepto matemático de la Inducción (caso base, hipótesis/caso genérico)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emántic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Si se encuentra en el caso base, se retorna el valor correspondiente a ese caso y termina el algoritmo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Si no se encuentra en el caso base, se evalúa un valor dependiente de casos anteriores del algoritmo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¡¡ Es una definición RECURSIVA !!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7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8D2F7-D325-4055-810C-9D11B3FB4E2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Recursividad (cont)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intaxi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3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static public &lt;tipo&gt; &lt;nombre&gt; (&lt;parametros&gt;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&lt;caso base&gt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&lt;caso general&gt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&lt;caso base&gt;: Salida no recursiva del método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&lt;caso general&gt;: Llamada a si mismo con variación de parámetros que converjan hacia el caso base (utilizando pasos anteriores)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Como se puede ver, no es fácil entender la sintaxis de un método recursivo, es por eso que importa más verlo con ejemplos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1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E57AA-E169-4835-BAE9-2126B9F7C2A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13:18:40Z</dcterms:created>
  <dc:creator>Andrés Muñoz Ordenes</dc:creator>
  <dc:description/>
  <dc:language>en-US</dc:language>
  <cp:lastModifiedBy>Andrés Muñoz Ordenes</cp:lastModifiedBy>
  <dcterms:modified xsi:type="dcterms:W3CDTF">2007-03-28T13:44:37Z</dcterms:modified>
  <cp:revision>78</cp:revision>
  <dc:subject/>
  <dc:title>CC1001 – Computación I Clase 0</dc:title>
</cp:coreProperties>
</file>