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AEB-D266-47F7-B674-816412D7F2FE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86CD-B522-4410-95D2-B47641725054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119-1F36-474A-8285-AAAF0216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A32-D684-4B9C-BB96-702A48F9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0AA78-4399-46F5-989B-FC0087E0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0D263-EFEC-4709-886A-7D156897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36874-A21D-4524-B053-44837CA3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58D76-6E62-4D14-AB12-560F7FB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0D6B5-7076-41A0-B6AF-F4AD9E7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80017-1E46-4148-8A61-5BEC3B12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C10B2-9F46-40C4-9B02-2B397E05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C2D47-C089-4271-808E-1EA5CA43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B5FC3-D96B-4408-B45E-EDFD6CAB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B540B-2CA9-4BCB-92B9-B62AF714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2DB-CAC1-4FB2-AC6A-DDE4862B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EE8C6-B2D4-4DFC-B20C-3E8EEB74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B1351-290A-4D84-AA55-56FDF23F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FF3D5-D7F7-4B5E-9498-F7CF28C1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10073-7473-4031-939D-9F82B74A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9B944-713B-4851-90DC-B26F45A6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7EDBA-A1EF-444D-860D-5F24A7C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1E086-22F1-49BF-BC41-2309CD88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B6E04-6731-44AD-8B85-F0509F89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8D400-B336-41BF-ACC5-AD8454B4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40732-B450-4563-AB4B-AFEF8EF3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258-6D8D-46F2-B364-07055A47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13E2A-D8E6-4915-B0C6-555F999B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5E4D1-C75F-422A-8442-D7C0492D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10875-93C8-4415-9B1F-471BFFE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8A8ED-0C87-4464-81ED-78E94657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53E44-FFB8-4B45-BD88-A65A8230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311CE-524A-4E25-BBFB-37D05C2F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1BE34-DF58-465C-A2E1-AC820FCF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DE174-EBE3-4D28-897F-5538A69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AE274-7E31-4698-AA86-E0B31F9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F28F4-4897-4F31-BF7F-EAED663B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4595-55F5-4E79-BF6D-75B63653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0D967-7C58-4FA8-AB47-3A4CB258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406FC-10CA-451D-AAEC-0F99CF7F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191A6-0F93-4765-B038-EC9459C1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53C72-732E-4B87-BBAA-17405CCB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39DE1-E011-42B7-A1A1-0E56A4D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DF27F-8433-4B48-93F1-C88AE0A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07610-E6C3-4BF6-AB34-0D29BE4E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2BAA6-5232-4FDE-965D-399E6286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32BE7-8526-4FC9-855E-C24CA2BF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2B752-B829-4042-83A5-9C11736D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6C4C-6AE6-472E-8BD8-E971890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E8238-4AD0-44F7-A98D-A20FAB3B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F24A9-A919-41DF-A920-797D55A2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C41E7-E8F6-4CF2-9900-4B4901E2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67683-DE6C-43AD-BE76-FB9EB623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7C992-2EBC-4BD9-A9D3-5FD1A19C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22F1-A3A9-41B8-9B94-A1C17ACF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F4D4-83A6-4DD5-A7DD-08B4A403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576B-CC8C-427D-84E1-0FDCCB9A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9A3D-591C-455A-8B49-90A5FB33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E16E-2315-4C8C-AFED-58C5243C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58E-9AFF-4199-AD53-F1F4E54F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2282-372C-4066-9FD0-0AB69C9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9B37-655E-4113-B015-8B4CFE1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F5E0-67C4-431F-8953-C42D627A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A146-D81B-41D4-9FCB-0000D169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7025-9D66-4748-8BCD-33B1D992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F816-AAB8-4D7B-8CA2-87BA6BEF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DEC8-306D-4DD2-A242-52D27395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5231-6C83-412C-8E46-198E8020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1047-9EF3-475E-B167-56212173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BB29-D380-49D3-9351-70FB5215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377-918B-4601-BCE3-E856BB4D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3C45-707D-48B8-98C3-66F9B9C1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A61C-D6BE-4AC6-AA78-84099A2A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491B-3A6E-4D55-B1D4-3870C1A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B323-D290-43E2-987B-C1308865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276A-9561-4C21-BE1B-C1E83535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0FED-EC82-4A16-B3BB-D6F18EF2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A971-800D-4D82-8EB0-BC95A86D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3ACC0-79CD-4E7D-8762-569F973C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835B-0D3B-4890-B88F-173B53E0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18F8-9287-42D2-84F1-9E2A3B0E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8AD-503D-4C17-934B-93B232DC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1854-7E92-4432-87D9-F9CB1C39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F369-D1EF-4CEE-BA35-D8BE304F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AD65-4AFA-4E3A-9960-F4539648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7759-508D-4A33-BFCC-16347F9B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EF5C-0DED-46B8-AB1B-A699BF49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AD85-374E-4672-8FCC-F7F5BB34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6BF1-74D7-46FF-A3B8-A938CF0F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DF79-3C5E-4D66-81E3-8DBBD947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5492-C72F-499A-9BE1-FB9E2E64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D3CC-E3E1-4CE5-8391-78795CE0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8BC-9BFA-444E-A1D2-30156241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461B5-E71F-4779-816A-7D065968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52A4-6277-4470-A6ED-B3C99FD7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935D5-31E4-4C94-8DFD-0FB183C1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CDC7-8755-480F-A3A2-671C66F1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3A72C-E542-4A35-8699-0E75081E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D026C-C663-4F0D-B33F-B2B11563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A34A-7C72-40B3-AAD1-516B65F4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57DEA-D9C1-45F4-8F01-9B1C6B95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7E6FF-0307-4A81-95F8-8AF1E603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E288E-05B1-467E-B127-CA0D6BBA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1D7-DB32-4810-879C-E0EFF8BB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C0C8-01C2-4014-8B90-D527F890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553CB-C007-4EB4-BB06-DC54FB50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DB19-0F4B-4B84-9D80-3C55CA11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C91B-FCD1-48D9-BBF3-DA3199E6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409B-283A-46F4-9B00-B2F8BD30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63859-1F2A-4A89-8899-A89E4D19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DC24-F499-4A57-9393-FEDF1FD8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D1E75-AF25-4532-AC30-646B1C37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A535-DB67-403A-AD5E-ED94EE04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813B1-F8D7-4995-8012-30146FB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678-CA4A-4516-9766-5F83CD0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37DB9-BEAD-4E67-947D-F5782CD4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3EDF-B85F-4DA7-9134-BF249890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CEACF-45DC-45FF-8010-3FE9F152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6E012-9AD4-4A93-A75C-7490CB71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0D184-6230-4B7D-B51C-6AFCE445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ADC0-140B-454F-AD71-67F98B9A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7599B-AA1F-4EEF-8642-5CE92948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7424C-2B1A-44F5-9DB0-09F367F7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B2110-A1C2-4407-910C-65BB7958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8540C-1637-4F05-9D2A-C1ED8ED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986-57F1-4DDF-861D-5E2DCAA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1542F-FED3-4FEE-89C4-EA991E9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84C91-45B4-4A29-81D9-D2FB99E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BDB0B-015E-4273-9BD7-4C769B33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DDEA0-2405-459C-8C5C-F3071C20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EC662-C461-4211-A6AD-42EF71AF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3BF1F-C237-4170-9246-08284BC1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04C6E-0875-4724-BFB2-5D466507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8345F-1F1D-4958-94B4-6F9CA0A8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ABC22-E327-48C2-8576-73D8EAFE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A0E78-1862-445F-A027-92A50B02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176-C24A-4180-8133-A4437ED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FE28D-E86A-46D7-81B5-D10E8E8F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74423-0718-43DB-A9FA-398560C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BA40C-F53B-4E2D-B296-E41DAFAF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AB556-B823-45DA-940D-8626A6E1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77E27-CB06-40AE-971C-3B9D0FE1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82F29-FE27-499A-AB7F-C17A19B9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6DB1B-A24A-4DCD-98B2-DBFBA99C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33490-3534-4047-B6AB-4729E3AC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65618-B9AF-49B3-8AFF-B5A249C1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269F8-FCF2-423E-B664-7D3C33CF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B7C-2D6A-4FE8-BE09-B2FF582847E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B98D-1240-49AB-9384-1A2A5EDD91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46AB-AAD6-4497-98DB-6B86CA5B3C1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0993-54D3-41F2-A6EF-77897FC1B4B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7BB3-C0C8-4C77-B607-22EBA288291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1B09-68A5-400F-9995-82BA7E76FBE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55EF-6F6C-4F2B-8DA6-01F039C1FE1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4818-E03F-469D-B933-783CFBF50CC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98B9-AC8C-49B5-B174-80A144A563A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1789-51EA-466E-9E20-5305D083220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D4A5-F7FB-47E4-843B-7A99B5CE184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5FC1-887C-437F-9F61-DD4500C0C0B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480B-467E-4AC3-A741-DA7A371DA88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CECD-65CF-485F-97C2-912BC3004CF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0E41-6C52-4A51-9378-D6D1EA39899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71C-4877-4E34-A86B-B1BD4D2088C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7BAD-AD87-48A6-A231-5E3DE6ED3C3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64F0-256F-4D1B-B818-B8B3E41E67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71BA-125C-42F9-A344-6DC9999D009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F2D6-2DBC-4183-BCD3-171489FC857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989C-7C98-4A8A-B92E-222CE81EE14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658F-16D1-4673-916E-7B4ACC2472E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8D9C-D710-4DE3-95F5-3B1DF190D8E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DF5-4684-4672-9350-B39A75C9E7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21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139-C49F-44F2-84BD-62DCDF8B8B1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¿Qué pasa si la condición es VERDADERA siempr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el usuario ingresa un número menor a 100, nunca podrá acabar el ciclo, ya que no se modifica n para alcanzar el valor máximo del ciclo (hacer FALSA la condición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s importante que el programador ponga instrucciones que hagan que la condición sea FALSA para acabar 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58B1-30D8-4025-A39B-063B4C73939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iclo Infinito con un IF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true) {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Nunca es FALSA la condic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f (n &gt; 100) break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 el “break” se termina el ciclo abruptamente cuando se cumple la condición propuesta en el IF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6E24-7543-4216-9163-109B267EF2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on instrucciones que permiten repetir un trozo de código tantas veces como se indique en sus parámetro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inicializa un contador (primer parámetr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ientras la condición del ciclo (del segundo parámetro) sea VERDADERA, se ejecutan las instrucciones internas a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 lo contrario, continúa la ejecución de las instrucciones fuera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l final de cada iteración, se ejecuta el incremento (tercer parámetr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FDC1-E146-4F02-85B2-67B4C0E47DC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or (&lt;incializacion&gt;; &lt;condicion&gt;; &lt;incremento&gt;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icializacion&gt;: Es la instrucción que inicializa el contador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s la condición que debe ser VERDADERA para ejecutar las instrucciones dentro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cremento&gt;: Es la instrucción que debe ser ejecutada al final de cada iteración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strucciones&gt;: Bloque de comandos que se desea repet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9FF5-9149-4666-9973-EB439C4E79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or (int n = 1; n &lt;= 100; n = n + 1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pantalla se muestran los números del 1 al 100, uno por cada líne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6D51-2D24-4E4C-88C9-35864DBE24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Con WH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o el máximo a cont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Hasta qué número cuent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ximo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nicializo el contador para llegar a maxim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int n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Defino el cic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while (n &lt;= maximo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mprimo cada vez la raíz cuadrada del núme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QRT(“ + n + “) = “ + Math.sqrt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umentamos contador para pasar al siguient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25A0-D9CA-4232-AB33-686BDE7BB5A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Con F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o el máximo a cont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Hasta qué número cuent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ximo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Defino el ciclo con el contador y el incremento dent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for (int n = 1; n &lt;= maximo; n = n + 1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mprimo cada vez la raíz cuadrada del núme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QRT(“ + n + “) = “ + Math.sqrt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2539-481A-4A8A-A2C7-BFAC706211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xtienda el programa de adivinar un número para que lo haga en la cantidad de intentos que necesi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D01E-B080-4C82-B98B-6CB14F4DB3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5 Rectángulo redondeado"/>
          <p:cNvSpPr/>
          <p:nvPr/>
        </p:nvSpPr>
        <p:spPr>
          <a:xfrm>
            <a:off x="1928880" y="2714760"/>
            <a:ext cx="6715080" cy="35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He pensado un número entre 1 y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, no, no. Mi número es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, no, no. Mi número es me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Felicitaciones, has acertado en 15 int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egimos el número al a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He pensado un número entre 1 y 10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Pedimos el primer inten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i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resto de los intentos aquí adent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!=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n) U.println(“No, no, no, mi número es may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U.println(“No, no, no, mi número es men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 = i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Felicitaciones, has acertado en “ + i + “ intent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C1D5-AE4A-472F-BA02-9CA5712481D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egimos el número al a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He pensado un número entre 1 y 10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n este caso, el primer intento está dentro del cic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i = 0, 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true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 = i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== n) brea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x &lt; n) U.println(“No, no, no, mi número es may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U.println(“No, no, no, mi número es men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Felicitaciones, acertaste en “ + i + “ intent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56CB-CE30-4D95-BEF2-73307205CB5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E787-70F0-4751-B161-DEC7AEF6A50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ir un programa que calcule el promedio de una cantidad indeterminada de números reales utilizando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ota: El 0 indica que la entrada de datos terminó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0100-D134-4281-B2D7-4C25E62F09D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5 Rectángulo redondeado"/>
          <p:cNvSpPr/>
          <p:nvPr/>
        </p:nvSpPr>
        <p:spPr>
          <a:xfrm>
            <a:off x="1928880" y="2714760"/>
            <a:ext cx="6715080" cy="278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1, Promedio =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2, Promedio =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ir un programa que solicite un número entero y que luego le calcule el factorial. Recuerde que la fórmula del factorial 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! = 1 * 2 * 3 * 4 * . . . * (n-1) *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3057-A060-4892-903E-9B28FF7FF6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tación para incrementa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posible utilizar otra forma para incrementar o decrementar variabl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++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– 1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--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7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+= 7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- 3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-= 3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14CD-91CA-4FA4-8B4D-B0E673F58A6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5 Flecha derecha"/>
          <p:cNvSpPr/>
          <p:nvPr/>
        </p:nvSpPr>
        <p:spPr>
          <a:xfrm>
            <a:off x="3786120" y="3429000"/>
            <a:ext cx="121464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6 Flecha derecha"/>
          <p:cNvSpPr/>
          <p:nvPr/>
        </p:nvSpPr>
        <p:spPr>
          <a:xfrm>
            <a:off x="3786120" y="4357800"/>
            <a:ext cx="1214640" cy="2854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0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71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2749-F5FA-4DF9-85BB-F9DFE038691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que dado un número entero por parámetro ésta le indique con un VERDADERO si el número es par o FALSO si no lo 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La tradi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boolean esPar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% 2 == 0) return true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return false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La eleg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boolean esPar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n % 2 == 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E8A1-5B4E-47E0-8CFB-3DAD48AF8C8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blema 2: Escriba un programa que elija un número al azar entre 1 y 10 al azar y que le pida al usuario que lo adivine al primer intento. Si el número ingresado coincide, debe escribir: “ACERTASTE!”, si no, debe decir si el número elegido es “MAYOR” al del usuario o “MENOR” al del usuario.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Indicación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Puede usar la función U.azar(x, y) para obtener un número al azar entre x e 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cabo de pensar un número entre 1 y 1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x = U.readInt(“Adivina cua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== n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CERTASTE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x &gt; n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MIO ES MAYOR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MIO ES MENOR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1573-29AF-4189-BEE3-E46337DC56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Haga un programa que permita mostrar la raíz cuadrada de cada entero entre 1 y un número ingresado por el usuario. Use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 MT"/>
              </a:rPr>
              <a:t>No podemos hacerlo a la fuerz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4E02-361D-47D8-90B2-B24528C5BC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5 Rectángulo redondeado"/>
          <p:cNvSpPr/>
          <p:nvPr/>
        </p:nvSpPr>
        <p:spPr>
          <a:xfrm>
            <a:off x="1928880" y="2714760"/>
            <a:ext cx="6715080" cy="31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Hasta qué número cuent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1) =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2) = 1.41421356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3) = 1.73205080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4) =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16) =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on instrucciones que permiten repetir un trozo de código tantas veces como sea necesario mientras se cumple la condi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evalúa la condición que se encuentra como parámetr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ientras la condición del ciclo es VERDADERA, se ejecutan las instrucciones internas a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 lo contrario, continúa la ejecución de las instrucciones fuera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7A9F-E9DD-4010-BB1A-13C3F41C7BF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Decisión"/>
          <p:cNvSpPr/>
          <p:nvPr/>
        </p:nvSpPr>
        <p:spPr>
          <a:xfrm>
            <a:off x="4143240" y="4643280"/>
            <a:ext cx="1714680" cy="714600"/>
          </a:xfrm>
          <a:prstGeom prst="flowChartDecis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n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6 Rectángulo"/>
          <p:cNvSpPr/>
          <p:nvPr/>
        </p:nvSpPr>
        <p:spPr>
          <a:xfrm>
            <a:off x="4429080" y="5715000"/>
            <a:ext cx="114300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8 Conector angular"/>
          <p:cNvCxnSpPr>
            <a:endCxn id="590" idx="0"/>
          </p:cNvCxnSpPr>
          <p:nvPr/>
        </p:nvCxnSpPr>
        <p:spPr>
          <a:xfrm flipH="1" rot="16200000">
            <a:off x="4892760" y="4535640"/>
            <a:ext cx="21492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3" name="15 Conector angular"/>
          <p:cNvCxnSpPr>
            <a:stCxn id="590" idx="2"/>
            <a:endCxn id="591" idx="0"/>
          </p:cNvCxnSpPr>
          <p:nvPr/>
        </p:nvCxnSpPr>
        <p:spPr>
          <a:xfrm rot="5400000">
            <a:off x="4821480" y="5536080"/>
            <a:ext cx="357840" cy="1080"/>
          </a:xfrm>
          <a:prstGeom prst="bentConnector3">
            <a:avLst>
              <a:gd name="adj1" fmla="val 49949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4" name="18 Conector angular"/>
          <p:cNvCxnSpPr/>
          <p:nvPr/>
        </p:nvCxnSpPr>
        <p:spPr>
          <a:xfrm rot="5400000">
            <a:off x="4892760" y="6536520"/>
            <a:ext cx="21672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5" name="22 Forma"/>
          <p:cNvCxnSpPr>
            <a:stCxn id="590" idx="3"/>
          </p:cNvCxnSpPr>
          <p:nvPr/>
        </p:nvCxnSpPr>
        <p:spPr>
          <a:xfrm>
            <a:off x="5857560" y="5000760"/>
            <a:ext cx="572040" cy="14292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sp>
        <p:nvSpPr>
          <p:cNvPr id="596" name="25 Conector recto"/>
          <p:cNvSpPr/>
          <p:nvPr/>
        </p:nvSpPr>
        <p:spPr>
          <a:xfrm flipH="1" flipV="1">
            <a:off x="5000760" y="6428880"/>
            <a:ext cx="142848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26 Rectángulo"/>
          <p:cNvSpPr/>
          <p:nvPr/>
        </p:nvSpPr>
        <p:spPr>
          <a:xfrm>
            <a:off x="4843440" y="525924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Verdad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27 Rectángulo"/>
          <p:cNvSpPr/>
          <p:nvPr/>
        </p:nvSpPr>
        <p:spPr>
          <a:xfrm>
            <a:off x="5786280" y="457200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F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29 Conector angular"/>
          <p:cNvCxnSpPr>
            <a:stCxn id="591" idx="1"/>
            <a:endCxn id="590" idx="1"/>
          </p:cNvCxnSpPr>
          <p:nvPr/>
        </p:nvCxnSpPr>
        <p:spPr>
          <a:xfrm rot="10800000">
            <a:off x="4142520" y="5000040"/>
            <a:ext cx="286560" cy="1000800"/>
          </a:xfrm>
          <a:prstGeom prst="bentConnector3">
            <a:avLst>
              <a:gd name="adj1" fmla="val 304150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&lt;condicion&gt;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s la condición que debe ser VERDADERA para ejecutar las instrucciones dentro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strucciones&gt;: Bloque de comandos que se desea repet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7A58-DC27-4997-99A7-D4E369CCAA7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pantalla se muestran los números del 1 al 100, uno por cada líne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202F-A3A3-43FB-B876-D2FE133889E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¿Qué pasa si la condición es FALSA desde un principi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el usuario ingresa un número mayor a 100, es probable que no alcance a contar nada e imprimir “SALIII!!!” en pantalla inmediatament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ICLOS CONDICIONA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5C92-DB5B-4FDB-877A-FDA3910AFE0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21T02:47:40Z</dcterms:modified>
  <cp:revision>73</cp:revision>
  <dc:subject/>
  <dc:title>CC1001 – Computación I Clase 0</dc:title>
</cp:coreProperties>
</file>