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FBAF-678D-4AE0-9875-CBBF578CDD2B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8F28-0843-4130-9243-B58C160ABDA6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619-B4FC-48CD-8B16-DC7C342D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7255-D585-44F8-BC79-8D79DACA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03C11-8D99-4484-8429-6BDF8AB4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B7706-7B31-4D74-9885-DC1E695A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7A033-661D-4BFF-A4D2-4008D940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CE31C-7255-48A7-AFA1-FF36271F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9B1C9-0CF0-48B5-9C2A-F8E71654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76C37-0224-4B79-A80D-338E4B0E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E8F36-0D52-458C-9667-43CCC911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775CB-83F2-4950-A258-7C0C851E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FC30D-E6DA-4FA2-8356-1DD72B96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90694-A043-403F-A328-C2A0A5EA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2B3-8CE0-4F6C-BCBE-CF070B41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1B8DD-6BE6-4C0A-A314-9FE67519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C1E94-83E0-4EB1-965D-4E6ECBDA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70C1C-A7A2-4006-95D4-A8D30FF8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1C473-8586-4BF0-B553-08C2FF1B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AAB52-1BB6-40F6-BB19-D69302CF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6231E-0E89-4E5A-A2CF-DB7C8AFF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339C5-7C4D-4794-8201-529F0A3D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73333-751B-428D-ADA5-FE16B717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E6D0B-642C-4091-AE56-B6BDB6FD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5E366-54D6-4743-B42C-186BC677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7A3-1447-4F06-80A5-1AD25657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2DEC8-8D37-42DA-B82B-9616FD5C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B175D-10A9-4EB4-8852-2D45D3BF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38E06-636E-483E-9391-325A23DF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08A6F-71F4-4F42-A0C2-0C602C4D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747F4-C2B4-4923-AF43-9ABA9212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A7EC6-A99E-48B2-A9DE-33129B3D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B4C45-96E3-4B3E-A168-3187E5C2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B38D3-BCD5-4C34-B6F8-20CC2717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6D580-90A6-4B90-8CC6-ED1A6AE4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5AC25-F7F7-4C1F-B5AF-9494CD0A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8C95-BF1D-4112-94CE-7286C770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69E34-BDBE-41D1-B35F-1F43621A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8679E-D3A7-47E2-AF16-2DBD992F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87BC8-2897-4DA5-B614-515FEC4B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0D948-6824-489C-AFAA-81E1FEE9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ACC66-CFE5-48F4-9CBC-28579D42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0DFC4-F182-4446-B181-15B06530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F657D-E247-4582-8F2F-F3B54E3D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2E2B0-ED84-4840-BA72-F1B202F2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6224E-5831-4036-AFEC-43F0B8D2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76601-3D99-4241-A211-7FEA7898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2861-E33D-4220-80D1-802320D4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A524B-02B0-4F4F-8E7F-D5CC02A4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6EA72-5BE0-4997-BCA3-61DAE54E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511FC-07B4-4A84-B630-716559D6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629B2-1C3B-4215-A432-6870DCA8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0BBF9-5DB4-43F8-9E13-34F74E3A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35AF-BA1C-4618-A65A-871E6EA3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B688-B274-4018-A797-820FA6C3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CCD4-03F0-4125-931D-7D2C68BE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A0D3-6F43-46DA-BFF6-F57F9DB4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5EA3-8E60-41B8-97B6-1F833A67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4E3-9F30-4F70-B50B-B51BD1A7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F764-B104-4ABE-8384-85767F79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C58F-7E21-4201-8152-CC909983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F0C4-9A36-4C54-8A4D-677562D6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2133-C9B8-4E0B-9105-189291F8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8738-6D5F-4CCB-9CE3-12E8EF7B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6A6F-CBC9-4911-8B3F-2DC7731D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5A1E-986F-4473-824B-4B3100A6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53CB3-8FD7-4CF9-A314-6E09A8E7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9623-B935-470D-BDEB-1752EBA8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8B21-B29A-49FE-B8A1-4C61DD7F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F9E-A739-4165-B020-DA9B3420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8CA0A-8337-483B-9099-70A9BBFC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E1F04-C6E4-4797-8E5D-DF2B4474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E3F4C-D4CB-4D30-9EAA-7639E3EF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F2789-01D0-4106-B4C2-4E96FE77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8A90-E9E6-43F4-B558-5154DFCC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F6EF4-A4DE-43D4-8F30-C9333F3C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EDAC-549F-4B7F-8564-20434070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3C465-936C-48FD-9C3C-CD2977EB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43A05-2640-4EEC-9C5F-24E1730D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DDA98-EF05-46C3-9855-8C654A05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230-A0CE-4013-972E-94CDCD09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68DEA-DB99-43CC-91FE-D003C92F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7818-7986-4FD6-9778-C54F1DEF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E8733-6163-47E1-A3B9-C07A0A0B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EBBCB-AF50-4FB3-8A66-018DD5AD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0C448-793E-4F64-BF52-931C29C1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0AF30-8A9B-45A1-886E-D1718F50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14279-A427-4796-A2F8-ACF3EA4E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A29F2-B2F9-4B25-990F-A5769133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38CA4-7110-4469-9161-4D12D6E6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B5BF3-11C9-4340-912D-AFC57556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C62-2375-4E06-AAB9-387FF69E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D36B1-82FD-4F16-8093-33F38736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5E853-CBCC-4995-B1F3-D944BC46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C6A1E-CC37-47A2-8B8A-DDBA58C8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B2A64-1152-46AA-95EB-01B6CBAE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2DBEF-494B-4BCD-995E-BA7E1339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33B99-41D3-49D2-BF9D-368F2E5D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6F80D-248F-4FAE-8871-0D62A6A7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4E6F4-8E37-4230-AA07-4D23A3A4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D4C27-FEFC-44C3-B3DF-D0F44A9D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6F163-2B10-4643-8749-84D5FD7D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773-F6A6-45D9-A88D-246A0487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EBE01-3A1D-4141-A6C3-2D244778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91D0F-0062-4093-B113-44080A9A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67638-7FF5-4E07-9A21-E65C3913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E4EFB-4219-4474-BA26-1305EBBE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75B94-63C6-4D2E-AB65-6A8BCCAE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BD9C6-BC8B-4C6D-9C3D-155FAF2C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447B7-D2B7-42EF-A2B1-C8A4A72A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CFD61-5013-498D-A02F-137509EA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A21DD-8274-4D40-845E-0CD5377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D1E75-DF6D-462F-8826-7874AB08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88D-CAE7-4DF5-AF64-3F48FD84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F5FB7-A968-4C7D-92FA-9211ABB1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BBA91-4678-47B2-994B-B87E24D6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0DF1B-ECD2-4571-80AD-B83B7034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E60B7-5B0F-4A7B-820D-F90E9907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A78C1-6FD6-46C0-8C63-F13CD716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2C736-7B72-4671-A975-1B982B08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B9911-F4BE-41C6-A39D-5D8497FB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F7244-FE76-4D14-B8A1-0A890E1F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CFB46-7EE6-4224-814A-10967174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F1C31-20FB-4D43-B14D-7DDE40A0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72C-83EF-413D-8D7A-C3972287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824EC-0F1D-4218-AF63-E684F143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916AE-A3D9-4227-B7A8-15708D59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4B70C-FD8E-413A-AFA5-C119D95C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B68A4-1F41-4428-AFC6-64FA9CF1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8ED85-5B76-4718-9A6F-201B7106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2F63C-8D44-477B-AEC5-155F65CD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1DF8F-54DB-48D7-895B-EF1EE95B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FFC01-2783-44D8-B5BB-1D9C9C4D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4B337-AE41-4088-85B1-10590E3F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58C15-8B6A-4194-AD7C-DABC0B92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8EE-5B92-46F7-8151-8AED80EA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DC234-C6E1-4F94-A30E-DF310778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DFEB7-EAA0-4A2E-A41A-72758F58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67376-7CCA-414F-8E68-CD9D5DA1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CD91B-AAD0-4013-99CE-3B56FD79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3EBD4-4A6E-4863-8092-94DD156A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0039B-0872-42D9-939F-AB3EA9A8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65D37-0A4B-4D5F-A503-7C568191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5C437-BE79-4F31-A073-ED99F7E5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35D3C-3722-47B0-99F4-C14D9268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46440-5A28-499B-BD79-2136AF7F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E5BD-B03E-4F59-9710-0DD7D93DF95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DC9B-611E-4B22-B94B-2CEECD32D7C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A74C-0B34-4337-8997-4CF4C9D8883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B4AF-6EA7-417D-BE51-2E8993699D3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3759-C4C4-4086-B99B-21B5F3717C2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A910-AA32-4474-99A3-115FF39628F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D37F-4BC7-498E-B8F7-E7F8A3B07A8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ABB8-F447-4EA0-B0B5-3DD16C8EEB2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CE14-268B-48C7-B7F6-13D9D7015E4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648E-3D1A-4AC9-B288-635AA206EA7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8BDF-6BF5-410F-B8C6-D0E601F67DF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FC18-81BF-4F1F-80CE-B3E6162C66D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FD6D-C4B6-48B0-89C5-85DD9F6B910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A304-0020-425B-91F3-3E2D14AEDB0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BBA1-4964-4C43-BCE4-71963D80117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A093-DD40-4B49-B417-8A76AB3DFAC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AA0E-5214-498B-835D-FF5BF68CFA4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1F7B-4B8A-44BD-9FBB-47B252E85EA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39EA-6440-49DE-A2DE-4597F16B64D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B7F4-A719-4E94-9A3E-013BFF50C19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3463-210D-4D09-B6D8-1A381130EC1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9931-0C70-46A5-B636-FD9D4EBBA74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BF08-8463-4CDE-8E59-7F3BBA1BF86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130B-D26D-413F-8974-2811854277F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21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C44F-18E8-4000-BDD4-3AA5D9AD110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¿Qué pasa si la condición es VERDADERA siempr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esde donde cuent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n &lt;= 100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el usuario ingresa un número menor a 100, nunca podrá acabar el ciclo, ya que no se modifica n para alcanzar el valor máximo del ciclo (hacer FALSA la condición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s importante que el programador ponga instrucciones que hagan que la condición sea FALSA para acabar 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A7C7-6A4E-4143-A953-B2E7BA5B3E1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iclo Infinito con un IF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esde donde cuent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true) {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Nunca es FALSA la condic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f (n &gt; 100) break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 el “break” se termina el ciclo abruptamente cuando se cumple la condición propuesta en el IF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08CC-27F4-495A-8FBC-E265A9FC58F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FO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on instrucciones que permiten repetir un trozo de código tantas veces como se indique en sus parámetros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e inicializa un contador (primer parámetro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ientras la condición del ciclo (del segundo parámetro) sea VERDADERA, se ejecutan las instrucciones internas a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e lo contrario, continúa la ejecución de las instrucciones fuera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Al final de cada iteración, se ejecuta el incremento (tercer parámetro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8A26-CC29-4C0F-A914-7A2E975AF2B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FOR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for (&lt;incializacion&gt;; &lt;condicion&gt;; &lt;incremento&gt;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instrucciones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inicializacion&gt;: Es la instrucción que inicializa el contador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ondición&gt;:  Es la condición que debe ser VERDADERA para ejecutar las instrucciones dentro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incremento&gt;: Es la instrucción que debe ser ejecutada al final de cada iteración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instrucciones&gt;: Bloque de comandos que se desea repeti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4A93-3DB2-4C24-B8DC-D4D487BAF24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FOR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for (int n = 1; n &lt;= 100; n = n + 1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n pantalla se muestran los números del 1 al 100, uno por cada líne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AD26-4520-4384-B756-B255536DF97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 Con WH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o el máximo a cont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Hasta qué número cuent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maximo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Inicializo el contador para llegar a maxim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int n =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Defino el cicl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while (n &lt;= maximo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Imprimo cada vez la raíz cuadrada del númer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SQRT(“ + n + “) = “ + Math.sqrt(n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umentamos contador para pasar al siguient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7FAD-BBBF-4DA8-88C9-D9EA430342E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 Con F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o el máximo a cont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Hasta qué número cuent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maximo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Defino el ciclo con el contador y el incremento dentr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olas"/>
              </a:rPr>
              <a:t>for (int n = 1; n &lt;= maximo; n = n + 1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Imprimo cada vez la raíz cuadrada del númer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SQRT(“ + n + “) = “ + Math.sqrt(n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5586-4A75-42AF-B221-E558EE2002D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: Extienda el programa de adivinar un número para que lo haga en la cantidad de intentos que necesi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4501-049F-42E6-9CFE-A24AD377A63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5 Rectángulo redondeado"/>
          <p:cNvSpPr/>
          <p:nvPr/>
        </p:nvSpPr>
        <p:spPr>
          <a:xfrm>
            <a:off x="1928880" y="2714760"/>
            <a:ext cx="6715080" cy="3500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He pensado un número entre 1 y 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divina cuál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o, no, no. Mi número es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divina cuál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o, no, no. Mi número es me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divina cuál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Felicitaciones, has acertado en 15 int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egimos el número al a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He pensado un número entre 1 y 100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Pedimos el primer intent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x = U.readInt(“Adivina cuál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i =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 resto de los intentos aquí adentr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 (x !=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&lt; n) U.println(“No, no, no, mi número es mayor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U.println(“No, no, no, mi número es menor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x = U.readInt(“Adivina cuál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 = i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Felicitaciones, has acertado en “ + i + “ intent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7237-42CA-4DA7-A382-D870B1DCC3B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egimos el número al a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azar(1, 10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He pensado un número entre 1 y 100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n este caso, el primer intento está dentro del cicl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i = 0, x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 (true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x = U.readInt(“Adivina cuál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 = i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== n) break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if (x &lt; n) U.println(“No, no, no, mi número es mayor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U.println(“No, no, no, mi número es menor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Felicitaciones, acertaste en “ + i + “ intentos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D5A0-ED7D-406A-8DDB-42DFF9B42E3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Trabajo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138C-D2BA-4E90-8F69-06136756975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ir un programa que calcule el promedio de una cantidad indeterminada de números reales utilizando el siguiente diálog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Nota: El 0 indica que la entrada de datos terminó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6A30-4E49-4743-836B-3F7D1F54174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5 Rectángulo redondeado"/>
          <p:cNvSpPr/>
          <p:nvPr/>
        </p:nvSpPr>
        <p:spPr>
          <a:xfrm>
            <a:off x="1928880" y="2714760"/>
            <a:ext cx="6715080" cy="278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uenta = 1, Promedio = 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uenta = 2, Promedio = 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Escribir un programa que solicite un número entero y que luego le calcule el factorial. Recuerde que la fórmula del factorial 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n! = 1 * 2 * 3 * 4 * . . . * (n-1) * 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1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E5B8-A535-486A-867A-29D9B03256C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tación para incrementa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 posible utilizar otra forma para incrementar o decrementar variabl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1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++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– 1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--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7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+= 7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- 3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-= 3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403B-80EA-49FC-B75C-24F2568589A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5 Flecha derecha"/>
          <p:cNvSpPr/>
          <p:nvPr/>
        </p:nvSpPr>
        <p:spPr>
          <a:xfrm>
            <a:off x="3786120" y="3429000"/>
            <a:ext cx="121464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6 Flecha derecha"/>
          <p:cNvSpPr/>
          <p:nvPr/>
        </p:nvSpPr>
        <p:spPr>
          <a:xfrm>
            <a:off x="3786120" y="4357800"/>
            <a:ext cx="1214640" cy="28548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0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671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6D00-9FC5-4638-9AB4-2BC0F69A724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a una función que dado un número entero por parámetro ésta le indique con un VERDADERO si el número es par o FALSO si no lo 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 La tradi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boolean esPar(int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 % 2 == 0) return true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return false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 La elega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boolean esPar(int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(n % 2 == 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25B2-8531-46EE-8FC0-3CD94C85789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oblema 2: Escriba un programa que elija un número al azar entre 1 y 10 al azar y que le pida al usuario que lo adivine al primer intento. Si el número ingresado coincide, debe escribir: “ACERTASTE!”, si no, debe decir si el número elegido es “MAYOR” al del usuario o “MENOR” al del usuario.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Indicación: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Puede usar la función U.azar(x, y) para obtener un número al azar entre x e 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azar(1, 1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cabo de pensar un número entre 1 y 10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x = U.readInt(“Adivina cual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== n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CERTASTE!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if (x &gt; n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L MIO ES MAYOR!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L MIO ES MENOR!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82C7-443B-4CA8-967F-88E52EB031B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: Haga un programa que permita mostrar la raíz cuadrada de cada entero entre 1 y un número ingresado por el usuario. Use el siguiente diálog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ill Sans MT"/>
              </a:rPr>
              <a:t>No podemos hacerlo a la fuerz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3167-D3A4-477A-8000-83D4D4AAF6D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5 Rectángulo redondeado"/>
          <p:cNvSpPr/>
          <p:nvPr/>
        </p:nvSpPr>
        <p:spPr>
          <a:xfrm>
            <a:off x="1928880" y="2714760"/>
            <a:ext cx="6715080" cy="314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Hasta qué número cuent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1) =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2) = 1.41421356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3) = 1.73205080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4) =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QRT(16) = 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on instrucciones que permiten repetir un trozo de código tantas veces como sea necesario mientras se cumple la condición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e evalúa la condición que se encuentra como parámetr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ientras la condición del ciclo es VERDADERA, se ejecutan las instrucciones internas a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e lo contrario, continúa la ejecución de las instrucciones fuera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998C-C649-4B1D-80B9-ACA0BB9AAB3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5 Decisión"/>
          <p:cNvSpPr/>
          <p:nvPr/>
        </p:nvSpPr>
        <p:spPr>
          <a:xfrm>
            <a:off x="4143240" y="4643280"/>
            <a:ext cx="1714680" cy="714600"/>
          </a:xfrm>
          <a:prstGeom prst="flowChartDecision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n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6 Rectángulo"/>
          <p:cNvSpPr/>
          <p:nvPr/>
        </p:nvSpPr>
        <p:spPr>
          <a:xfrm>
            <a:off x="4429080" y="5715000"/>
            <a:ext cx="1143000" cy="571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Blo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8 Conector angular"/>
          <p:cNvCxnSpPr>
            <a:endCxn id="590" idx="0"/>
          </p:cNvCxnSpPr>
          <p:nvPr/>
        </p:nvCxnSpPr>
        <p:spPr>
          <a:xfrm flipH="1" rot="16200000">
            <a:off x="4892760" y="4535640"/>
            <a:ext cx="21492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93" name="15 Conector angular"/>
          <p:cNvCxnSpPr>
            <a:stCxn id="590" idx="2"/>
            <a:endCxn id="591" idx="0"/>
          </p:cNvCxnSpPr>
          <p:nvPr/>
        </p:nvCxnSpPr>
        <p:spPr>
          <a:xfrm rot="5400000">
            <a:off x="4821480" y="5536080"/>
            <a:ext cx="357840" cy="1080"/>
          </a:xfrm>
          <a:prstGeom prst="bentConnector3">
            <a:avLst>
              <a:gd name="adj1" fmla="val 49949"/>
            </a:avLst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94" name="18 Conector angular"/>
          <p:cNvCxnSpPr/>
          <p:nvPr/>
        </p:nvCxnSpPr>
        <p:spPr>
          <a:xfrm rot="5400000">
            <a:off x="4892760" y="6536520"/>
            <a:ext cx="21672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95" name="22 Forma"/>
          <p:cNvCxnSpPr>
            <a:stCxn id="590" idx="3"/>
          </p:cNvCxnSpPr>
          <p:nvPr/>
        </p:nvCxnSpPr>
        <p:spPr>
          <a:xfrm>
            <a:off x="5857560" y="5000760"/>
            <a:ext cx="572040" cy="1429200"/>
          </a:xfrm>
          <a:prstGeom prst="bentConnector2">
            <a:avLst/>
          </a:prstGeom>
          <a:ln w="9360">
            <a:solidFill>
              <a:srgbClr val="3891a7"/>
            </a:solidFill>
            <a:miter/>
          </a:ln>
        </p:spPr>
      </p:cxnSp>
      <p:sp>
        <p:nvSpPr>
          <p:cNvPr id="596" name="25 Conector recto"/>
          <p:cNvSpPr/>
          <p:nvPr/>
        </p:nvSpPr>
        <p:spPr>
          <a:xfrm flipH="1" flipV="1">
            <a:off x="5000760" y="6428880"/>
            <a:ext cx="142848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26 Rectángulo"/>
          <p:cNvSpPr/>
          <p:nvPr/>
        </p:nvSpPr>
        <p:spPr>
          <a:xfrm>
            <a:off x="4843440" y="525924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Verdad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27 Rectángulo"/>
          <p:cNvSpPr/>
          <p:nvPr/>
        </p:nvSpPr>
        <p:spPr>
          <a:xfrm>
            <a:off x="5786280" y="457200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F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29 Conector angular"/>
          <p:cNvCxnSpPr>
            <a:stCxn id="591" idx="1"/>
            <a:endCxn id="590" idx="1"/>
          </p:cNvCxnSpPr>
          <p:nvPr/>
        </p:nvCxnSpPr>
        <p:spPr>
          <a:xfrm rot="10800000">
            <a:off x="4142520" y="5000040"/>
            <a:ext cx="286560" cy="1000800"/>
          </a:xfrm>
          <a:prstGeom prst="bentConnector3">
            <a:avLst>
              <a:gd name="adj1" fmla="val 304150"/>
            </a:avLst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&lt;condicion&gt;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instrucciones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ondición&gt;:  Es la condición que debe ser VERDADERA para ejecutar las instrucciones dentro del cicl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instrucciones&gt;: Bloque de comandos que se desea repeti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985F-1363-4FBE-8F40-143E0F47201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n &lt;= 100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n pantalla se muestran los números del 1 al 100, uno por cada líne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7999-4A65-40B9-8D30-AE8AC265CF5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3028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iclos WHILE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¿Qué pasa si la condición es FALSA desde un principi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esde donde cuent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while (n &lt;= 100)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n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ALIII!!!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el usuario ingresa un número mayor a 100, es probable que no alcance a contar nada e imprimir “SALIII!!!” en pantalla inmediatament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ICLOS CONDICIONAL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4CFF-06B4-4592-B088-F2AA4794839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21T02:47:40Z</dcterms:modified>
  <cp:revision>73</cp:revision>
  <dc:subject/>
  <dc:title>CC1001 – Computación I Clase 0</dc:title>
</cp:coreProperties>
</file>