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D774-3DE2-4A48-969A-38ED38E35AAB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F3EA-F5C3-44F1-ACE5-E9DC82143956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F48-3E3D-4A30-9C95-269BD841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F73-CB2D-4B12-AC51-DC0190FF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FB425-B699-4DEF-80E8-B83E0DE9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53013-A93A-4293-BD40-DBFF9355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51C08-2292-4F74-A4F8-8E66EDF6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EEF03-1306-4D2B-A197-321768D8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1A5C9-40A9-4450-9BF8-B266A0D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7EF13-A362-4C50-AFBA-1051722C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6DA83-71FD-4D09-9F9B-19453E7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D9573-BA4A-434E-9D6D-42AD4259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E84A6-9F32-48A9-922C-0C708022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6B102-3982-41CD-A1E4-8F7A3DE6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76A-82F6-43F8-B66E-EA0452A9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20920-E0ED-448E-B4FF-2EFC65F2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DED0A-2E4C-4AF5-ABB9-40911492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C1F5B-4B9B-4ABF-B2E6-02BB5B69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1BE43-4679-423D-9199-B29F0638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5713F-6BCA-4587-8626-B329E970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41340-C591-4282-BAC2-92F5FCC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9D26B-1138-4CBF-8302-FEAA21BF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D996E-9E65-4B55-BAC4-88B1B95F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B882C-5CBD-4817-AF6C-08E050F7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4A96B-4E32-4B29-B98A-4FA7A5A4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3AA-4B25-45EA-AA32-74A33B8E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AE600-87F7-423E-A48C-50F09C4D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88A79-9336-428B-A6E1-55200279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2FD50-471D-46C5-AA86-465B64D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56C9E-51DF-47C4-83E7-428EF368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DACA3-0FB9-4DE8-B07C-D13340BA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94A8A-C40B-4D92-8E6D-38A2AC7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9F2E1-D041-403E-8453-CDFB3F18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A081F-395E-480B-8A23-7E55512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00094-BF54-4765-8276-31C5D72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29F01-46AE-45F3-9F2B-E3B84E2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09E-FCFA-4EA5-906C-05D00BF8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5454F-19B6-494E-AE00-4AD24787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5456F-42CC-4D3D-9939-AA7AAC35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885D3-D029-47B5-929D-095C10DB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C63E8-DC61-42EE-AB23-74DFD590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27DDB-E409-4075-9C9F-A2391A01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C857E-2D6A-4D35-A2C5-6618E70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0D687-BD7A-4A25-B740-5C4D9A3B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EE9C-5D3B-439E-BFCE-9DA77D20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82521-6C0D-4E22-8678-9ABBFBEE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1676F-B810-4304-A4C0-F326C7F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28B4-B267-4AB7-B4E5-2BDDDEE1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59ACC-4898-4DF4-BDFD-8D070AD0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56DFE-DC01-4A9A-8A9E-05C24DA2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10617-116D-4692-8BD8-748CB7CC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D44D2-C527-4D2B-8035-4FBBD35B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28829-8B3B-4955-A144-837BFF28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1E3D-CE4B-44AB-B671-F1DB0F03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F37C-C235-4FE1-9DB5-F3554385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D727-A081-416D-9F7F-FAA9BBA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8820-DE98-433E-BAA8-ECA3810E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BDFD-D6DB-4E70-8F05-1928A8A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778-1540-4B21-BC94-353B7258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BB95-3099-48B9-AF83-48487DA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25B4-B998-47AB-B8C6-81BB1500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E2DD-AA1E-4947-AE51-6B1AECF7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CE00-4B98-4985-BF61-A501087D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AFAF-D6E1-4331-A199-C3AE20E2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7FB0-B213-49FA-83BC-D1EE17FA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C400-C1FA-49D7-B8F5-A2B63F9A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1703-6203-4FE8-8925-1A2F4E4A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4AC2-5F6A-4EC4-8337-1B45529F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C6AE-52B4-44F2-A1C9-94A06BD1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1C2-70BB-4259-B60F-1F21C516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693C-E2B6-4E64-8E34-E22965BD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6155-BFB2-4D31-8F01-9C75105B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B4BE-294F-432E-A79A-94B6E855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DF45A-8A34-42C8-A588-839ABCA2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B5C3-FE42-410F-937E-DC96FE92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EDBE-84F9-493D-B33B-5A859028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94A0-B5ED-4776-9703-49AA3E46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BD39-0AC0-4F17-BADC-3DF236E7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C2B97-A545-4DB6-BEEB-29BF8B83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54573-9149-43C7-921F-2D1A73CA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737-AA08-43D5-8D27-2CF20AE5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56CC-1531-45A0-B745-15FD1B9F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2C3B-147E-466B-9037-7919C0B2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20C4-662D-436D-B945-4D23CC5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2C67-ED78-4C6B-A516-FCEA831F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3F15-9996-4244-B632-6BF42148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68EB-B3A8-4E72-8596-DF4B6370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ED8E-DA23-4156-9058-22D77A05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EA085-61CA-4C21-B007-FBBD4F3B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736AC-6877-4E30-8BE1-BB1A6F5A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4072-6370-4B5B-B602-4E9D9B2C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450-1777-4E3E-9BB9-32872170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DD30-A478-414E-B273-C8039D3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C1E9-8355-4F5E-872D-6EA40998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78E2C-38A4-4837-8853-5D75816E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3F5F-6DCE-4D43-B7AD-648C566F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B103-E9C3-4510-B2C7-CE5E4F01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25D5C-D661-486F-BB99-D0D854C8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6A74-A433-4506-B902-ACD8C6F7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484D-A392-4256-A406-881F9123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7C460-5D8C-4288-AA5A-65DF91E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4C8D0-644A-4E9D-A96B-ED911686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2DF-A2F7-40A6-A7FC-88ABDB27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4F65-D5AB-4DBA-93D1-9F0386F2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F33E0-2E19-4CB1-BFF9-B544DC6D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27CDC-25E6-4178-8E80-07D76E1A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D0006-7E2E-42ED-9B25-1BEFC24B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7DD3A-F8FD-4EDE-BC28-77B793B5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519E6-F86F-4727-A8EA-D5A3BCFB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D1E0-23E3-4B5B-9CFC-C377CAC0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C408D-52D7-4482-BEFA-24195C4D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C21D7-8E60-4434-9DA9-E33A8844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BD2B8-620F-4A15-A9D3-6A2FA40D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406-D6BE-42CF-AC4A-0B4BA2E0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FD8EB-2ACF-4C8B-B47B-F7BFBFBF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C8953-4033-402B-8D33-218C3043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6DC7D-0EF2-4842-A6DE-D2771752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8E11E-6BD0-44D5-BBCF-88832D37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7419A-37F1-482C-AFBF-EE99071C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15690-E8F0-4785-B61E-FF650C4A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4C9ED-50A7-4473-B936-597BC8B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50186-D763-4402-B2AA-28F57B87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046C-36AB-432E-A970-AD5C9F7F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52046-0E02-41EF-9B4B-EDFD9A9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A7C-459C-44E5-8361-3AEBB38A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9AAF-84B2-40FF-AD8C-28E06C7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B39C1-519D-4494-8ABA-284EE0F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AEBF2-1BFF-4932-BCA3-1BF3602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A82D1-AD8A-415F-AA28-6C8A38D9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ECCAF-ADDE-487F-89A4-52EF30E4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6DC35-AA57-4E8B-A644-7EADC9C1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161BD-5725-485E-80A6-A7B82763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2595F-C5E2-47E6-9568-06C6B269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EDC5B-A615-4958-82CA-400C27EB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4FF81-6803-4872-93E9-7B4ECACD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4C4-A8FA-4BF5-BD5E-D067BCC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99E9E-9056-47A9-BA7A-949A048D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0047E-C2B9-4DE7-8C1D-2F097D3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FB3BC-21DE-424E-BF05-550FEF57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7D170-CDB3-4456-AB4B-2ADF3AB5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7B267-9881-412E-B860-F50921BE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78729-8C90-4878-BD17-0E38FB1C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45F78-F8A8-4803-A548-1329E22B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53905-9EBE-4AFB-917E-DA6B5BFC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DCFE9-5F45-49A3-982E-F63A087C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5F202-6909-42F0-9371-0D084B4D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069E-6CAA-43AD-A509-8E83B53E9C1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A3EB-D9DB-4B9F-B9EE-A9D345C67C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E3FC-F0FB-4E95-8253-F90C25C0D9F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4B8-0BE3-414C-B25C-1A61FA71BB7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3900-ABD1-4B94-95D4-27C3C938FC9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218-B741-4753-8F16-29C90383E5B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4892-42B8-4E65-812F-68D3C3E63A3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4FC6-0744-49A4-8DEE-0D7AA759F3A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716E-AA4A-4122-9858-55324D550E4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0DD-F611-44E0-9CFF-1946A7DF7F7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6DFF-41D2-45D8-AD4B-B14415ADD56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0144-16F9-443C-BA1C-89478410E38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F6CE-3BDD-4BCC-8CCF-8F003BB520A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266A-4E0C-4016-B9F9-AA8559662D8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4211-A1AD-48A4-86A9-4A1102BAB45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9435-41A8-4182-A0EB-B3222478BAB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9480-6176-479C-B060-8DEB52B1257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E256-78B1-45BC-8747-5A8AE1E3E5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8D62-EF0B-4442-B3B4-6287ACC4474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7379-8730-47B2-A231-DE2D01899F3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E415-6336-441B-AB7A-B3440594A0F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F158-1D87-42B7-AD09-A532F659BEF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1899-E0CA-471A-AB87-5A9457D9833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C6DE-F170-4EC8-AFDA-6D096BC437D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21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41B1-8939-4434-847A-E0B9049A007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¿Qué pasa si la condición es VERDADERA siempr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el usuario ingresa un número menor a 100, nunca podrá acabar el ciclo, ya que no se modifica n para alcanzar el valor máximo del ciclo (hacer FALSA la condición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s importante que el programador ponga instrucciones que hagan que la condición sea FALSA para acabar 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F81D-747C-483B-9908-25DFCDF1FA7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iclo Infinito con un IF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true) {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Nunca es FALSA la condic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f (n &gt; 100) break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 el “break” se termina el ciclo abruptamente cuando se cumple la condición propuesta en el IF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E3B7-3A86-4F26-9177-12780A2272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on instrucciones que permiten repetir un trozo de código tantas veces como se indique en sus parámetro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inicializa un contador (primer parámetr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ientras la condición del ciclo (del segundo parámetro) sea VERDADERA, se ejecutan las instrucciones internas a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 lo contrario, continúa la ejecución de las instrucciones fuera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l final de cada iteración, se ejecuta el incremento (tercer parámetr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2964-2CF6-4B8A-A365-0778602954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or (&lt;incializacion&gt;; &lt;condicion&gt;; &lt;incremento&gt;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icializacion&gt;: Es la instrucción que inicializa el contador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s la condición que debe ser VERDADERA para ejecutar las instrucciones dentro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cremento&gt;: Es la instrucción que debe ser ejecutada al final de cada iteración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strucciones&gt;: Bloque de comandos que se desea repet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4AA6-99CC-43D6-82BD-5FF23DCACAE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or (int n = 1; n &lt;= 100; n = n + 1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pantalla se muestran los números del 1 al 100, uno por cada líne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92D0-5AF3-4B6B-B401-570F4B20BD0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Con WH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o el máximo a cont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Hasta qué número cuent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ximo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nicializo el contador para llegar a maxim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int n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Defino el cic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while (n &lt;= maximo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mprimo cada vez la raíz cuadrada del núme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QRT(“ + n + “) = “ + Math.sqrt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umentamos contador para pasar al siguient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8EE7-A5CA-498D-865B-D01AC0F066D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Con F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o el máximo a cont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Hasta qué número cuent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ximo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Defino el ciclo con el contador y el incremento dent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for (int n = 1; n &lt;= maximo; n = n + 1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mprimo cada vez la raíz cuadrada del núme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QRT(“ + n + “) = “ + Math.sqrt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2925-7281-4DFF-A03A-B6D86A54D8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xtienda el programa de adivinar un número para que lo haga en la cantidad de intentos que necesi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AFDE-B3A5-4CF4-8230-B1935F12A76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5 Rectángulo redondeado"/>
          <p:cNvSpPr/>
          <p:nvPr/>
        </p:nvSpPr>
        <p:spPr>
          <a:xfrm>
            <a:off x="1928880" y="2714760"/>
            <a:ext cx="6715080" cy="35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He pensado un número entre 1 y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, no, no. Mi número es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, no, no. Mi número es me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Felicitaciones, has acertado en 15 int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egimos el número al a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He pensado un número entre 1 y 10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Pedimos el primer inten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i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resto de los intentos aquí adent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!=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n) U.println(“No, no, no, mi número es may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U.println(“No, no, no, mi número es men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 = i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Felicitaciones, has acertado en “ + i + “ intent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CA1D-BFD4-44BC-B357-FC53BADE12F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egimos el número al a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He pensado un número entre 1 y 10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n este caso, el primer intento está dentro del cic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i = 0, 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true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 = i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== n) brea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x &lt; n) U.println(“No, no, no, mi número es may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U.println(“No, no, no, mi número es men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Felicitaciones, acertaste en “ + i + “ intent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9DD0-20A3-4709-BB00-C8368066A05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C702-7FAD-434E-AB4A-36C26B7E7F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ir un programa que calcule el promedio de una cantidad indeterminada de números reales utilizando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ota: El 0 indica que la entrada de datos terminó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DF4B-40BA-47AD-9CE0-8C13301B824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5 Rectángulo redondeado"/>
          <p:cNvSpPr/>
          <p:nvPr/>
        </p:nvSpPr>
        <p:spPr>
          <a:xfrm>
            <a:off x="1928880" y="2714760"/>
            <a:ext cx="6715080" cy="278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1, Promedio =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2, Promedio =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ir un programa que solicite un número entero y que luego le calcule el factorial. Recuerde que la fórmula del factorial 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! = 1 * 2 * 3 * 4 * . . . * (n-1) *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5A74-CFFB-48B3-89DD-1BBB95480A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tación para incrementa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posible utilizar otra forma para incrementar o decrementar variabl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++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– 1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--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7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+= 7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- 3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-= 3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9BF-9A11-449A-9671-1E9394970F9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5 Flecha derecha"/>
          <p:cNvSpPr/>
          <p:nvPr/>
        </p:nvSpPr>
        <p:spPr>
          <a:xfrm>
            <a:off x="3786120" y="3429000"/>
            <a:ext cx="121464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6 Flecha derecha"/>
          <p:cNvSpPr/>
          <p:nvPr/>
        </p:nvSpPr>
        <p:spPr>
          <a:xfrm>
            <a:off x="3786120" y="4357800"/>
            <a:ext cx="1214640" cy="2854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0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71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CC88-27B6-4C9D-AC1A-C3707AE4AB2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que dado un número entero por parámetro ésta le indique con un VERDADERO si el número es par o FALSO si no lo 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La tradi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boolean esPar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% 2 == 0) return true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return false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La eleg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boolean esPar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n % 2 == 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20FD-5726-4EC9-931A-69CABAEA825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blema 2: Escriba un programa que elija un número al azar entre 1 y 10 al azar y que le pida al usuario que lo adivine al primer intento. Si el número ingresado coincide, debe escribir: “ACERTASTE!”, si no, debe decir si el número elegido es “MAYOR” al del usuario o “MENOR” al del usuario.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Indicación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Puede usar la función U.azar(x, y) para obtener un número al azar entre x e 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cabo de pensar un número entre 1 y 1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x = U.readInt(“Adivina cua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== n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CERTASTE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x &gt; n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MIO ES MAYOR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MIO ES MENOR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1EC4-A110-4C47-B513-11AD3D482A5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Haga un programa que permita mostrar la raíz cuadrada de cada entero entre 1 y un número ingresado por el usuario. Use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 MT"/>
              </a:rPr>
              <a:t>No podemos hacerlo a la fuerz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45CD-51B4-452C-B192-B612309E60D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5 Rectángulo redondeado"/>
          <p:cNvSpPr/>
          <p:nvPr/>
        </p:nvSpPr>
        <p:spPr>
          <a:xfrm>
            <a:off x="1928880" y="2714760"/>
            <a:ext cx="6715080" cy="31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Hasta qué número cuent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1) =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2) = 1.41421356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3) = 1.73205080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4) =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16) =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on instrucciones que permiten repetir un trozo de código tantas veces como sea necesario mientras se cumple la condi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evalúa la condición que se encuentra como parámetr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ientras la condición del ciclo es VERDADERA, se ejecutan las instrucciones internas a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 lo contrario, continúa la ejecución de las instrucciones fuera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0FBF-2744-440A-B34A-F6576E0C646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Decisión"/>
          <p:cNvSpPr/>
          <p:nvPr/>
        </p:nvSpPr>
        <p:spPr>
          <a:xfrm>
            <a:off x="4143240" y="4643280"/>
            <a:ext cx="1714680" cy="714600"/>
          </a:xfrm>
          <a:prstGeom prst="flowChartDecis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n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6 Rectángulo"/>
          <p:cNvSpPr/>
          <p:nvPr/>
        </p:nvSpPr>
        <p:spPr>
          <a:xfrm>
            <a:off x="4429080" y="5715000"/>
            <a:ext cx="114300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8 Conector angular"/>
          <p:cNvCxnSpPr>
            <a:endCxn id="590" idx="0"/>
          </p:cNvCxnSpPr>
          <p:nvPr/>
        </p:nvCxnSpPr>
        <p:spPr>
          <a:xfrm flipH="1" rot="16200000">
            <a:off x="4892760" y="4535640"/>
            <a:ext cx="21492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3" name="15 Conector angular"/>
          <p:cNvCxnSpPr>
            <a:stCxn id="590" idx="2"/>
            <a:endCxn id="591" idx="0"/>
          </p:cNvCxnSpPr>
          <p:nvPr/>
        </p:nvCxnSpPr>
        <p:spPr>
          <a:xfrm rot="5400000">
            <a:off x="4821480" y="5536080"/>
            <a:ext cx="357840" cy="1080"/>
          </a:xfrm>
          <a:prstGeom prst="bentConnector3">
            <a:avLst>
              <a:gd name="adj1" fmla="val 49949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4" name="18 Conector angular"/>
          <p:cNvCxnSpPr/>
          <p:nvPr/>
        </p:nvCxnSpPr>
        <p:spPr>
          <a:xfrm rot="5400000">
            <a:off x="4892760" y="6536520"/>
            <a:ext cx="21672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5" name="22 Forma"/>
          <p:cNvCxnSpPr>
            <a:stCxn id="590" idx="3"/>
          </p:cNvCxnSpPr>
          <p:nvPr/>
        </p:nvCxnSpPr>
        <p:spPr>
          <a:xfrm>
            <a:off x="5857560" y="5000760"/>
            <a:ext cx="572040" cy="14292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sp>
        <p:nvSpPr>
          <p:cNvPr id="596" name="25 Conector recto"/>
          <p:cNvSpPr/>
          <p:nvPr/>
        </p:nvSpPr>
        <p:spPr>
          <a:xfrm flipH="1" flipV="1">
            <a:off x="5000760" y="6428880"/>
            <a:ext cx="142848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26 Rectángulo"/>
          <p:cNvSpPr/>
          <p:nvPr/>
        </p:nvSpPr>
        <p:spPr>
          <a:xfrm>
            <a:off x="4843440" y="525924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Verdad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27 Rectángulo"/>
          <p:cNvSpPr/>
          <p:nvPr/>
        </p:nvSpPr>
        <p:spPr>
          <a:xfrm>
            <a:off x="5786280" y="457200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F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29 Conector angular"/>
          <p:cNvCxnSpPr>
            <a:stCxn id="591" idx="1"/>
            <a:endCxn id="590" idx="1"/>
          </p:cNvCxnSpPr>
          <p:nvPr/>
        </p:nvCxnSpPr>
        <p:spPr>
          <a:xfrm rot="10800000">
            <a:off x="4142520" y="5000040"/>
            <a:ext cx="286560" cy="1000800"/>
          </a:xfrm>
          <a:prstGeom prst="bentConnector3">
            <a:avLst>
              <a:gd name="adj1" fmla="val 304150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&lt;condicion&gt;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s la condición que debe ser VERDADERA para ejecutar las instrucciones dentro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strucciones&gt;: Bloque de comandos que se desea repet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DA1C-A3A7-41B9-998A-F5BFFB2BF82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pantalla se muestran los números del 1 al 100, uno por cada líne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3A37-9252-4D07-9278-DD40CCF883E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¿Qué pasa si la condición es FALSA desde un principi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el usuario ingresa un número mayor a 100, es probable que no alcance a contar nada e imprimir “SALIII!!!” en pantalla inmediatament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ICLOS CONDICIONA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055C-CC20-4FD3-AD6C-D8E0080030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21T02:47:40Z</dcterms:modified>
  <cp:revision>73</cp:revision>
  <dc:subject/>
  <dc:title>CC1001 – Computación I Clase 0</dc:title>
</cp:coreProperties>
</file>