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5D8-2B15-432B-B8EC-D7FA88EE8410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8BA-BABB-451A-A05D-3C4B3C73A315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334-5E3B-4EA1-9C35-E9C174B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9AD-5DC7-4FE3-9ABD-393D13C6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8158-649D-40A7-83BD-F944CBB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BF670-F60C-457A-9F2C-05768FF0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3E25-203D-4CA8-9D63-FA8A303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87C40-8D98-457F-9139-F1EFDBF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4F9A9-75DD-4349-A014-C828DFC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98920-B7EC-4B2D-9800-CE216FC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09DC0-C619-451B-9B9E-DB94DE53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7B0D8-AC51-461C-982A-0474AB78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17464-3443-4E07-8CCB-597276F9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14239-4244-4138-952C-33B5A76A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7CF-767E-4C60-8A82-4ED76AD5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8B1D-4BC7-47D1-9DC2-D2EE76B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435F8-4CA8-41AE-943C-4ECB73C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A72F0-EB2A-48AB-899E-536CA7B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26FD5-B5E9-4513-A047-77E8DA3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8E4CA-CDCB-4165-818A-9D614F29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0F7B-784E-45BA-880A-2FE3D6B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6F716-E2F8-489C-B4A7-E8C729A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0C37C-6BA7-4778-B0AD-6EA38BF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2101A-9C8D-4860-B1BC-C0BD18A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4B031-FA8E-4932-8119-E3F73E0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EA5-E1D9-426D-96D1-FAC3880C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33DC3-AE63-4C2A-8D91-732A0BAD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B1A2-72B6-4C69-B524-921F005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E47E5-6E9F-4FC8-BB1D-D6DD241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17AF7-AE42-4FBD-9D7E-B122A18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F6D6D-1284-4172-A9CA-338AF8A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5A472-9B34-4073-B04F-13149FFA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156BD-81B2-418D-A667-65027DC6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0BAED-99AB-4FD4-9992-99C6E86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A0659-E75D-43D5-A82D-24F0DD3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B49EF-2205-47B6-A91D-86E7A90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85AE-DDB5-4735-96B7-BFCBC14F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41BCD-2A10-43B3-AC01-1DF085FD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9C83E-FC6C-4C5C-AB00-9D446914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E2CC0-9334-4F03-A65D-25941407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8E00C-DC47-4D5F-956A-26F9D622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A6127-8F35-4214-AFC1-3F3FF410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50E2D-A3B9-41FA-A2A8-C89480A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CFB51-8203-4762-8655-55238DD2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F3457-E701-4311-886B-12A93C49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92986-2D8E-462F-A5D9-0F6E9E1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97555-B090-4037-AA6F-389F7D5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E046-FDD3-49DB-BD80-7118CD0F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E95A9-8A07-4153-8D37-AAF926A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116BD-873F-4F1D-B31B-CD40EA5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E82D4-B9DA-42C2-98BB-509B816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31BB5-6243-4782-BC59-9677EC88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92ED2-18AF-49D2-8E2F-115185AB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6875-9B01-4696-A113-BA0ACFA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3073-8AC4-4F68-B198-F290ACE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C2C-4E54-423F-960F-75C2979F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7531-F1F0-4183-998F-02D6201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4F6-E505-47FB-A204-9AAE837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2C7-A845-4402-9DEC-D28AC21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A42-4DEE-424F-AB3F-E69A425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DE1-236B-491E-95D8-7098AA0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81F-E4AB-44BD-B9AE-258093C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A4E-4450-4A71-94E2-802FAFD7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34CE-4747-4730-9D3C-DCD2183A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F1CC-E265-4925-9AE8-AB693779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5397-5D0C-4506-A813-4D7175CA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1F67-8419-423E-BB67-3E389052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02B7-7E08-4229-9D7D-13DCFB3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C187-887A-437A-B754-61F14A9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9DA-B321-494B-A175-A9045AE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3F4A-91E9-4F80-8A49-A78ACB01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CABF-16AC-4DBC-9161-F15E9C7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FEBD-BA5A-4A00-8203-A374487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DFFA-F928-4E5A-8D43-99E55C1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E907-56FF-4AF8-BDDC-83D97D3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61A4-2A22-4DE1-AFBA-FB9C9BF4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437B-76E6-4DDA-9244-77E5EEC9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BF14-D63E-48F5-9C1F-29050C4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82AF-5901-44A6-B64C-D6BB45AF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25EB-2324-4FAF-B851-82D36701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BFB-5451-418F-8888-72E267CE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E09A-4BC7-484A-9DE0-23B28C5C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CF8A-A63B-4A5A-8277-EDD7C70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EEE9-5669-4E18-9C46-4FD8D0DC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DD9D-805D-4892-99E2-EE49CB5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FDB2-67C8-4761-B74E-93D9B24B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1128-CB8D-459C-BA14-788B430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211A-AFE6-4B01-9A56-DF2E8EB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116C-F0D9-40EA-9C9D-6E83D98E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2AD9-92E7-47D5-9C58-3B05FF64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35D8-7C34-4F64-A6C8-A6696728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152-DCB7-44FC-B1E3-F164876F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95624-E304-426C-ADE2-DA5F9743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A219-B4ED-4730-A5FB-F4660BF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A679-EDC7-4F03-9E32-F747458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1A4DD-C20B-487B-BD39-B026EE5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40E1-546B-41E4-9386-33E16335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8AD2-AB04-4B38-B3D0-E56D37D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F8C5-1094-433D-9987-241B2D5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3F435-8A07-4B6F-AEAE-183F134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CDF2A-2856-4000-90A8-F16AC686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0900-D398-4411-A71C-62295782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935-DD50-46F8-8A97-A510AFA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C649A-28CC-41D4-9D14-1DEDB0E9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5B10-06FF-4227-A61E-AC668B7C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253A-3073-44C1-97DB-A1B066A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2931A-39E6-4343-ACE0-039AA6F1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55F6-7FCC-49AD-88E2-D8B4253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8E1E-E7A1-40BA-8F12-AF31C605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E191-FD30-4C0A-BE9E-B64FA4E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3971-5CB7-4B91-A353-96EA02B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30C7-2898-4709-8006-44445F8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50EA-897A-4256-9000-9D7FCCB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93A-6F3B-4454-A3DD-A6D935A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778CC-E691-49E0-9C54-29903382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250C-FEC5-433A-82A6-7B99548D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BD8B-EF6B-4136-A517-3F983037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4CB6-3B6C-47AA-A495-534DC4A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1EC91-D502-42B0-A40A-B296C22C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A1A83-8454-40B6-AD84-77D29C8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09FA-6A9A-414E-BD20-4EF15CA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0D5E-6E9B-449B-835A-0CEC8F6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AEE4-62FF-4268-957D-4389148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C392-D5FE-40E8-BDB0-C5E5678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187-0872-4A62-897E-5699713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2CB82-556C-4FAE-B348-5821651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9478-1AAB-41E3-9DF6-7C9B6CB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6107-80EB-4AB1-91E6-AF754B9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9AE8-B14D-4D8F-BF77-56E161F6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859D-84B7-477D-848A-B9922F50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D3317-A827-4B53-BB9A-52D2EA41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E9C4-A7BC-4A76-B12B-B688CB4B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4EC64-614D-4D26-903E-2398A525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A7F8-0D2D-41A5-8CCB-1BB7143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1C3E-A513-490F-A4CF-C7FEE86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F39-5FB5-481A-A79A-25DE34D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82E81-EBBA-429F-BCFD-82CEAAA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5E684-4F63-4406-990E-BA404AE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CA8E-0DBE-49F1-BB1B-6EDD702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C336-A1E9-4CC6-BB13-286EBEB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A56D-C80D-49CD-B5BA-25877FA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975CB-3777-4530-A141-FEC47EBC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C66E-2BE8-48E9-ADB7-9947AEFF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5FF7C-6255-4CCE-B010-BCA550F9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8214-6BFC-4D74-86D1-EF9AD17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28D8D-C0C7-4FA6-9254-7E9B2F1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158-455A-4C25-96F4-E166022779F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AED7-D2A0-4D43-8550-6AF679EB79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B7F-86A6-485A-AFB1-4F26824E074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9C05-9BD1-4DC2-8387-43109FB499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2F7-BE9F-48F1-B6AF-9C3952EB50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B0A-F8C7-4B02-93D9-163E7FE378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931A-1504-4712-9C31-0740B4E923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2324-42F2-454B-84B8-C410DFBFABE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31BB-D103-4062-A8F7-9BEECC1D385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1E0-ABC9-4C97-B522-3F9D289E29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C58-6DBD-4933-B510-02041E82896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093-714F-4DDE-8762-51F5EE04E0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1DB-9CDD-41F8-8E5E-4A92610F70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795-4D03-4D74-97B6-ED63DCC5EB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2275-46A4-4547-A553-7115F6D7372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AAB-9A2E-4B55-89D3-2C243555D5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2F6-1112-4AD3-A6C9-1C9813A6DB6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4FFD-7E1C-4145-A958-5A2CAEC364D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796D-5587-4552-A53C-0E0D817A137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A74-C0A7-446D-8A84-E70411EB87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E7DA-7C8F-437C-AD04-680C64D3A9D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FD2-F681-4181-A5D4-B19E4B1C79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B16D-3F77-4E57-A38A-1747813BBB8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A6A-2B69-4D6E-8E89-A9ED01E7DC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1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1B5-4AD1-44E5-B683-945B4FC78A0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VERDADERA siempr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enor a 100, nunca podrá acabar el ciclo, ya que no se modifica n para alcanzar el valor máximo del ciclo (hacer FALSA la condición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s importante que el programador ponga instrucciones que hagan que la condición sea FALSA para acabar 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AB6-865D-4EB1-8184-124914E5C7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iclo Infinito con un IF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unca es FALSA la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f (n &gt; 100) break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 el “break” se termina el ciclo abruptamente cuando se cumple la condición propuesta en el IF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4AAA-9BD7-4B2F-A647-F84A475FED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 indique en sus parámetr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inicializa un contador (prim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(del segundo parámetro) sea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 final de cada iteración, se ejecuta el incremento (terc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DD5-0B53-4967-B08B-253F44B83C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&lt;incializacion&gt;; &lt;condicion&gt;; &lt;incremento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icializacion&gt;: Es la instrucción que inicializa el contador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cremento&gt;: Es la instrucción que debe ser ejecutada al final de cada iteración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604-63E3-40BC-8D25-3D58C441DB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int n = 1; n &lt;= 100; n = n + 1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50B7-687F-41B6-AA73-C9A77F9353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Con WH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nicializo el contador para llegar a maxim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while (n &lt;= maximo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umentamos contador para pasar al siguient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72D7-09A4-4C0F-A62B-50C6E4DFCF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Con F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 con el contador y el incremento 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for (int n = 1; n &lt;= maximo; n = n +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8BA8-F2A4-460F-A978-7D7E749895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xtienda el programa de adivinar un número para que lo haga en la cantidad de intentos que neces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C66-BE64-4508-856D-5D8DEE2B67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Rectángulo redondeado"/>
          <p:cNvSpPr/>
          <p:nvPr/>
        </p:nvSpPr>
        <p:spPr>
          <a:xfrm>
            <a:off x="1928880" y="2714760"/>
            <a:ext cx="671508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e pensado un número entre 1 y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e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Felicitaciones, has acertado en 15 int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Pedimos el primer inten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resto de los intentos aquí a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!=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has acertado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7FD-9C26-4E04-B868-B7BB84FF60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n este caso, el primer intento está dentro d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0,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acertaste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487-F81F-46DF-9C6C-A0EB3BEEC7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186-5FDE-49C3-969D-4751BA0C7D0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E6D-82DF-43C5-B361-67D3C249CB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 Recuerde que la fórmula del factorial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! = 1 * 2 * 3 * 4 * . . . * (n-1) *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ACA-7ED5-44F0-A3F5-98C19432A2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tación para incrementa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posible utilizar otra forma para incrementar o decrementar variabl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–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--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+=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- 3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-= 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A2D8-37A4-4A06-ACC6-81EAAFF017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5 Flecha derecha"/>
          <p:cNvSpPr/>
          <p:nvPr/>
        </p:nvSpPr>
        <p:spPr>
          <a:xfrm>
            <a:off x="3786120" y="3429000"/>
            <a:ext cx="121464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Flecha derecha"/>
          <p:cNvSpPr/>
          <p:nvPr/>
        </p:nvSpPr>
        <p:spPr>
          <a:xfrm>
            <a:off x="3786120" y="4357800"/>
            <a:ext cx="121464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7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C30-08DF-4946-8CB1-5817A6B1EC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 return tru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return fals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n % 2 == 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68A-79B8-4415-995F-23231E59F9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abo de pensar un número entre 1 y 1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a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ERTASTE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gt;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AY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EN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CCCF-96F0-4A23-AC4E-41AE95835B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Haga un programa que permita mostrar la raíz cuadrada de cada entero entre 1 y un número ingresado por el usuario. Use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No podemos hacerlo a la fuer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0549-0C15-4E18-A333-FFCAB80EE8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14760"/>
            <a:ext cx="671508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asta qué número cuent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) =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2) = 1.41421356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3) = 1.7320508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4) =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6) =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a necesario mientras se cumple la cond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evalúa la condición que se encuentra como parámetr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es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EF8-F512-4F19-9328-00070E55B4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Decisión"/>
          <p:cNvSpPr/>
          <p:nvPr/>
        </p:nvSpPr>
        <p:spPr>
          <a:xfrm>
            <a:off x="4143240" y="4643280"/>
            <a:ext cx="1714680" cy="71460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6 Rectángulo"/>
          <p:cNvSpPr/>
          <p:nvPr/>
        </p:nvSpPr>
        <p:spPr>
          <a:xfrm>
            <a:off x="4429080" y="5715000"/>
            <a:ext cx="114300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8 Conector angular"/>
          <p:cNvCxnSpPr>
            <a:endCxn id="590" idx="0"/>
          </p:cNvCxnSpPr>
          <p:nvPr/>
        </p:nvCxnSpPr>
        <p:spPr>
          <a:xfrm flipH="1" rot="16200000">
            <a:off x="4892760" y="4535640"/>
            <a:ext cx="21492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3" name="15 Conector angular"/>
          <p:cNvCxnSpPr>
            <a:stCxn id="590" idx="2"/>
            <a:endCxn id="591" idx="0"/>
          </p:cNvCxnSpPr>
          <p:nvPr/>
        </p:nvCxnSpPr>
        <p:spPr>
          <a:xfrm rot="5400000">
            <a:off x="4821480" y="5536080"/>
            <a:ext cx="357840" cy="1080"/>
          </a:xfrm>
          <a:prstGeom prst="bentConnector3">
            <a:avLst>
              <a:gd name="adj1" fmla="val 49949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4" name="18 Conector angular"/>
          <p:cNvCxnSpPr/>
          <p:nvPr/>
        </p:nvCxnSpPr>
        <p:spPr>
          <a:xfrm rot="5400000">
            <a:off x="4892760" y="6536520"/>
            <a:ext cx="21672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5" name="22 Forma"/>
          <p:cNvCxnSpPr>
            <a:stCxn id="590" idx="3"/>
          </p:cNvCxnSpPr>
          <p:nvPr/>
        </p:nvCxnSpPr>
        <p:spPr>
          <a:xfrm>
            <a:off x="5857560" y="5000760"/>
            <a:ext cx="572040" cy="14292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596" name="25 Conector recto"/>
          <p:cNvSpPr/>
          <p:nvPr/>
        </p:nvSpPr>
        <p:spPr>
          <a:xfrm flipH="1" flipV="1">
            <a:off x="5000760" y="6428880"/>
            <a:ext cx="14284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26 Rectángulo"/>
          <p:cNvSpPr/>
          <p:nvPr/>
        </p:nvSpPr>
        <p:spPr>
          <a:xfrm>
            <a:off x="4843440" y="525924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7 Rectángulo"/>
          <p:cNvSpPr/>
          <p:nvPr/>
        </p:nvSpPr>
        <p:spPr>
          <a:xfrm>
            <a:off x="5786280" y="457200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29 Conector angular"/>
          <p:cNvCxnSpPr>
            <a:stCxn id="591" idx="1"/>
            <a:endCxn id="590" idx="1"/>
          </p:cNvCxnSpPr>
          <p:nvPr/>
        </p:nvCxnSpPr>
        <p:spPr>
          <a:xfrm rot="10800000">
            <a:off x="4142520" y="5000040"/>
            <a:ext cx="286560" cy="1000800"/>
          </a:xfrm>
          <a:prstGeom prst="bentConnector3">
            <a:avLst>
              <a:gd name="adj1" fmla="val 30415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&lt;condicion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9B0-2192-4AC0-B7DE-F7B9BCF1B2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FEC1-A070-44E2-943D-1275D2F30B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FALSA desde un principi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ayor a 100, es probable que no alcance a contar nada e imprimir “SALIII!!!” en pantalla inmediatame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ICLOS CONDICIONA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170-1CFA-4FFC-B1EB-F5F9E83023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1T02:47:40Z</dcterms:modified>
  <cp:revision>73</cp:revision>
  <dc:subject/>
  <dc:title>CC1001 – Computación I Clase 0</dc:title>
</cp:coreProperties>
</file>