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8F82-6782-4E91-9BBF-0B864F388BC7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4731-1545-42B0-A4B4-FD993544B938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448-544C-44D0-9DD8-91AD2BD3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C0F-5DA8-4DD0-9B76-2F1B10D5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FDCD7-A5C9-4E46-8B91-A6480DD7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836D3-E6A3-4C51-8965-CE1AED93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C7609-BCCF-4DEA-9FEE-91868EC4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5C548-C065-466B-B2B9-8EB3D644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B768B-CE43-428A-8087-2DE41A64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E9391-F436-456C-BF0B-C31A348E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83F1B-6CAB-485C-B529-A1D5D9DA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85D2A-04A1-4C71-8D15-811EE6D0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BB277-4BD0-407D-A5CC-0FA796D4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1FEEA-9F7F-4402-A1BC-1ED1E25C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22D-0BAD-47D0-900E-CE03C0C7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33A91-1D5A-4BDD-AC13-DFF4A175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AC8D3-718F-4781-86D9-6DDA1306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889EC-1142-4163-9642-F4BAF9B5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04F3B-4F4F-4CFF-8CCB-7A4D9956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9305C-EF75-4644-99FF-C35C7C24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B713A-5561-477B-B5A3-D8412816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22B99-0F69-43EB-8154-86B0529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095A1-B69C-438C-94B5-07072B0B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E4C45-73ED-44CF-BD34-81E09309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7D51C-9807-41F8-878F-35BE5DD8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3E2-3422-4140-B922-3959DBD7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C178A-B727-41B4-AFBD-CF31C001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2AD61-722D-4367-AB8D-FBF26052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09B72-2666-4225-9AB9-9888D813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8BC23-9418-4434-ACBC-96CC6A65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9EBA8-17D8-4F87-91F7-BE5DC588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6F1EE-0A77-4CA2-9EF2-2DA9D405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BC0DB-6569-4B4E-BE08-96915424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DF421-20EE-4F57-B6AE-5B8E4856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9CA7F-CF08-40EA-99A6-467EB5A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C754C-5CB7-4565-AD7F-F0514FDB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8256-B257-46A8-98E3-B99DB7A9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9FAE4-7502-48E2-BF16-7F87C49B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A93D3-612D-41C6-A262-23185771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ED9E2-2BC2-4320-A61C-9BD20DBA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36CE4-3FAC-46F9-BF22-541FC2A6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0C7A1-889B-436A-980E-9C06F3BB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2BD16-5819-4C94-A4D7-9BB448DE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EB508-FE29-4102-B3C3-23091988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5E406-6C92-4FC1-885A-AA4D433D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4DF8B-8F50-4EF1-A1CD-218412FB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4B108-FD03-438B-8A66-8198410F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6E56-849B-4F56-8D0B-285DC180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B35C3-3D32-4C8F-811E-C6895839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E014E-D7DF-46AA-B42F-60D158AF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9971B-0686-4859-9572-A33EBB60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684A0-A6A5-4976-A445-1BA1CFA7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467F8-9CFD-4615-94FC-A1E17D52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0938-D07B-4B6F-B3B1-CB4A95C4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CCD0-13E5-47F4-8BBE-23CC841C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9C71-6757-47F1-8168-80E2FEC8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78A6-C81E-4418-B984-32E1040E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FC36-7C2F-48DF-A222-EDD41C7C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CF9-5BAF-49CB-9BDB-3B33D62A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0F66-D789-45B7-8F15-E714B0AA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436E-D278-4C5B-9D99-108A2EC9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69C6-7720-41A7-B94B-5E08C2A3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E138-4AB4-4EED-9FA8-5FF873AA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E82A-FD7E-45B9-88CD-2433A375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45B0-3318-491B-A1E8-347B3ABE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63B9-70BB-4A87-A7B8-6F5DD474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1482-217B-4FBA-AADB-152F89A8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D378-14D2-4C2D-A191-14CDB597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65C9-FDA3-412A-BA0E-F6F2BC71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523-5BCA-462F-BE89-C201AFA7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CE893-0889-4516-9119-8EBA0291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3290-CA00-4039-AB27-932D2436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F5CB-325F-4312-886E-2E7DED2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540F2-68A3-4912-98E6-358A1B7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71AD-F68D-470D-9558-8A2EA75F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F301-D27A-4ECC-8754-69713C2D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0E39-0907-4118-9FB9-DF459532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38C0-0EB8-4C09-8696-443A3153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60F6-2B27-42CB-A77D-A6D7B6B3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F60C8-4D38-4F79-8AF1-01F4A623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409-E9BC-43F8-8F83-30CA4A92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B9D5C-0AE9-4724-B931-2650EBBB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54E7-E8DB-43AD-9AD2-603124AE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B210-F439-4818-959F-9B1A6362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85B99-A2BD-4D2A-894E-7DB31AEF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7032-3675-4120-8C99-C88288E9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F168-5793-405A-AE30-D460721B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6BD7-FD7D-4928-984B-99AADB0E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8A57-51D1-496B-B945-664934BA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636ED-A090-48F6-B882-D07A8575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1B3FF-8AF4-4C3F-B42D-57856853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8F9-53B4-484D-995E-6D1D59A3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4E888-EFCC-41D0-93B4-01DA1645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874CB-FB6C-418B-8046-9F3FA522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3D867-5C1F-434F-B27E-1A25E89E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53DAB-EF02-4A1C-88A2-3D2E63CC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4EA75-0D0E-4FE6-8BCF-6AE58F09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D784E-C63F-4ED9-9291-3ED80598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4ABD5-62F4-4FF1-A5CB-119B9F6D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C8E31-D801-4B54-9FF4-1FF40815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AC9BD-8534-4A53-B759-1D7E690D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C80FA-3AF9-494E-82FC-7061C0BF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4C7-C69F-43AF-AB71-3E575163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1AE9-01B7-4B1D-B62E-A0A775CD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331F7-9899-4E8D-9067-2566B8B0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DD98E-E559-4155-8FE4-F0672B41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BF370-2E21-4E7A-986E-4ABEF94F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E577D-358F-4B6C-A635-4A7CCDDD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DB97C-22C0-417F-96BE-BE831A38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1566E-481C-468D-BDF4-484BD206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555DB-CC8C-4796-925A-A572FA6D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2AA43-CD95-463E-B941-1A48E3BF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C2B2C-F86B-4F17-9F5D-5A8EB08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9E6-877D-424B-BC32-5C7173F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BB631-F6AB-4878-9BB7-7F40D6D5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279FE-1FF9-4169-9F2B-8D91001C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DA717-C7B5-4BB2-8416-6B4ECA57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7EBF2-B553-4AA0-8502-C6A6E15B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89EF1-B6B6-49AE-AC60-8F84F2CB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D0FA1-D264-4C8B-B67A-DE8C9C34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DF238-56E5-4700-9F56-D1F95F83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14B82-788B-41B3-979C-845042A1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9A3B8-2615-484F-A26B-F579087E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20854-1EEB-4FF2-A3E5-658F399D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4A3-D384-4D46-ADE5-EAD07A5A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C10C8-4A18-4C85-9AE0-B4E57367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0D6E4-CC3A-4B2E-8F5B-F0716DF8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E8470-2F76-4B62-A6DB-50D1F45C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CA9E-5D5E-46D2-A2F8-BB9BE1B9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9BCE9-E10E-4A81-A27F-3C68537D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B56CC-616A-402D-9EB4-9822B549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C2FB7-869F-4D48-A971-FD636CCC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CE248-2720-41E1-9416-B80AFF78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0EF0E-2CD6-4505-AF43-6E4C29C8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7E8F4-BC3F-40BE-9301-9DE7EE1E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9E3-B93B-4C79-AC7A-1D80E88A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9DA25-41A1-4F58-8C95-6F67BA46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A8BEE-101C-434A-A843-06431627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540D4-B536-4306-95AB-2326658D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47CB-723C-455C-AF92-59F64557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BB043-A9F9-470C-AA1C-9331586F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51E40-0C4F-4AF4-9F33-7424BFB7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93C0B-D721-4D09-81B2-BF57F25D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3DF36-C55C-44F7-8FAC-26734D20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17F49-1AFF-4E47-8DAC-15F07406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DFFFC-B729-4F44-9C47-F6127371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3FC0-1973-4868-BB67-6FF6CEC2497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7589-4299-4F6C-96E9-9262F5592AA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D06A-1F31-45D8-84AA-4EBA74F984E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6EE7-41F0-416D-972E-44DD874F3CC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1F47-CBCE-48D6-9B43-6A046575D7F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02B4-2225-48B8-AD72-7BBD30E5D4C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F439-5367-4BD4-8CCB-6D745095141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45C6-2D06-4AEA-B33A-7A546DF3884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BAD5-4707-41E5-80D9-D7B1A354342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ACC5-5CBE-4B0D-B61A-77B6A590D92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A785-B78E-45BA-BC37-CDB9BCB0AE4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6D1E-8DBA-4800-98C0-B22846FDF07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15EC-E055-40EF-973F-2792769596D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AF6A-AA7B-4900-A83B-1D437D2910C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6AAF-7E1B-4AC3-9C94-D2B79D8F9FA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5593-63E2-4F2E-B39C-7CE72CE2A14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5DA1-34D4-4AB0-B6D3-1AEA6853A82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1526-DFCB-4565-8BA3-12974D58DC9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367D-F2B9-4690-BE0B-6AF919E11F0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3288-A925-4ACB-A6C4-99E3EB11C29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916B-6642-47D4-BB26-0E1CBC9E1DC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EAF8-5568-4234-AFFB-3385371DEC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D242-A2AF-41D1-8633-DDE015D86ED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532E-8986-4824-B356-5782136D30C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16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D375-2BD9-45AB-9557-BCB5F7C92CD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presiones lógicas de comparación, simples o compuestas, que devuelven un valor de verdad (VERDADERO o FALS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ipos de Condicion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dición Simple: Comparación de 2 expres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dición Compuesta: Composición de condiciones con operadores lógicos (AND/OR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CE5F-5855-4DC1-905D-781502876E8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Si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uar expresiones que componen la cond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arar los resultados de las expres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se cumple la condición, entregar un valor VERDADE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no se cumple la condición, entregar un valor FAL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&lt;expresión&gt; &lt;operador-de-comparacion&gt; &lt;expresión&g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ón&gt;:  Expresión aritmética (como ya hemos definido anteriomente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operador-de-comparacion&gt;: Operador lógico que permite comparar si la expresión de la izquierda es mayor que (&gt;), menor que (&lt;), mayor o igual que (&gt;=), menor o igual que (&lt;=), igual que (==), o distinto que (!=) la expresión de la derech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0A44-FEDB-4306-BF82-FC67EE8A8D1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Simpl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a &lt;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 es NEGA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 es POSI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(Math.pow(a, 2) + Math.pow(b, 2)) == Math.pow(c, 2)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, b y c cumple con el teorema de pitágora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Me estás engañando? Prueba de nue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4240-5D97-4C9E-8F9E-8FB7B4CECF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Compues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uar expresiones que componen cada cond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arar los resultados de las expresiones y operarlos lógicamente con los operadores devolviendo el valor ya oper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&lt;condición&gt; &lt;operador-lógico&gt; &lt;condición&gt; 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 Expresión que retorna un valor de verda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operador-lógico&gt;: Operador que permite unir valores de verdad según las reglas de álgebra. Con ellos se utilizan la conjunción AND (&amp;&amp;), disjunción OR (||) y negación NOT (!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amp;&amp;” y “||” son binarios, “!” es un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3181-755E-4290-8C44-A4A651DB27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Compuesta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1 &amp;&amp; c2: VERDADERO si ambos son VERDADER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1 || c2: VERDADERO si alguno es VERDADER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!c1: FALSO si es VERDADER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70800" indent="-17856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:  c2 se evalúa solo si es necesar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645C-B76A-488C-BE47-8D70E315E97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2000160" y="3429000"/>
          <a:ext cx="6096240" cy="185436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1571400"/>
                <a:gridCol w="159084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!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SE es opcion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entero positivo: 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&lt;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Me quieres engañar? n es nega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646F-8870-4CC5-A598-6E586BE7210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os bloques no necesitan las llaves si solo se acompañan por una instruc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número divisible por 2: 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% 2 == 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i, ese sirve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o, ese no sirve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354-441E-4E26-A22F-3835B120891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s sentencias son anidab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Ingresa dos números mayores que 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a = U.readInt(“a: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b = U.readInt(“b: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a &gt;=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b &gt;=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on positiv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 x b = “ + (a * b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29F3-8102-4E99-A394-7F697BDCC03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 puede simular un selec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número: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&gt; 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posi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n == 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cer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negativ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8689-E559-48D4-8B36-F938FF31191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5 Rectángulo"/>
          <p:cNvSpPr/>
          <p:nvPr/>
        </p:nvSpPr>
        <p:spPr>
          <a:xfrm>
            <a:off x="5500800" y="3429000"/>
            <a:ext cx="3357360" cy="1643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if (n &gt;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U.println(“Es positiv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if (n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U.println(“Es cer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U.println(“Es negativ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6 Flecha a la derecha con bandas"/>
          <p:cNvSpPr/>
          <p:nvPr/>
        </p:nvSpPr>
        <p:spPr>
          <a:xfrm>
            <a:off x="4643280" y="3929040"/>
            <a:ext cx="785880" cy="57168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42848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rioridad de los Operad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1º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+, -, !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Unari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(tipo)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s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3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*, /, %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Multiplica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4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+, -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di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5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&gt;, &lt;, &gt;=, &lt;=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6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==, !=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7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&amp;&amp;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jun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8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||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isjun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D0E0-0A18-4D69-95F4-5C254F22E1C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8 Trapecio"/>
          <p:cNvSpPr/>
          <p:nvPr/>
        </p:nvSpPr>
        <p:spPr>
          <a:xfrm rot="10800000">
            <a:off x="6428880" y="2285640"/>
            <a:ext cx="2357640" cy="2786040"/>
          </a:xfrm>
          <a:prstGeom prst="pie">
            <a:avLst/>
          </a:prstGeom>
          <a:solidFill>
            <a:srgbClr val="d4ebf1"/>
          </a:solidFill>
          <a:ln w="25560">
            <a:solidFill>
              <a:srgbClr val="d4eb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9 Combinar"/>
          <p:cNvSpPr/>
          <p:nvPr/>
        </p:nvSpPr>
        <p:spPr>
          <a:xfrm>
            <a:off x="7215120" y="5072040"/>
            <a:ext cx="785880" cy="642960"/>
          </a:xfrm>
          <a:prstGeom prst="flowChartMerge">
            <a:avLst/>
          </a:prstGeom>
          <a:solidFill>
            <a:srgbClr val="d4ebf1"/>
          </a:solidFill>
          <a:ln w="25560">
            <a:solidFill>
              <a:srgbClr val="d4eb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BFCF-4BE7-4B9D-AABA-565025E8BA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42848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n boolean es un tipo de dato de 1 bit que permite almacenar un valor de verdad (VERDADERO o FALSO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“Ingresa un númer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boolean positivo = (n &gt;= 0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ERDADERO si es positivo o 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 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FALSO si es negativ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ositivo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posi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nega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4933-295E-41DB-8995-291D5999A85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42848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 a la Motivación (con IF)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gt; y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3 a la Motivación (avanzada)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(x&gt;y?x:y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ersión abreviada del IF...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=&gt; if (x&gt;y) return x; else return 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C3AD-C90E-4BBF-A304-BC92C6C077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scribir un programa que calcule la nota final de CC1001 sin examen a partir de las notas de los 3 controles a través del siguiente diálog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06000" indent="-1695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la parte final, el programa debe indicar si el alumno está reprobado (&lt; 4.0), debe dar examen (≥ 4.0 y &lt; 5.5) o si se encuentra eximido del examen (≥ 5.5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1EAB-B5B5-4953-9C2B-1F1A6375387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5 Rectángulo redondeado"/>
          <p:cNvSpPr/>
          <p:nvPr/>
        </p:nvSpPr>
        <p:spPr>
          <a:xfrm>
            <a:off x="1928880" y="2786040"/>
            <a:ext cx="6715080" cy="214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e las Notas de los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1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2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3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ota Final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El alumno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 La tradi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Ingrese las Notas de los Controle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c1 = U.readDouble(“C1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2 = U.readDouble(“C2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3 = U.readDouble(“C3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(c1 + c2 + c3) / 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ota Final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lt; 4.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Reprobad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gt;= 4.0 &amp;&amp; promedio &lt; 5.5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Debe dar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gt;= 5.5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ximido del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35A2-88EB-4397-B8B6-3A41205A076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 La elega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Ingrese las Notas de los Controle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c1 = U.readDouble(“C1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2 = U.readDouble(“C2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3 = U.readDouble(“C3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(c1 + c2 + c3) / 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ota Final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lt; 4.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Reprobad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promedio &lt; 5.5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Debe dar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ximido del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188D-5D91-419E-A4B8-ACC34A561C1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a una función que dado un número entero por parámetro ésta le indique con un VERDADERO si el número es par o FALSO si no lo 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a un programa que elija un número al azar entre 1 y 10 al azar y que le pida al usuario que lo adivine al primer intento. Si el número ingresado coincide, debe escribir: “ACERTASTE!”, si no, debe decir si el número elegido es “MAYOR” al del usuario o “MENOR” al del usuario. </a:t>
            </a: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Indicación: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Puede usar la función U.azar(x, y) para obtener un número al azar entre x e 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7C3-B62B-4C6C-AA6B-1F088AD7464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96" name="2 Marcador de contenido" descr=""/>
          <p:cNvPicPr/>
          <p:nvPr/>
        </p:nvPicPr>
        <p:blipFill>
          <a:blip r:embed="rId2"/>
          <a:stretch/>
        </p:blipFill>
        <p:spPr>
          <a:xfrm>
            <a:off x="1427040" y="1384200"/>
            <a:ext cx="7515360" cy="4870440"/>
          </a:xfrm>
          <a:prstGeom prst="rect">
            <a:avLst/>
          </a:prstGeom>
          <a:ln w="0">
            <a:noFill/>
          </a:ln>
        </p:spPr>
      </p:pic>
      <p:sp>
        <p:nvSpPr>
          <p:cNvPr id="69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A94E-3EDF-41FC-BFBB-D74896150E4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5 Flecha a la derecha con bandas"/>
          <p:cNvSpPr/>
          <p:nvPr/>
        </p:nvSpPr>
        <p:spPr>
          <a:xfrm>
            <a:off x="4286160" y="3071880"/>
            <a:ext cx="928800" cy="71424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1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702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8A0E-CA83-4A79-94B7-230C64FB912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Ordenar 4 números generados al azar. Como indicación, recuerde que puede ordenar 3 y luego encontrar la posición del cuar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83760" indent="-1803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Ordenar 4 números enter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1 = U.azar(1, 100), n2 = U.azar(1, 100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3 = U.azar(1, 100), n4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úmeros = “ + n1 + “ “ + n2 + “ “ + n3 + “ “ + n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Buscamos el orden entre 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enor = U.menor(n1, n2, n3)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edio = U.medio(n1, n2, n3)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ayor = U.mayor(n1, n2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5800-F904-4BDB-B84A-F68211AC4CA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hora buscamos donde poner el cuar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1, m2, m3, m4, au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1 = Math.min(menor, n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aux = Math.max(menor, n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2 = Math.min(aux, 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aux = Math.max(aux, 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3 = Math.min(aux, mayor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4 = Math.max(aux, mayor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Ordenados = “ + m1 + “ “ + m2 + “ “ + m3 + “ “ + m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E55C-4130-48ED-9F39-7F3A051A29F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a una función que reciba dos parámetros (x, n) y obtenga la raíz n-ésima de x. Recuerde que la fórmula de la raíz 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√ x  =  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1/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raizN (double x, double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ath.pow(x, 1.0 / n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801A-F58E-4682-BE99-D7DB09A3A17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5 Conector recto"/>
          <p:cNvSpPr/>
          <p:nvPr/>
        </p:nvSpPr>
        <p:spPr>
          <a:xfrm>
            <a:off x="4915080" y="267336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Escribir un método (función) que entregue el mayor de dos números pero sin utilizar la función Math.max de la librería matemáti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static public </a:t>
            </a:r>
            <a:r>
              <a:rPr b="1" lang="es-ES" sz="1800" spc="-1" strike="noStrike">
                <a:solidFill>
                  <a:srgbClr val="000000"/>
                </a:solidFill>
                <a:latin typeface="Consolas"/>
              </a:rPr>
              <a:t>double</a:t>
            </a: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nsolas"/>
              </a:rPr>
              <a:t>maximo</a:t>
            </a: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1" lang="es-ES" sz="1800" spc="-1" strike="noStrike">
                <a:solidFill>
                  <a:srgbClr val="000000"/>
                </a:solidFill>
                <a:latin typeface="Consolas"/>
              </a:rPr>
              <a:t>double x, double y</a:t>
            </a: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 MT"/>
              </a:rPr>
              <a:t>Firma de un méto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0696-8DA8-41E1-A445-C08996B005F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Cerrar llave"/>
          <p:cNvSpPr/>
          <p:nvPr/>
        </p:nvSpPr>
        <p:spPr>
          <a:xfrm rot="5400000">
            <a:off x="5035680" y="1276920"/>
            <a:ext cx="285840" cy="607212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6072120"/>
              <a:gd name="textAreaBottom" fmla="*/ 6064920 h 607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"/>
                  <a:pt x="10800" y="85"/>
                </a:cubicBezTo>
                <a:lnTo>
                  <a:pt x="10800" y="10715"/>
                </a:lnTo>
                <a:cubicBezTo>
                  <a:pt x="10800" y="10758"/>
                  <a:pt x="16200" y="10800"/>
                  <a:pt x="21600" y="10800"/>
                </a:cubicBezTo>
                <a:cubicBezTo>
                  <a:pt x="16200" y="10800"/>
                  <a:pt x="10800" y="10843"/>
                  <a:pt x="10800" y="10885"/>
                </a:cubicBezTo>
                <a:lnTo>
                  <a:pt x="10800" y="21515"/>
                </a:lnTo>
                <a:cubicBezTo>
                  <a:pt x="10800" y="215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 (rebuscada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Versión “a la fuerza”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return (x + y) / 2 + Math.abs(x – y) / 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Versión “factorizada”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return (x + y + Math.abs(x – y)) / 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 MT"/>
              </a:rPr>
              <a:t>¿Habrá otra forma más “óptima” de realizarla?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FAFE-4872-4890-8973-B17E0B24AD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7 Conector recto"/>
          <p:cNvSpPr/>
          <p:nvPr/>
        </p:nvSpPr>
        <p:spPr>
          <a:xfrm>
            <a:off x="3429000" y="2500200"/>
            <a:ext cx="350028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8 Rectángulo"/>
          <p:cNvSpPr/>
          <p:nvPr/>
        </p:nvSpPr>
        <p:spPr>
          <a:xfrm>
            <a:off x="321480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10 Rectángulo"/>
          <p:cNvSpPr/>
          <p:nvPr/>
        </p:nvSpPr>
        <p:spPr>
          <a:xfrm>
            <a:off x="671508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12 Conector recto"/>
          <p:cNvSpPr/>
          <p:nvPr/>
        </p:nvSpPr>
        <p:spPr>
          <a:xfrm flipH="1">
            <a:off x="3427560" y="235728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13 Conector recto"/>
          <p:cNvSpPr/>
          <p:nvPr/>
        </p:nvSpPr>
        <p:spPr>
          <a:xfrm flipH="1">
            <a:off x="6928920" y="2357280"/>
            <a:ext cx="180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14 Conector recto"/>
          <p:cNvSpPr/>
          <p:nvPr/>
        </p:nvSpPr>
        <p:spPr>
          <a:xfrm flipH="1">
            <a:off x="5186520" y="235728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15 Rectángulo"/>
          <p:cNvSpPr/>
          <p:nvPr/>
        </p:nvSpPr>
        <p:spPr>
          <a:xfrm>
            <a:off x="4759200" y="2643120"/>
            <a:ext cx="85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x+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7 Conector recto"/>
          <p:cNvSpPr/>
          <p:nvPr/>
        </p:nvSpPr>
        <p:spPr>
          <a:xfrm>
            <a:off x="4929120" y="288432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18 Cerrar llave"/>
          <p:cNvSpPr/>
          <p:nvPr/>
        </p:nvSpPr>
        <p:spPr>
          <a:xfrm rot="16200000">
            <a:off x="5107680" y="535320"/>
            <a:ext cx="142920" cy="3357720"/>
          </a:xfrm>
          <a:custGeom>
            <a:avLst/>
            <a:gdLst>
              <a:gd name="textAreaLeft" fmla="*/ 0 w 142920"/>
              <a:gd name="textAreaRight" fmla="*/ 51480 w 142920"/>
              <a:gd name="textAreaTop" fmla="*/ 3600 h 3357720"/>
              <a:gd name="textAreaBottom" fmla="*/ 3354120 h 335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"/>
                  <a:pt x="10800" y="77"/>
                </a:cubicBezTo>
                <a:lnTo>
                  <a:pt x="10800" y="10723"/>
                </a:lnTo>
                <a:cubicBezTo>
                  <a:pt x="10800" y="10762"/>
                  <a:pt x="16200" y="10800"/>
                  <a:pt x="21600" y="10800"/>
                </a:cubicBezTo>
                <a:cubicBezTo>
                  <a:pt x="16200" y="10800"/>
                  <a:pt x="10800" y="10839"/>
                  <a:pt x="10800" y="10877"/>
                </a:cubicBezTo>
                <a:lnTo>
                  <a:pt x="10800" y="21523"/>
                </a:lnTo>
                <a:cubicBezTo>
                  <a:pt x="10800" y="215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9 Rectángulo"/>
          <p:cNvSpPr/>
          <p:nvPr/>
        </p:nvSpPr>
        <p:spPr>
          <a:xfrm>
            <a:off x="4786200" y="1714680"/>
            <a:ext cx="85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|x-y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strucción IF…EL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: Sentencias que nos permiten discriminar qué código utilizar dependiendo de un valor de verda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condic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la condición es VERDADERA, ejecutar bloque de instrucciones 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la condición es FALSA, ejecutar bloque de instrucciones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Gráficamente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3D0E-96D0-42A2-B677-CB30E5F6363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6 Conector recto de flecha"/>
          <p:cNvCxnSpPr/>
          <p:nvPr/>
        </p:nvCxnSpPr>
        <p:spPr>
          <a:xfrm flipH="1">
            <a:off x="4744800" y="3859200"/>
            <a:ext cx="2160" cy="357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610" name="7 Decisión"/>
          <p:cNvSpPr/>
          <p:nvPr/>
        </p:nvSpPr>
        <p:spPr>
          <a:xfrm>
            <a:off x="3786120" y="4214880"/>
            <a:ext cx="1928880" cy="714240"/>
          </a:xfrm>
          <a:prstGeom prst="flowChartDecision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n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9 Rectángulo"/>
          <p:cNvSpPr/>
          <p:nvPr/>
        </p:nvSpPr>
        <p:spPr>
          <a:xfrm>
            <a:off x="2857680" y="5072040"/>
            <a:ext cx="121428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Bloqu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10 Rectángulo"/>
          <p:cNvSpPr/>
          <p:nvPr/>
        </p:nvSpPr>
        <p:spPr>
          <a:xfrm>
            <a:off x="5429160" y="5072040"/>
            <a:ext cx="121464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Bloqu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17 Conector angular"/>
          <p:cNvCxnSpPr>
            <a:stCxn id="610" idx="1"/>
            <a:endCxn id="611" idx="0"/>
          </p:cNvCxnSpPr>
          <p:nvPr/>
        </p:nvCxnSpPr>
        <p:spPr>
          <a:xfrm flipV="1" rot="10800000">
            <a:off x="3463200" y="4570920"/>
            <a:ext cx="322920" cy="500760"/>
          </a:xfrm>
          <a:prstGeom prst="bentConnector2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614" name="23 Forma"/>
          <p:cNvCxnSpPr>
            <a:stCxn id="610" idx="3"/>
            <a:endCxn id="612" idx="0"/>
          </p:cNvCxnSpPr>
          <p:nvPr/>
        </p:nvCxnSpPr>
        <p:spPr>
          <a:xfrm>
            <a:off x="5714640" y="4571640"/>
            <a:ext cx="322920" cy="500760"/>
          </a:xfrm>
          <a:prstGeom prst="bentConnector2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615" name="27 Conector recto de flecha"/>
          <p:cNvCxnSpPr/>
          <p:nvPr/>
        </p:nvCxnSpPr>
        <p:spPr>
          <a:xfrm flipH="1">
            <a:off x="4757400" y="6000840"/>
            <a:ext cx="216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616" name="29 Forma"/>
          <p:cNvCxnSpPr>
            <a:stCxn id="611" idx="2"/>
          </p:cNvCxnSpPr>
          <p:nvPr/>
        </p:nvCxnSpPr>
        <p:spPr>
          <a:xfrm flipH="1" rot="16200000">
            <a:off x="3945600" y="5160960"/>
            <a:ext cx="357840" cy="1323000"/>
          </a:xfrm>
          <a:prstGeom prst="bentConnector2">
            <a:avLst/>
          </a:prstGeom>
          <a:ln w="9360">
            <a:solidFill>
              <a:srgbClr val="3891a7"/>
            </a:solidFill>
            <a:miter/>
          </a:ln>
        </p:spPr>
      </p:cxnSp>
      <p:cxnSp>
        <p:nvCxnSpPr>
          <p:cNvPr id="617" name="31 Forma"/>
          <p:cNvCxnSpPr>
            <a:stCxn id="612" idx="2"/>
          </p:cNvCxnSpPr>
          <p:nvPr/>
        </p:nvCxnSpPr>
        <p:spPr>
          <a:xfrm rot="5400000">
            <a:off x="5196600" y="5160960"/>
            <a:ext cx="357840" cy="1323000"/>
          </a:xfrm>
          <a:prstGeom prst="bentConnector2">
            <a:avLst/>
          </a:prstGeom>
          <a:ln w="9360">
            <a:solidFill>
              <a:srgbClr val="3891a7"/>
            </a:solidFill>
            <a:miter/>
          </a:ln>
        </p:spPr>
      </p:cxnSp>
      <p:sp>
        <p:nvSpPr>
          <p:cNvPr id="618" name="32 Rectángulo"/>
          <p:cNvSpPr/>
          <p:nvPr/>
        </p:nvSpPr>
        <p:spPr>
          <a:xfrm>
            <a:off x="2714760" y="421488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Verdad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33 Rectángulo"/>
          <p:cNvSpPr/>
          <p:nvPr/>
        </p:nvSpPr>
        <p:spPr>
          <a:xfrm>
            <a:off x="5572080" y="421488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F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strucción IF…ELSE (co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&lt;condicion&gt;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bloque 1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bloque 2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Una o más expresiones de comparación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bloque n&gt;: Secuencia de instrucciones que se ejecutan en forma discriminad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EBAE-E80E-4A5C-B486-7A897AA756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16T13:58:48Z</dcterms:modified>
  <cp:revision>76</cp:revision>
  <dc:subject/>
  <dc:title>CC1001 – Computación I Clase 0</dc:title>
</cp:coreProperties>
</file>