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A93-B227-44AE-954F-4EE9CDC395BE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919B-046F-47C4-8285-F114CD8C5CAA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6F5-4C72-4DAB-8775-CEEABF56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837-EB59-4B19-918C-0F670786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4BD2B-4EAF-4357-A656-F180CDE2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A4FF4-7970-406E-9D4A-AEA4E287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4B0D4-20DE-4085-ABC6-12F934F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B1315-DB0C-4BE1-9702-3F3CFCF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19449-D7A6-4798-8521-29B1AC5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F5B8A-F966-412A-A1E8-7F80F3A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2FC60-89AD-4AFE-ADA7-603EBC66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4434-DE97-4E47-8F12-BCD49019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701B1-86DE-4E0C-A22B-92703CE9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C3BB7-0805-45E7-B9E0-26F8D33F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CDD-7B7E-45F4-84A5-F70BAE4F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D38C8-411B-4434-B0B4-6F99EFF8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1D610-413E-4753-87D5-DCDF7FE4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6C543-5633-4BB1-9AD6-2B115E72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96387-0DFA-408D-8C06-A6BC0A4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B245B-F985-4B3E-95D8-F7FE5353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561ED-B543-41BE-91C2-689B9C8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3533B-607B-4338-8266-DB88D2D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15184-291E-4C8A-941B-1A77133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737A0-782D-4A0C-8757-810D6AEC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3E0AF-BB2C-4B96-8500-36D4A449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959-3831-4C19-BC72-44429FBB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74E5F-0952-460B-934F-DE1C634A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2C36A-A88C-4281-8097-340AE81B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A20C9-D53E-4A8A-AA7D-45D0C8D2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34ADF-300E-460A-8662-730E834B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A970F-F322-48F9-B72C-7BE17DFA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C9768-872A-4E3F-97D8-29F111C4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7F6C7-276E-4564-A91E-55707084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00D61-BE6C-4BD8-AFD0-A60374B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F25C4-0B84-4C9F-9E9F-C081DA6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1382-3C88-499B-953B-8E2317A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640B-5ED2-43BA-9F17-EEBDB894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8EFA-44E9-4FBC-B763-20D9D673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7AB8B-704D-4EEF-AE60-AF747777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28BF-3D22-4CBE-9712-033B4D59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F6AE3-F027-4AB2-B7F6-23C20DD6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3C501-A635-4821-BCCE-8E72AAB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177E7-AB1A-4DBE-923A-5C2B3215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2C0D0-9718-4C49-9832-E61B921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83A6D-2472-4AE4-AA3A-2FE1E75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69906-4107-4433-8709-478F88DE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6FFFE-D0A1-4AC4-9A95-802A47B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1D69-192A-43B9-B4C3-CA254FBD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E3280-C067-405D-B051-E89E035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A46DF-F17F-42E4-9D3A-ECBAFC45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929A0-9E67-4B65-9DEB-DAAEB3B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018E8-B2D0-44B4-B1C3-2AB77850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C597D-84F6-4C5E-9DEA-37939738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9723-792B-4C9F-BF4D-95B017B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4A33-4FD8-4AAF-9004-59040203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6395-7995-43FD-BE5E-D286D9F9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9F7A-0478-4793-A7F8-11EC764D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AE0-5D18-446D-8157-F96DE00E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90B-D730-4ADF-B5CD-52B4254F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E88F-2A90-4B86-8BEB-5BC1B07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F79-F36F-4D0C-A2EA-21EB51C9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E182-A09B-4386-BB4A-F57DF2F7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BC5-617B-47E3-B425-80EA61F3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DB16-8736-49CF-AF89-364C24F4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9832-6C07-4675-9DE5-9E784E39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4D75-2E8B-48CF-8E19-01BF8FDB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9FD1-55AC-48C2-95DD-619655CC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D063-E32A-4BCA-8566-2B4ACC07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FEB8-338B-42A0-B0D5-FAF8059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540-6B61-407C-A522-766D8350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DC35-AF12-4972-985E-32AF3CAD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85FC-513A-4C0A-AC5A-029DDBC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6105-B632-46EF-80A9-B231806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9B33-C796-4B38-A11A-A219112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46FC-26CB-4CED-822F-A6DA754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28F6-6C2E-4B91-B791-5EBD5CE2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E45A-1125-47E6-92F6-6EF95ECC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548B-1E2A-42C4-A40D-DD520D1C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ED4E-F13A-4159-992E-FC763902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2B81-9A75-4615-8732-0DB5A5F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C06-B96E-48BD-B3E6-95DEB4B6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5B9A-651E-468A-AF43-CD87D4B8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41453-39BB-435F-A461-CF69740F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2FA0-FCCC-44D3-9F35-E5CE8AAC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BFB3-A272-4521-BEC2-934731F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0538-1F04-4691-B161-C11D43E1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36F2-3CF0-4F43-BA99-ACAADF6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B935-69C5-4FB3-8262-0D71C47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CBA24-C8CC-43D3-8C13-A07DEEDA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261D-F82C-45C4-8366-C7D0A105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D085-3461-4136-B753-9A297577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632-89D8-42DB-9D31-737B1F9D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19221-FCE0-4D6E-B178-F642111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85FB-084B-4BDC-9CBB-AC9C79AE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E8DB-C021-4261-B023-A6B1B73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BAFF-8260-43D8-B6E2-31D1331F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E09BA-73E6-4C94-93F2-8CC3F38F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145DE-6FEC-478F-AC3B-2D55EF00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985B7-6DAA-471E-B67C-974233B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A3BD-12D6-4E7C-9240-DF002C9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EBF5-B6C8-43A6-9AF8-EABAA2F0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075B-BE8D-4AE5-9B0C-D715D802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8D6-8531-4985-882B-DF92935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F8A65-D7C8-4B4B-91B2-1951C1BA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E12B-797F-4120-90E8-F569B41C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91AA1-3B88-4822-9BD1-CA4E7AAA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B75F-3734-4F3A-A5B4-5ADAE57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D27A-0D56-48A4-82FC-B7EB76F5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75074-2C94-4951-8386-03D43283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A22C-C8A6-455A-89E4-B732BCAA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7D400-98D5-4C79-AD15-C6AD1BC3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A772D-C781-4142-9C39-2F531967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EC16-0DA1-48E0-A0F7-63D5BD9E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4D4-B32F-4B1B-A051-F73B149D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D0F8-20F4-409F-BBBE-9003A016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B628-A556-4EF8-A4EF-150529F6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BFF7C-E8F2-4E85-AC03-E78C1F45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A080-7324-405A-89F6-5733DE1D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C2E8-38EF-45CE-9E9F-BF6DB3A8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7BE63-51D8-4B74-A0A3-067A39E1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BA859-06D5-4AEC-8D6F-8C09F192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2406B-28B2-4C58-829C-C671D98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0651-5A43-408A-9289-AC38F64C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7E7E-8B0C-4940-BE72-3BAD388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203-B078-47A1-B8B8-26EFD2F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E2D74-0CAB-4E04-9018-1A93D6C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7ABD-36F6-4E56-B504-50901EF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0D456-302B-429B-9CC8-1F93039D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9888E-BDE2-4B1F-8918-0098A99D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DCB51-C08D-458E-9546-E7BA5A4A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28F8-7370-4489-8EF0-3BD134F2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6799B-68C6-44C1-BA6A-32A2BB15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D611C-5259-466A-AA08-1DB79467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24F8-CF28-4ED1-88DF-3C17CF7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07E5-02DE-416B-A4A9-B636E27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9E1-0926-4EFC-8EE6-144ECF6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602B-8A81-4FC2-B585-BE787E73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8DB57-BBF4-4C1B-A650-FD8B4A8C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313FB-033E-46F5-92EF-B3DB951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5EFC0-65DB-4B36-B2DE-C6440EF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5BF77-6007-4B4F-95F6-381A164F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8507-D458-467F-BACC-2F58798F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6E904-D218-4AF3-B206-01D05C0B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6DD50-2C19-4C79-AB47-52BA1924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B95C0-872C-4AA6-81E7-CCF1591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BDC70-00E0-418D-A845-13A899AA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62F-49C2-4D77-AC9F-2CFA38E9E3E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2438-677B-4E68-BD20-3EC9B189DE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780-C425-42BE-887F-3BF227E3AA8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3527-2192-4D5D-B22A-64EC546B72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586-7A8C-41BE-A46A-19BE858DC1B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A1B6-D4E9-4E18-8767-C62C0A6704A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DAD-99D6-4E95-A928-86E2BAF5F1C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36C8-D883-49C9-88E7-CBCBCF5F21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6F5D-F823-4160-A3B3-71152AEDC16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E43-465F-48BE-A1B8-52B01E36081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E442-1E5B-46A9-B71F-989B2A2F7B8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1A54-160D-42C8-9897-A656085B1CD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C0FC-76E1-48B0-B575-CF055F923BC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8CF4-8EED-43D8-B4EE-87AAD72C31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6F5-0D49-47B6-B79B-55332B505CA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A544-EE71-4571-AED9-1D74041AE2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9D9A-C691-4C50-BEE5-49308B1EE3E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C838-F12C-44BE-B608-9292E712781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2B54-9F78-469A-8C4D-70F8A3C3B61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C92C-1F1B-4261-8FA0-EA7EBE505C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6BF3-C50E-4805-A0CF-289D407F65B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7E2-3353-480F-BCAC-95CE1A5AF12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0126-41A8-4B94-A87D-9B73A70C864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6B16-1B2A-4D4E-A283-A842C537549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16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0705-62AE-4C42-9F7C-30644658E4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 lógicas de comparación, simples o compuestas, que devuelven un valor de verdad (VERDADERO o FALS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Condicion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dición Simple: Comparación de 2 expres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dición Compuesta: Composición de condiciones con operadores lógicos (AND/O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AFD8-AE95-4719-A5B4-456EEC986C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Si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ones que componen la cond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arar los resultados de las expres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se cumple la condición, entregar un valor VERDADE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no se cumple la condición, entregar un valor FAL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expresión&gt; &lt;operador-de-comparacion&gt; &lt;expresión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ón&gt;:  Expresión aritmética (como ya hemos definido anterioment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operador-de-comparacion&gt;: Operador lógico que permite comparar si la expresión de la izquierda es mayor que (&gt;), menor que (&lt;), mayor o igual que (&gt;=), menor o igual que (&lt;=), igual que (==), o distinto que (!=) la expresión de la derech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F9FE-8C6F-4DAF-9301-E6362F3BA43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Simpl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a &lt;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(Math.pow(a, 2) + Math.pow(b, 2)) == Math.pow(c, 2)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, b y c cumple con el teorema de pitágora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Me estás engañando? Prueba de nue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C80F-0476-451D-B054-B882C97ABE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Compues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ones que componen cada cond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arar los resultados de las expresiones y operarlos lógicamente con los operadores devolviendo el valor ya oper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condición&gt; &lt;operador-lógico&gt; &lt;condición&gt; 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xpresión que retorna un valor de verda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operador-lógico&gt;: Operador que permite unir valores de verdad según las reglas de álgebra. Con ellos se utilizan la conjunción AND (&amp;&amp;), disjunción OR (||) y negación NOT (!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amp;&amp;” y “||” son binarios, “!” es un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01C2-8CD2-4A72-8054-50E3AC9A81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dición Compuesta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1 &amp;&amp; c2: VERDADERO si ambos son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1 || c2: VERDADERO si alguno es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!c1: FALSO si es VERDAD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:  c2 se evalúa solo si es necesar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20F0-1AA1-4B9E-8ED0-64A30F8FF5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2000160" y="3429000"/>
          <a:ext cx="6096240" cy="185436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1571400"/>
                <a:gridCol w="159084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!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SE es opc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entero positivo: 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&lt;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Me quieres engañar? n 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DF45-BB16-4576-BAD2-F55062E9C9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os bloques no necesitan las llaves si solo se acompañan por una instruc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 divisible por 2: 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% 2 ==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i, ese sirve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, ese no sirve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2CB6-C9A1-41EC-98C5-5A4AEF1211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s sentencias son anid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a dos números mayores que 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a = U.readInt(“a: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b = U.readInt(“b: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a &gt;=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b &gt;=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on positiv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 x b = “ + (a * b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8BFD-3147-429E-9FFE-46991C24F4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asos Especiales de IF…ELSE (con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puede simular un selec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&gt;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n == 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cer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negativ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1AB2-8D34-4781-BD56-7159258C387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5 Rectángulo"/>
          <p:cNvSpPr/>
          <p:nvPr/>
        </p:nvSpPr>
        <p:spPr>
          <a:xfrm>
            <a:off x="5500800" y="3429000"/>
            <a:ext cx="3357360" cy="1643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if (n &g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if (n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cer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        </a:t>
            </a:r>
            <a:r>
              <a:rPr b="0" lang="es-ES" sz="1400" spc="-1" strike="noStrike">
                <a:solidFill>
                  <a:srgbClr val="ffffff"/>
                </a:solidFill>
                <a:latin typeface="Consolas"/>
              </a:rPr>
              <a:t>U.println(“Es negativ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6 Flecha a la derecha con bandas"/>
          <p:cNvSpPr/>
          <p:nvPr/>
        </p:nvSpPr>
        <p:spPr>
          <a:xfrm>
            <a:off x="4643280" y="3929040"/>
            <a:ext cx="785880" cy="57168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ioridad de los Operad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1º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+, -, !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(tipo)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3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*, /, %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ultiplica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4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+, -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d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5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&gt;, &lt;, &gt;=, &lt;=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6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==, !=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7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&amp;&amp;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j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8º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||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isj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76B-BDA0-472F-B5B8-268C131D6B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8 Trapecio"/>
          <p:cNvSpPr/>
          <p:nvPr/>
        </p:nvSpPr>
        <p:spPr>
          <a:xfrm rot="10800000">
            <a:off x="6428880" y="2285640"/>
            <a:ext cx="2357640" cy="2786040"/>
          </a:xfrm>
          <a:prstGeom prst="pie">
            <a:avLst/>
          </a:prstGeom>
          <a:solidFill>
            <a:srgbClr val="d4ebf1"/>
          </a:solidFill>
          <a:ln w="25560">
            <a:solidFill>
              <a:srgbClr val="d4e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9 Combinar"/>
          <p:cNvSpPr/>
          <p:nvPr/>
        </p:nvSpPr>
        <p:spPr>
          <a:xfrm>
            <a:off x="7215120" y="5072040"/>
            <a:ext cx="785880" cy="642960"/>
          </a:xfrm>
          <a:prstGeom prst="flowChartMerge">
            <a:avLst/>
          </a:prstGeom>
          <a:solidFill>
            <a:srgbClr val="d4ebf1"/>
          </a:solidFill>
          <a:ln w="25560">
            <a:solidFill>
              <a:srgbClr val="d4e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8D51-5944-46B8-9A6B-2EDAB7B460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n boolean es un tipo de dato de 1 bit que permite almacenar un valor de verdad (VERDADERO o FALSO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a un númer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oolean positivo = (n &gt;= 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ERDADERO si es positivo o 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FALSO si es negativ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ositivo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posi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s negativ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E537-F2B2-4B86-ADA3-041CE264E4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2848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 a la Motivación (con IF)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gt; 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3 a la Motivación (avanzada)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x&gt;y?x:y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ersión abreviada del IF...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=&gt; if (x&gt;y) return x; else return 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75F-92AF-4703-83EA-359C3BB6F7A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un programa que calcule la nota final de CC1001 sin examen a partir de las notas de los 3 controles a través d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parte final, el programa debe indicar si el alumno está reprobado (&lt; 4.0), debe dar examen (≥ 4.0 y &lt; 5.5) o si se encuentra eximido del examen (≥ 5.5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26C-882F-4130-B518-44C0610C4C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Rectángulo redondeado"/>
          <p:cNvSpPr/>
          <p:nvPr/>
        </p:nvSpPr>
        <p:spPr>
          <a:xfrm>
            <a:off x="1928880" y="2786040"/>
            <a:ext cx="6715080" cy="214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e las Notas de los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3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ta Final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El alumno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La tradi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e las Notas de los Controle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c1 = U.readDouble(“C1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2 = U.readDouble(“C2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3 = U.readDouble(“C3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(c1 + c2 + c3) / 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ta Final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lt; 4.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Reprobad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gt;= 4.0 &amp;&amp; promedio &lt;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Debe dar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gt;=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ximido del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A63C-85C4-413E-9E9C-FE07E6B241C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La eleg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Ingrese las Notas de los Controle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c1 = U.readDouble(“C1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2 = U.readDouble(“C2: “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3 = U.readDouble(“C3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(c1 + c2 + c3) / 3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ota Final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promedio &lt; 4.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Reprobad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promedio &lt; 5.5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Debe dar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ximido del examen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C23B-8A1D-48A2-A3E5-EAAD1D9BC6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que dado un número entero por parámetro ésta le indique con un VERDADERO si el número es par o FALSO si no lo 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 programa que elija un número al azar entre 1 y 10 al azar y que le pida al usuario que lo adivine al primer intento. Si el número ingresado coincide, debe escribir: “ACERTASTE!”, si no, debe decir si el número elegido es “MAYOR” al del usuario o “MENOR” al del usuario.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dicación: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Puede usar la función U.azar(x, y) para obtener un número al azar entre x e 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9F85-781B-4654-8935-2492F406093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6" name="2 Marcador de contenido" descr=""/>
          <p:cNvPicPr/>
          <p:nvPr/>
        </p:nvPicPr>
        <p:blipFill>
          <a:blip r:embed="rId2"/>
          <a:stretch/>
        </p:blipFill>
        <p:spPr>
          <a:xfrm>
            <a:off x="1427040" y="1384200"/>
            <a:ext cx="7515360" cy="4870440"/>
          </a:xfrm>
          <a:prstGeom prst="rect">
            <a:avLst/>
          </a:prstGeom>
          <a:ln w="0">
            <a:noFill/>
          </a:ln>
        </p:spPr>
      </p:pic>
      <p:sp>
        <p:nvSpPr>
          <p:cNvPr id="6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4213-92C0-4ACD-9B29-603BA34D07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5 Flecha a la derecha con bandas"/>
          <p:cNvSpPr/>
          <p:nvPr/>
        </p:nvSpPr>
        <p:spPr>
          <a:xfrm>
            <a:off x="4286160" y="3071880"/>
            <a:ext cx="928800" cy="71424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0C7-80BF-47DE-B938-5F35B08148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Ordenar 4 números generados al azar. Como indicación, recuerde que puede ordenar 3 y luego encontrar la posición del cuar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83760" indent="-1803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r 4 números enter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1 = U.azar(1, 100), n2 = U.azar(1, 100),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3 = U.azar(1, 100), n4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Números = “ + n1 + “ “ + n2 + “ “ + n3 + “ “ +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Buscamos el orden entre 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enor = U.menor(n1, n2, n3)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edio = U.medio(n1, n2, n3),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ayor = U.mayor(n1, n2, n3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6B5E-40BF-4013-93E3-2A3BF42213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hora buscamos donde poner el cuar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1, m2, m3, m4, au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1 = Math.min(menor,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ux = Math.max(menor, n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2 = Math.min(aux, 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aux = Math.max(aux, 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3 = Math.min(aux, mayor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m4 = Math.max(aux, mayor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Ordenados = “ + m1 + “ “ + m2 + “ “ + m3 + “ “ + m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59EA-A3AF-49E7-A4AB-DDF080AD54F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a una función que reciba dos parámetros (x, n) y obtenga la raíz n-ésima de x. Recuerde que la fórmula de la raíz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√ x  =  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1/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raizN (double x, double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Math.pow(x, 1.0 / n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6F25-9CB2-4E30-ACA0-3E10FEF629C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Conector recto"/>
          <p:cNvSpPr/>
          <p:nvPr/>
        </p:nvSpPr>
        <p:spPr>
          <a:xfrm>
            <a:off x="4915080" y="26733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método (función) que entregue el mayor de dos números pero sin utilizar la función Math.max de la librería matemá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static public 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double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maximo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1" lang="es-ES" sz="1800" spc="-1" strike="noStrike">
                <a:solidFill>
                  <a:srgbClr val="000000"/>
                </a:solidFill>
                <a:latin typeface="Consolas"/>
              </a:rPr>
              <a:t>double x, double y</a:t>
            </a: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 MT"/>
              </a:rPr>
              <a:t>Firma de un méto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F433-E951-46F2-9051-16DE9E40031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errar llave"/>
          <p:cNvSpPr/>
          <p:nvPr/>
        </p:nvSpPr>
        <p:spPr>
          <a:xfrm rot="5400000">
            <a:off x="5035680" y="1276920"/>
            <a:ext cx="285840" cy="607212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6072120"/>
              <a:gd name="textAreaBottom" fmla="*/ 6064920 h 607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5"/>
                </a:cubicBezTo>
                <a:lnTo>
                  <a:pt x="10800" y="10715"/>
                </a:lnTo>
                <a:cubicBezTo>
                  <a:pt x="10800" y="10758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5"/>
                </a:cubicBezTo>
                <a:lnTo>
                  <a:pt x="10800" y="21515"/>
                </a:lnTo>
                <a:cubicBezTo>
                  <a:pt x="10800" y="215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 (rebuscada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Versión “a la fuerza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return (x + y) / 2 + Math.abs(x – y) /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Versión “factorizada”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static public double maximo (double x, double y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return (x + y + Math.abs(x – y)) /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 MT"/>
              </a:rPr>
              <a:t>¿Habrá otra forma más “óptima” de realizarla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B06F-55CD-4905-B50A-2E22161E60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7 Conector recto"/>
          <p:cNvSpPr/>
          <p:nvPr/>
        </p:nvSpPr>
        <p:spPr>
          <a:xfrm>
            <a:off x="3429000" y="2500200"/>
            <a:ext cx="350028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8 Rectángulo"/>
          <p:cNvSpPr/>
          <p:nvPr/>
        </p:nvSpPr>
        <p:spPr>
          <a:xfrm>
            <a:off x="321480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0 Rectángulo"/>
          <p:cNvSpPr/>
          <p:nvPr/>
        </p:nvSpPr>
        <p:spPr>
          <a:xfrm>
            <a:off x="671508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2 Conector recto"/>
          <p:cNvSpPr/>
          <p:nvPr/>
        </p:nvSpPr>
        <p:spPr>
          <a:xfrm flipH="1">
            <a:off x="3427560" y="235728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3 Conector recto"/>
          <p:cNvSpPr/>
          <p:nvPr/>
        </p:nvSpPr>
        <p:spPr>
          <a:xfrm flipH="1">
            <a:off x="6928920" y="2357280"/>
            <a:ext cx="180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4 Conector recto"/>
          <p:cNvSpPr/>
          <p:nvPr/>
        </p:nvSpPr>
        <p:spPr>
          <a:xfrm flipH="1">
            <a:off x="5186520" y="235728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5 Rectángulo"/>
          <p:cNvSpPr/>
          <p:nvPr/>
        </p:nvSpPr>
        <p:spPr>
          <a:xfrm>
            <a:off x="4759200" y="2643120"/>
            <a:ext cx="85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x+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7 Conector recto"/>
          <p:cNvSpPr/>
          <p:nvPr/>
        </p:nvSpPr>
        <p:spPr>
          <a:xfrm>
            <a:off x="4929120" y="288432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8 Cerrar llave"/>
          <p:cNvSpPr/>
          <p:nvPr/>
        </p:nvSpPr>
        <p:spPr>
          <a:xfrm rot="16200000">
            <a:off x="5107680" y="535320"/>
            <a:ext cx="142920" cy="3357720"/>
          </a:xfrm>
          <a:custGeom>
            <a:avLst/>
            <a:gdLst>
              <a:gd name="textAreaLeft" fmla="*/ 0 w 142920"/>
              <a:gd name="textAreaRight" fmla="*/ 51480 w 142920"/>
              <a:gd name="textAreaTop" fmla="*/ 3600 h 3357720"/>
              <a:gd name="textAreaBottom" fmla="*/ 3354120 h 335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7"/>
                </a:cubicBezTo>
                <a:lnTo>
                  <a:pt x="10800" y="10723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7"/>
                </a:cubicBezTo>
                <a:lnTo>
                  <a:pt x="10800" y="21523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9 Rectángulo"/>
          <p:cNvSpPr/>
          <p:nvPr/>
        </p:nvSpPr>
        <p:spPr>
          <a:xfrm>
            <a:off x="4786200" y="1714680"/>
            <a:ext cx="85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|x-y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trucción IF…EL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: Sentencias que nos permiten discriminar qué código utilizar dependiendo de un valor de verda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condic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la condición es VERDADERA, ejecutar bloque de instrucciones 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la condición es FALSA, ejecutar bloque de instrucciones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Gráficamente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128E-85BD-4290-BC97-AA7452A754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6 Conector recto de flecha"/>
          <p:cNvCxnSpPr/>
          <p:nvPr/>
        </p:nvCxnSpPr>
        <p:spPr>
          <a:xfrm flipH="1">
            <a:off x="4744800" y="3859200"/>
            <a:ext cx="216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610" name="7 Decisión"/>
          <p:cNvSpPr/>
          <p:nvPr/>
        </p:nvSpPr>
        <p:spPr>
          <a:xfrm>
            <a:off x="3786120" y="4214880"/>
            <a:ext cx="1928880" cy="714240"/>
          </a:xfrm>
          <a:prstGeom prst="flowChartDecis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9 Rectángulo"/>
          <p:cNvSpPr/>
          <p:nvPr/>
        </p:nvSpPr>
        <p:spPr>
          <a:xfrm>
            <a:off x="2857680" y="5072040"/>
            <a:ext cx="121428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10 Rectángulo"/>
          <p:cNvSpPr/>
          <p:nvPr/>
        </p:nvSpPr>
        <p:spPr>
          <a:xfrm>
            <a:off x="5429160" y="5072040"/>
            <a:ext cx="121464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17 Conector angular"/>
          <p:cNvCxnSpPr>
            <a:stCxn id="610" idx="1"/>
            <a:endCxn id="611" idx="0"/>
          </p:cNvCxnSpPr>
          <p:nvPr/>
        </p:nvCxnSpPr>
        <p:spPr>
          <a:xfrm flipV="1" rot="10800000">
            <a:off x="3463200" y="4570920"/>
            <a:ext cx="322920" cy="500760"/>
          </a:xfrm>
          <a:prstGeom prst="bentConnector2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4" name="23 Forma"/>
          <p:cNvCxnSpPr>
            <a:stCxn id="610" idx="3"/>
            <a:endCxn id="612" idx="0"/>
          </p:cNvCxnSpPr>
          <p:nvPr/>
        </p:nvCxnSpPr>
        <p:spPr>
          <a:xfrm>
            <a:off x="5714640" y="4571640"/>
            <a:ext cx="322920" cy="500760"/>
          </a:xfrm>
          <a:prstGeom prst="bentConnector2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5" name="27 Conector recto de flecha"/>
          <p:cNvCxnSpPr/>
          <p:nvPr/>
        </p:nvCxnSpPr>
        <p:spPr>
          <a:xfrm flipH="1">
            <a:off x="4757400" y="6000840"/>
            <a:ext cx="21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616" name="29 Forma"/>
          <p:cNvCxnSpPr>
            <a:stCxn id="611" idx="2"/>
          </p:cNvCxnSpPr>
          <p:nvPr/>
        </p:nvCxnSpPr>
        <p:spPr>
          <a:xfrm flipH="1" rot="16200000">
            <a:off x="3945600" y="5160960"/>
            <a:ext cx="357840" cy="13230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cxnSp>
        <p:nvCxnSpPr>
          <p:cNvPr id="617" name="31 Forma"/>
          <p:cNvCxnSpPr>
            <a:stCxn id="612" idx="2"/>
          </p:cNvCxnSpPr>
          <p:nvPr/>
        </p:nvCxnSpPr>
        <p:spPr>
          <a:xfrm rot="5400000">
            <a:off x="5196600" y="5160960"/>
            <a:ext cx="357840" cy="13230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sp>
        <p:nvSpPr>
          <p:cNvPr id="618" name="32 Rectángulo"/>
          <p:cNvSpPr/>
          <p:nvPr/>
        </p:nvSpPr>
        <p:spPr>
          <a:xfrm>
            <a:off x="2714760" y="42148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Verdad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33 Rectángulo"/>
          <p:cNvSpPr/>
          <p:nvPr/>
        </p:nvSpPr>
        <p:spPr>
          <a:xfrm>
            <a:off x="5572080" y="42148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F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trucción IF…ELSE (co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&lt;condicion&gt;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bloque 1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bloque 2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Una o más expresiones de compara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bloque n&gt;: Secuencia de instrucciones que se ejecutan en forma discriminad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D57D-F287-49A0-9E16-8C5AEC31C25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16T13:58:48Z</dcterms:modified>
  <cp:revision>76</cp:revision>
  <dc:subject/>
  <dc:title>CC1001 – Computación I Clase 0</dc:title>
</cp:coreProperties>
</file>