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3D2-8DFE-4170-9175-680461B0D2A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31E-9FD7-411E-B2C6-9307F8EE88D3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07E-EC51-4C71-B29E-C51BFDDD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1C7-8EC7-4C20-B3A2-874B900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7F6E-33D4-44BE-8D78-B5D1E826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C628-0509-470F-BC53-3959749A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BE744-6D38-417F-AD9A-43E5004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00E52-0A47-4281-9024-058F2E6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8B4D-C2BF-4B8B-A1D5-C59B48A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DFDD7-3D01-4EB8-9C91-5D477FE9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D2094-2C29-4106-911A-8D2CA11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8DA00-988A-4D3B-BF2F-FC89EFCE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44E13-8285-4D68-90DB-6345DFC2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D1CF-6161-4FDB-909A-6B6F1362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3EC-597F-470C-90A6-3D485D93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3F4ED-DF1E-4DDF-BC46-16F3F22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854AD-43BD-47E4-9FCA-7E580CA3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E692-1A22-4778-9331-9BD802B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59C6-9810-4D77-8CF6-15F29F1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2E9D4-F254-43A9-83C2-F02B90F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6E4BB-A5A0-4127-B9AB-11FC73D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5413C-3015-44F1-BFBC-665FC6B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F04F-2F08-471D-9490-0DD96B1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DDC92-D9CF-4356-9BD6-2E5DD6C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D058D-790F-4FD4-931D-F1307706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FA6-E93A-4BBD-813A-19DC4F26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404E4-9683-4115-A605-5809D808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AE897-F240-422B-AF57-7DEBD52B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411D-C103-4E7E-8687-08B7332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3B6C-1AF9-4D7F-811D-B786088A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4F631-3142-4C92-A5D8-2E28A2C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0F92-FB99-4B7B-BFA5-856E040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B0EF5-66F5-4108-BD57-109BBD0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6006-E4B4-4A73-BF4E-3AA7BE6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94881-E9B2-4100-AF0F-786EC8A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65AC7-4D0D-45D3-A420-2AD205B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6DE6-600E-445A-A48A-7594417D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51D9-6BDE-48FF-97D3-5B0476A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ED84E-81FE-4066-9809-98DEF74B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347F9-09BE-4D5F-96DE-C4EE3F66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188B7-104B-4B6F-A973-EA20D34A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4C7F-B766-4505-80FE-E2E718C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5068F-02CB-48C0-A803-8F5E3E2F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5248A-FEEB-4DB8-9B77-8316C82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194B0-4F44-4D49-A326-8918C96F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0694E-F857-4B53-96E3-690AD65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D1AF2-9641-4A0B-BA1D-D84FD70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310-D526-4D07-96F8-445E8FBA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D5D9-5810-41D8-9007-39CC50C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BF879-1F13-4B63-88C6-8BE7D48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20EE8-05FA-48AF-BBB2-11EA9463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E9AAB-BF50-4F7A-8CE5-A4A33CAF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BC429-24F0-41F1-95C6-3F0858CF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B5D3-B310-4937-8290-C003FE7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DD4-139C-4FA9-8150-675A771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FEC7-7F35-4CAB-8C2F-59A4F22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2BE-5AFD-4F15-88D7-569E6A8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4D4-5768-4A67-9C9E-6CBAB7B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96E-1B01-40B9-875C-6B61BBF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945-3F8F-4A5A-A210-0AD808E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2BE3-264C-48C9-8B51-34C00BD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8420-5E8E-4249-AC32-5A5F9CB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550-0ED6-4CE8-8071-2CA21E50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F87-979B-4513-9242-3A8154DA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B289-71C1-4C0D-ACA8-2413CC5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0851-C4F0-4916-93D6-CAF30A0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142A-27C6-4D3D-B2E9-9444926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D746-7711-493E-85A4-A0FCD4BD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42AF-DA1A-4619-B30F-C687DB33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CE9-099D-4996-9896-3C1E3152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37DE-D697-455E-90D6-653D954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9B96-A126-4732-B55B-380DC19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1AFE-8FB5-4EBF-A7A3-97EF18F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9B97-4204-4B49-AD7D-AC5C0F7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858F-04DB-469E-A932-9ADED96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8B4E-C3B3-4086-A5FB-7F0FCE9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5FA0-4495-44BF-9CCD-5BF23ABC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C890-A46E-4C4D-B9A3-8D1B2D3E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88D9-BEF9-445E-9547-651B2FB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34D9-2E66-445A-AB60-9B3CBE3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E18-E737-42F4-A641-CC883C70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AD3E-109D-4DB0-8F25-23F5F7E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7D67-2709-4777-AA97-192A6C71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D6B1-67BF-4D8F-B2FC-DAE0670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3576-7826-422F-80A1-346A629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F8D1-D3D1-48C4-849F-A962DAF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CA46-B673-4C5B-B5B2-4C39E50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188E-F3A3-42E9-8D5A-BAE664F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8054-79E9-4A08-8406-8D7E665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917B-271E-4A79-8945-A8F9314F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E7189-DAB1-4831-9D62-17011C4A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277-E20C-43E3-840C-780B1BD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AE58-64B7-432A-8D8C-67216781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BE570-4FB8-4BE3-B9A4-3333DB2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2899-EB8A-4565-9911-623292C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D3F1-FB50-48F0-9DA8-BFD6D3DF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B801-7AA0-41FA-887E-8904956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689F-8454-458E-97B3-0196906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291A-A7C9-4521-8372-5DE0D08A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3D83-5706-49CC-AE09-1E79359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D92B-C41B-4936-B50A-0827929D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AC83-D7F6-416A-8466-767E1548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CA1-4B23-43D5-A271-506020BD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1899-5DF7-40B6-AFB7-3A94732A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11D7-C10B-4CC6-8244-D1F162E7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62FC-8B8B-4A78-927E-3689937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4FEC-FB4F-4A59-B163-698CA42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58AE-F784-4F5F-B1C2-FE8BAE3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5E10-C47E-4947-B70A-AB31FC8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FF88-03EE-4236-A2F7-82FD0C0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241B-150A-4490-8DB1-E5BEA4F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16A81-DAA3-451C-A959-5FA683C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7060-CC93-4B90-B43A-7FAFBC3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A8D-0715-4289-AC8C-880D4639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EA33-B3C6-4D78-A046-FAC89C8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F85C-2B01-432E-8E7F-18B1353B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7D1F-5106-45FC-8F19-94D36177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0DB3E-7558-4EBD-B105-56E04FF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183E-66CC-4F30-B353-91AFDA6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547E-7ED9-4B3B-99A8-AC273BDA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D4F74-69DF-49B7-A58E-A0EB8C96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89D9C-CDDA-473B-A12B-AD96305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C0C25-DA0D-4C60-90D0-276B4D35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F692-41A1-40C2-BCE7-15E1358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4EE-B3A1-4283-980D-E4BFC6F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E434-049E-4288-B0CD-70CA7FB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2D4D-30F8-40F6-906B-CE349A3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1196-FB4F-46A5-8CDC-F5E8099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C091-719E-41E6-B974-BAC63427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2FDC-B62A-4846-A268-15AEF726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2770-DABA-4252-99D5-9D46D2A4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BA52F-92B9-4819-BCFF-FA349C3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8912-3089-4575-9B3C-F8AF6F4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BAA5-4D6E-421D-8B8A-797E7FFA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BC9D-D385-4C02-B3B0-5F84479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229-DBE5-4ADF-A208-B838089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7B114-CF94-4C8E-A112-25E8A933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3744-14D8-40EA-A7F5-43B86AF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1631-9940-4316-9636-6CA762D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246E-8A6E-4301-87A3-E83E00D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22C7-E3D0-408D-9425-60DA22D5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6F0F3-D4E6-464C-AD85-7001866E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62E65-681F-4F23-B4DE-E1EDADD2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C7E1-D1CA-48EC-A8D2-4C92B82B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0885-38AF-438E-B449-51A443B6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FBC3E-E21D-44BB-B2E5-879BF147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3DE-6B6C-4AAA-A5A4-02B0A22789F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7709-58C1-4046-936C-41BBACF16F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F05-8FE3-47EB-BC84-4FE8CC4465A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1F39-59B7-4454-BEAF-06F6A849DF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C688-219E-4CE5-A4AE-F3C59146BA1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3FC-F4C4-4A9A-8A23-33C9D6BE4D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B0E7-E168-4FCC-A28A-9C815099371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3EB-21E2-40A6-AE84-E321B67B41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210-6963-47BE-9018-7907C265B8D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404-0A99-4209-BFE1-F3A5045C6B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0D2-389C-4488-8A3F-BCBDE5FE694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04AE-216D-4D26-8E22-93AB5D35B7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69EA-8E95-460F-930F-5D0E287616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A6E-4024-452B-9CBE-B882916030E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F92-49AF-4CA6-B036-6D9E503896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449-F968-40E0-8E3C-5A798D964E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2AC-19C1-45D1-99D6-6A980F40844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3D5D-8B46-4B02-BEB3-10860CE773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915-48D5-4A0F-BB68-3BEAF6E2A98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F88-8C44-4981-A090-627D260FE4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2EB-ED4F-4591-8A65-AFBD1A552A0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69D-C2FC-4278-8F25-63FA3F4352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75D5-E6B6-448B-8B02-B9187A64850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2D74-53FF-4C5C-9A76-994188EA39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16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AEDC-6C1C-4EE1-8705-9DD5F7DF84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 lógicas de comparación, simples o compuestas, que devuelven un valor de verdad (VERDADERO o FALS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Condicion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Simple: Comparación de 2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Compuesta: Composición de condiciones con operadores lógicos (AND/O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428-E27B-46CB-908D-0A3406CBA2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l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se cumple la condición, entregar un valor VERDAD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no se cumple la condición, entregar un valor FAL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expresión&gt; &lt;operador-de-comparacion&gt; &lt;expresión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ón&gt;:  Expresión aritmética (como ya hemos definido anterioment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de-comparacion&gt;: Operador lógico que permite comparar si la expresión de la izquierda es mayor que (&gt;), menor que (&lt;), mayor o igual que (&gt;=), menor o igual que (&lt;=), igual que (==), o distinto que (!=) la expresión de la derech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B56-6F00-45D4-AE23-B0033F5B4A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l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(Math.pow(a, 2) + Math.pow(b, 2)) == Math.pow(c, 2)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, b y c cumple con el teorema de pitágora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estás engañando? Prueba de nue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B4D1-DA54-44B3-8E22-DA4F8526D3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cad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 y operarlos lógicamente con los operadores devolviendo el valor ya oper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condición&gt; &lt;operador-lógico&gt; &lt;condición&gt; 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xpresión que retorna un valor de verda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lógico&gt;: Operador que permite unir valores de verdad según las reglas de álgebra. Con ellos se utilizan la conjunción AND (&amp;&amp;), disjunción OR (||) y negación NOT (!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amp;&amp;” y “||” son binarios, “!” es un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D045-0CA0-4A93-B7A0-CDD4DE4DB8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&amp;&amp; c2: VERDADERO si ambos son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|| c2: VERDADERO si alguno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!c1: FALSO si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:  c2 se evalúa solo si es neces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B7B-09BA-4107-90B8-4E335A3BA8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000160" y="3429000"/>
          <a:ext cx="6096240" cy="185436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1571400"/>
                <a:gridCol w="159084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!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SE es opc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entero positivo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&lt;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quieres engañar? n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2B5-11A1-43A5-848A-F731451A9C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os bloques no necesitan las llaves si solo se acompañan por una instruc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 divisible por 2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i, ese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, ese no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28FB-5CC3-4965-83BA-416BFD00DC8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sentencias son anid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a dos números mayores que 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a = U.readInt(“a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b = U.readInt(“b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b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on positiv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x b = “ + (a * b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411A-6737-4620-9287-A5E588E450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puede simular un selec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n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53A-8AE3-4110-BE54-59DA8E9F83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00800" y="3429000"/>
            <a:ext cx="3357360" cy="1643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6 Flecha a la derecha con bandas"/>
          <p:cNvSpPr/>
          <p:nvPr/>
        </p:nvSpPr>
        <p:spPr>
          <a:xfrm>
            <a:off x="4643280" y="3929040"/>
            <a:ext cx="785880" cy="5716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ioridad de los Operad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1º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, !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(tipo)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3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*, /, %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ultiplica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4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5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gt;, &lt;, &gt;=, &lt;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6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==, !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7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amp;&amp;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||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is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E18-623C-4F6F-B95E-06DCA8BDF6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8 Trapecio"/>
          <p:cNvSpPr/>
          <p:nvPr/>
        </p:nvSpPr>
        <p:spPr>
          <a:xfrm rot="10800000">
            <a:off x="6428880" y="2285640"/>
            <a:ext cx="2357640" cy="2786040"/>
          </a:xfrm>
          <a:prstGeom prst="pi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9 Combinar"/>
          <p:cNvSpPr/>
          <p:nvPr/>
        </p:nvSpPr>
        <p:spPr>
          <a:xfrm>
            <a:off x="7215120" y="5072040"/>
            <a:ext cx="785880" cy="642960"/>
          </a:xfrm>
          <a:prstGeom prst="flowChartMerg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EE4-3322-42F3-98D5-C2578CBB2C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n boolean es un tipo de dato de 1 bit que permite almacenar un valor de verdad (VERDADERO o FALSO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a un núm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oolean positivo = (n &gt;= 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DADERO si es positivo o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FALSO si es negativ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ositivo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E7C-1F9A-4FD1-8D6C-1AFCC18B13F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 a la Motivación (con IF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gt; 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3 a la Motivación (avanzada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&gt;y?x:y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sión abreviada del IF...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=&gt; if (x&gt;y) return x; else 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ABA-1BD4-4449-BADD-2F0F220E7A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un programa que calcule la nota final de CC1001 sin examen a partir de las notas de los 3 controles a través d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parte final, el programa debe indicar si el alumno está reprobado (&lt; 4.0), debe dar examen (≥ 4.0 y &lt; 5.5) o si se encuentra eximido del examen (≥ 5.5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0D8-406A-4CFD-9A18-ADC1D0316A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Rectángulo redondeado"/>
          <p:cNvSpPr/>
          <p:nvPr/>
        </p:nvSpPr>
        <p:spPr>
          <a:xfrm>
            <a:off x="1928880" y="2786040"/>
            <a:ext cx="671508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las Notas de los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3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ta Final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El alumn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4.0 &amp;&amp; 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439-1796-4407-9905-E647EC57278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6F0-509B-4AD2-B77F-D11D58151F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6249-847F-4919-84D8-A261A711F8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2 Marcador de contenido" descr=""/>
          <p:cNvPicPr/>
          <p:nvPr/>
        </p:nvPicPr>
        <p:blipFill>
          <a:blip r:embed="rId2"/>
          <a:stretch/>
        </p:blipFill>
        <p:spPr>
          <a:xfrm>
            <a:off x="1427040" y="1384200"/>
            <a:ext cx="7515360" cy="4870440"/>
          </a:xfrm>
          <a:prstGeom prst="rect">
            <a:avLst/>
          </a:prstGeom>
          <a:ln w="0">
            <a:noFill/>
          </a:ln>
        </p:spPr>
      </p:pic>
      <p:sp>
        <p:nvSpPr>
          <p:cNvPr id="6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5E4C-02DD-45F9-A9EE-299A7DD6F9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5 Flecha a la derecha con bandas"/>
          <p:cNvSpPr/>
          <p:nvPr/>
        </p:nvSpPr>
        <p:spPr>
          <a:xfrm>
            <a:off x="4286160" y="3071880"/>
            <a:ext cx="928800" cy="7142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5CD-2F63-4C24-AD7F-3F7A386B69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Ordenar 4 números generados al azar. Como indicación, recuerde que puede ordenar 3 y luego encontrar la posición del cuar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83760" indent="-1803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4 números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 = U.azar(1, 100), n2 = U.azar(1, 100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U.azar(1, 100), n4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úmeros = “ + n1 + “ “ + n2 + “ “ + n3 + “ “ +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Buscamos el orden entre 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enor = U.menor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dio = U.medio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ayor = U.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8711-6844-472C-88BF-B476C33C42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hora buscamos donde poner el cuar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1, m2, m3, m4, au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1 = Math.min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2 = Math.min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3 = Math.min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4 = Math.max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dos = “ + m1 + “ “ + m2 + “ “ + m3 + “ “ + m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C5D-172A-46BB-8FD3-41C66D17EC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a función que reciba dos parámetros (x, n) y obtenga la raíz n-ésima de x. Recuerde que la fórmula de la raíz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√ x  =  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raizN (double x, double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pow(x, 1.0 / n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C45-0CB6-4AF9-8DD8-B2BD6E3C2D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Conector recto"/>
          <p:cNvSpPr/>
          <p:nvPr/>
        </p:nvSpPr>
        <p:spPr>
          <a:xfrm>
            <a:off x="4915080" y="26733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método (función) que entregue el mayor de dos números pero sin utilizar la función Math.max de la librería matemá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static public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maximo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 x, double y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Firma de un méto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D94-F8CC-45B8-AE64-2C79CADD5B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errar llave"/>
          <p:cNvSpPr/>
          <p:nvPr/>
        </p:nvSpPr>
        <p:spPr>
          <a:xfrm rot="5400000">
            <a:off x="5035680" y="1276920"/>
            <a:ext cx="285840" cy="60721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6072120"/>
              <a:gd name="textAreaBottom" fmla="*/ 6064920 h 607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 (rebuscad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a la fuerz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) / 2 + Math.abs(x – y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factorizad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 + Math.abs(x – y)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 MT"/>
              </a:rPr>
              <a:t>¿Habrá otra forma más “óptima” de realizarla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C8C2-2851-4EAC-8D2B-E9F7044936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7 Conector recto"/>
          <p:cNvSpPr/>
          <p:nvPr/>
        </p:nvSpPr>
        <p:spPr>
          <a:xfrm>
            <a:off x="3429000" y="2500200"/>
            <a:ext cx="35002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8 Rectángulo"/>
          <p:cNvSpPr/>
          <p:nvPr/>
        </p:nvSpPr>
        <p:spPr>
          <a:xfrm>
            <a:off x="321480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Rectángulo"/>
          <p:cNvSpPr/>
          <p:nvPr/>
        </p:nvSpPr>
        <p:spPr>
          <a:xfrm>
            <a:off x="671508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2 Conector recto"/>
          <p:cNvSpPr/>
          <p:nvPr/>
        </p:nvSpPr>
        <p:spPr>
          <a:xfrm flipH="1">
            <a:off x="342756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3 Conector recto"/>
          <p:cNvSpPr/>
          <p:nvPr/>
        </p:nvSpPr>
        <p:spPr>
          <a:xfrm flipH="1">
            <a:off x="6928920" y="2357280"/>
            <a:ext cx="180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4 Conector recto"/>
          <p:cNvSpPr/>
          <p:nvPr/>
        </p:nvSpPr>
        <p:spPr>
          <a:xfrm flipH="1">
            <a:off x="518652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5 Rectángulo"/>
          <p:cNvSpPr/>
          <p:nvPr/>
        </p:nvSpPr>
        <p:spPr>
          <a:xfrm>
            <a:off x="4759200" y="264312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7 Conector recto"/>
          <p:cNvSpPr/>
          <p:nvPr/>
        </p:nvSpPr>
        <p:spPr>
          <a:xfrm>
            <a:off x="4929120" y="28843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8 Cerrar llave"/>
          <p:cNvSpPr/>
          <p:nvPr/>
        </p:nvSpPr>
        <p:spPr>
          <a:xfrm rot="16200000">
            <a:off x="5107680" y="535320"/>
            <a:ext cx="142920" cy="33577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357720"/>
              <a:gd name="textAreaBottom" fmla="*/ 3354120 h 335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9 Rectángulo"/>
          <p:cNvSpPr/>
          <p:nvPr/>
        </p:nvSpPr>
        <p:spPr>
          <a:xfrm>
            <a:off x="4786200" y="171468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|x-y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 Sentencias que nos permiten discriminar qué código utilizar dependiendo de un valor de verda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VERDADERA, ejecutar bloque de instrucciones 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FALSA, ejecutar bloque de instrucciones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Gráficamente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496-8145-4226-89DC-BAA0BDF1A1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6 Conector recto de flecha"/>
          <p:cNvCxnSpPr/>
          <p:nvPr/>
        </p:nvCxnSpPr>
        <p:spPr>
          <a:xfrm flipH="1">
            <a:off x="4744800" y="3859200"/>
            <a:ext cx="216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610" name="7 Decisión"/>
          <p:cNvSpPr/>
          <p:nvPr/>
        </p:nvSpPr>
        <p:spPr>
          <a:xfrm>
            <a:off x="3786120" y="4214880"/>
            <a:ext cx="1928880" cy="71424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9 Rectángulo"/>
          <p:cNvSpPr/>
          <p:nvPr/>
        </p:nvSpPr>
        <p:spPr>
          <a:xfrm>
            <a:off x="2857680" y="5072040"/>
            <a:ext cx="121428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10 Rectángulo"/>
          <p:cNvSpPr/>
          <p:nvPr/>
        </p:nvSpPr>
        <p:spPr>
          <a:xfrm>
            <a:off x="5429160" y="5072040"/>
            <a:ext cx="121464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17 Conector angular"/>
          <p:cNvCxnSpPr>
            <a:stCxn id="610" idx="1"/>
            <a:endCxn id="611" idx="0"/>
          </p:cNvCxnSpPr>
          <p:nvPr/>
        </p:nvCxnSpPr>
        <p:spPr>
          <a:xfrm flipV="1" rot="10800000">
            <a:off x="3463200" y="457092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4" name="23 Forma"/>
          <p:cNvCxnSpPr>
            <a:stCxn id="610" idx="3"/>
            <a:endCxn id="612" idx="0"/>
          </p:cNvCxnSpPr>
          <p:nvPr/>
        </p:nvCxnSpPr>
        <p:spPr>
          <a:xfrm>
            <a:off x="5714640" y="457164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5" name="27 Conector recto de flecha"/>
          <p:cNvCxnSpPr/>
          <p:nvPr/>
        </p:nvCxnSpPr>
        <p:spPr>
          <a:xfrm flipH="1">
            <a:off x="4757400" y="6000840"/>
            <a:ext cx="21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6" name="29 Forma"/>
          <p:cNvCxnSpPr>
            <a:stCxn id="611" idx="2"/>
          </p:cNvCxnSpPr>
          <p:nvPr/>
        </p:nvCxnSpPr>
        <p:spPr>
          <a:xfrm flipH="1" rot="16200000">
            <a:off x="3945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cxnSp>
        <p:nvCxnSpPr>
          <p:cNvPr id="617" name="31 Forma"/>
          <p:cNvCxnSpPr>
            <a:stCxn id="612" idx="2"/>
          </p:cNvCxnSpPr>
          <p:nvPr/>
        </p:nvCxnSpPr>
        <p:spPr>
          <a:xfrm rot="5400000">
            <a:off x="5196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618" name="32 Rectángulo"/>
          <p:cNvSpPr/>
          <p:nvPr/>
        </p:nvSpPr>
        <p:spPr>
          <a:xfrm>
            <a:off x="271476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3 Rectángulo"/>
          <p:cNvSpPr/>
          <p:nvPr/>
        </p:nvSpPr>
        <p:spPr>
          <a:xfrm>
            <a:off x="557208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 (co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&lt;condicion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1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2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Una o más expresiones de compara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bloque n&gt;: Secuencia de instrucciones que se ejecutan en forma discriminad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735-08E7-4994-AF49-FF519A38EA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16T13:58:48Z</dcterms:modified>
  <cp:revision>76</cp:revision>
  <dc:subject/>
  <dc:title>CC1001 – Computación I Clase 0</dc:title>
</cp:coreProperties>
</file>