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3519-1B9D-4FEE-92AD-91CD6249B812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508-C685-410A-B4AA-AF96FD2553EC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01E-0D53-49B3-8121-DCBD3E7F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490-4AE5-4B38-9D7F-A6EE84C7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5B007-6298-4F0B-A590-6E4C472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76B38-6D82-43BC-ABCC-3B54B30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4539E-5A94-4DD0-9DE0-2A77251E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9BDA6-9A13-459E-9890-3577FB4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EDAB4-F1F5-49F6-A2B2-0CB4303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630B9-D6F6-46E0-9755-265CAE5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CF231-0231-4056-98E1-BD04C003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D1DF-0C0B-46F5-AA76-32716579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397BC-CA41-4057-812F-FFB40B4A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0BD6A-11C4-4A72-86C7-7A3047CD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388-3CE0-48B3-BCE6-73098748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361B-3C6F-4505-A5C3-D44DB35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FC6D-9C7E-4D39-9E39-94C7431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39467-7786-465C-B926-E0ED175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4AEF8-1B4C-4A90-8B13-38B4DEF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2E1E8-C3B0-443E-9C1B-A536EBF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4B237-3C52-4F8B-BC35-8195B37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759B2-DB5E-4830-9C22-B2612BF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B4A54-3E0A-4F92-8951-8B60109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7A69-F660-40BD-A218-BA49F3E5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12C58-263C-4E5D-A69F-37430337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B97-BDA0-47BC-9D84-776DD2D4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639E0-08E7-432F-9E06-584CA418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FBCD6-69F9-4771-8A28-FFA73575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A7A4-A816-4583-81AD-9140A16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5D7A6-0830-4A64-8D51-907CFD4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D0A00-3EB6-49AF-85D9-51FA997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CB048-D681-4975-9017-AE2A938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75048-C5A0-40D1-A77F-0EB1B48A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3F4AF-CB67-4E67-9DEB-259B55D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4953B-E39E-4004-94E3-3F988A9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7AD6B-3C0C-445B-9B86-82AF242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585D-707B-4658-B352-6C483469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6A7FA-39F3-475E-AD89-8CDB5225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A89E-73B4-47E9-84D7-FDF2B74F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17F8A-A36F-418E-9BD8-85B1312D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00DE6-2FB8-45D2-A498-0E2037FF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7E6CD-71D5-4A17-B8FB-4E432092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C0C94-9ADF-4D07-8680-22B35137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12415-69B9-4CE7-AE60-C1F10B8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9860C-DA84-4791-945D-10A2F39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E96F0-FC94-4AF2-BFF2-29A97E8E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D0B47-AAFC-476F-9B72-FE55687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B4A1-117E-4BAC-BCC5-CA5EA32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5546E-0B72-4CA8-A430-B66E0D2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979A3-06B1-4202-BB6F-89BDC37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EF258-378F-498A-988E-C85818D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4E5A9-7861-4DD7-9A76-8D655FB3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D60CE-6034-4596-9115-A16807C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1AA4-0749-4760-AFD5-FBF8600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B9D-0C5F-4177-8EEE-8F83092C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20C-F09D-4544-BE7F-09748A0B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DC14-A0C2-45AC-AF0A-4BB89268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7CB6-1759-44D5-B7ED-06EB632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782-3145-475D-8133-05182E6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37EA-3864-45A7-B4F0-C731815E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55B5-A2A9-4E4A-BB7F-455E54A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FD5-ADAD-4675-9AF8-69E3F691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5B9F-F152-49CB-8928-5EE70C61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864-4347-4937-A9C2-F55391A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9111-F97A-4CD7-8669-B48CB97F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5ED7-FF53-4D1F-9F65-08A3114A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B68C-5EED-46CA-AFB0-4F50F81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7DFE-8DA7-40BE-A9DE-8AEA535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73A7-4A79-47FE-AD1F-8DD5B320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8F3-0163-4C6C-9036-675DEDC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8F48-9633-4E0A-A384-F3FE0C17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063D-538C-4C55-9AA7-57E8D02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4B15-4E9D-4070-8EA4-A79CF86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17A1-A9C5-42DD-9F8F-ECE5106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8F88-2954-42AD-A5EF-4C2063E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53A4-1619-4066-966A-9445EC93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02B7-2160-489A-B144-048CA765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2009-C842-415F-B3D3-4627DDE9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923F-00F1-4D4D-A049-F2735357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E41E-F184-49EC-92C4-95101BAA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06A-2EFE-4D7F-B3C5-692ED7F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3F3E-0760-4A14-AE17-C0DD268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F06F-FB4E-4F29-80BA-90E3F605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0720-0547-4CA8-8AB9-79456E23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5DB2-0B93-4087-BE7B-0EDC2E2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6C2B-77E7-48F9-911E-1BFD1D9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80EB-EA99-47D4-897C-C833274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4F91-C614-498E-B5B6-F21937E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8727-68C1-4772-9323-AA31B251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F500-A7BC-4D0C-B263-BF7E6080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B770B-C4AA-4805-A983-AA842B43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58C-B06A-467E-A997-1464B4E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415F-88F8-42AE-9DF2-74C6A37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8AC5-9E8F-407D-A653-D6F0175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B6B0C-5826-4CD7-8B86-B9281E1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3417-08C3-4EA8-A351-1AED999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3B1D-A04F-4AD2-8396-7CF1263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1E21-4AA8-4541-99A6-4FE976B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5939D-38FA-437A-AC07-00B9DEE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C03C-783F-433F-9A45-E256A97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31F4-74EB-4EA8-ADF7-5122B2DB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63378-B0F6-488E-88C0-AF8865C9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14C-9EC5-4DEA-B056-FA90933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DF1E-75D7-4F09-9270-CD4EA2AC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62CA-FF45-45BA-A1EA-2E825FBD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D2AB-9C02-45BE-BCC8-B9B8A0BB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7200-82FF-4F00-A511-57AB622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B8FCD-42F8-417A-9E15-78F3106F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D23C-CDD2-4100-BBA8-2A02C476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33DE-CFC7-4D34-8C52-F32D778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6C47-6CFB-49D8-A7DC-2A67D0B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BEF8-ED7D-4EEF-B2E9-A11A1D0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9503-3645-4D3C-B12A-A63644C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3D4-93D7-4F33-A0A1-B8A5E75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C7A0-4EBC-4859-AED6-FABE2BD7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432D-6C4D-4810-A59D-F6381F20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56E1-3BA1-4ED7-83C1-33BAF134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D636-5610-49DC-8896-BB4BF579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2189-7CDD-4D42-BB73-5CED9705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33C9-8BD1-4595-92CE-A41015BD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3F88-3943-479D-9806-6DF9FF1E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E504-0419-41F6-AFBA-2C7FBA6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66509-049A-4A61-9462-CA02DFD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7D65-D0B0-416C-A3D7-A71EF31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1DD-A4D2-4BC8-94EF-DEA2267F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7B1B9-188E-404B-B740-5377DDE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4215-B383-489C-BDF9-B74D153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3122-AFEF-4A89-AC45-3AA748D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A671-7406-4606-9D9A-22FE441C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6926-F4D5-4005-8D0E-F118991D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A8CD6-E481-490C-806F-DB54790D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7E95-DABE-4DBA-82CF-1D5E543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E2C1-CF67-410C-950D-CA937A1B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983B-8B7B-45F3-A5BC-32923D0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C44E-C3C3-443D-A030-836A01EF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7C2-96B9-4E9F-93DD-7B6C231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9311-54D8-4F6D-A7A5-1476351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342C-B217-48D7-8D45-8E2890F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CAFA-24E1-4019-AA05-05255D8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D5BB-D47D-44F0-A2DD-36F1CCE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1393-D18F-47CF-A86E-EAF670F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732B-9AF8-425C-A8B0-4A0770A4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C1CF6-6C06-4274-A913-14B36A26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CA69-EF6E-4AE8-9901-F3637C4F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EBE05-0428-46F0-B460-71A69C5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2031F-03AF-4F40-AE66-D865C25B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03D8-587F-4DE9-AA7B-89E8D658A8D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869-C960-4029-80CC-CF5F41FB6E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E743-4A10-4086-859A-FC2822794AC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B363-CF6A-4E32-AD9C-4F0C49FBE4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7B6-801E-43EB-90C4-604BE8D76A8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4BFF-09B8-4DF1-85E3-3FBD9AA169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0B4-D133-4807-9C6B-5AE94F5A702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7462-8336-49BD-8C45-7352887BEF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11CF-9AE2-4F38-9B68-0D89662DF16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97D-E301-4B5E-B0C8-6D223A22DC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E8C1-863B-4801-9F08-FAEA2CFADCF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9A1-0BA8-4EA1-B04C-A8B293F953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A1E1-CB63-4B6E-8B39-B5E98C17A69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3EF6-9FE8-4B11-ADBD-CF65F60EC3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37F-1735-44FB-A2B3-B0241ECEFE7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36C-4250-4BF3-B6B5-6233A187A4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990-4D0D-45C1-ACE6-E51BDC26259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C5B-86EF-493F-A1D5-A63F0247FFD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F31-E4C7-4A98-BF83-04988C73DA4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884-00B7-4A10-B501-503944C5AF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EB8-AF34-48D9-B19B-BA25A57372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ACEF-EBE1-4288-8C6B-B9C3A61B77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97D-F930-4B5E-ACB6-1FDDF3C7C4D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2F3C-94FF-4A87-AF20-DEB4643B36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14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A88-2FAA-46E0-8F51-93B8FA722D2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Gill Sans MT"/>
              </a:rPr>
              <a:t>Recuerde que a un double se le puede asignar un i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3926-1211-43C6-8514-7184CCBBE8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214720" y="2000160"/>
          <a:ext cx="6215040" cy="2683080"/>
        </p:xfrm>
        <a:graphic>
          <a:graphicData uri="http://schemas.openxmlformats.org/drawingml/2006/table">
            <a:tbl>
              <a:tblPr/>
              <a:tblGrid>
                <a:gridCol w="1242720"/>
                <a:gridCol w="971640"/>
                <a:gridCol w="1071720"/>
                <a:gridCol w="1071360"/>
                <a:gridCol w="18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gn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Arg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Resul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i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in(Math.PI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co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cos(Math.PI) = 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ta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ng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tan(Math.PI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si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sin(1.0) =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π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/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co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cos(1.0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ta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t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tan(0.0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la solución al problema de la motiv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1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(“Numeros = “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yor, medio, meno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ayor =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max(Math.max(n1, n2),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nor =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min(Math.min(n1, n2),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dio = n1 + n2 + n3 – mayor – meno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“Ordenados = “ + menor + “ “ + medio + “ “ + mayor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E1A-11E3-4DAB-BC56-D1A074B74B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funciones definidas por el usuarios poseen la misma semántica que en el caso de las funciones predefinidas cuando éstas son invocada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diferente está en que deben escribir sub-programas principales que resuelvan problemas particulares y que sean “repetibles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&lt;tipo-resultado&gt; &lt;nombre&gt; (&lt;argumentos&gt;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&lt;expresión-resultado&gt;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EAA-8CC2-4A4B-9A8D-A3CF4C2E96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, la función az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azar (int min, int ma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min + (int) (Math.random() * (max - min + 1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on esta función podemos obtener un número entre [min, max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EF8-592C-442E-98AE-7BE778F061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con nuevas funcion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Ordena3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 args[])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Ordenad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en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edio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ay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A31-5241-49E4-9C0C-78FF223BC8F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con nuevas funciones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azar(int min, int ma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in + (int) (Math.random() * (max - min + 1)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n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in(Math.min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ay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ax(Math.max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dio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1 + n2 + n3 – menor(n1, n2, n3) – 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245-9529-476B-BFC4-6783C9E8B2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utilizando la clase U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Ordena3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 args[][])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Ordenad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en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edio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ay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33E-79BE-419A-8F2E-EB0AF01DEA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utilizando la clase U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azar(int min, int ma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in + (int) (Math.random() * (max - min + 1)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n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in(Math.min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ay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ax(Math.max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dio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1 + n2 + n3 – menor(n1, n2, n3) – 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B72D-485D-4329-BD28-1E80E7D0A6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: Escriba un programa que le permita al usuario, utilizando la fórmula de una parábola, ingresar un punto “x” y que le retorne indicando el valor para “y” en ese punto. Simule el diálogo de la siguiente form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726F-A264-4878-9959-9981214558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5 Rectángulo redondeado"/>
          <p:cNvSpPr/>
          <p:nvPr/>
        </p:nvSpPr>
        <p:spPr>
          <a:xfrm>
            <a:off x="1928880" y="2928960"/>
            <a:ext cx="6715080" cy="242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o de y en una paráb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a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b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c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parábola = ...x^2+...x+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x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alor para y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parabola(double a, double b, double c, double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a * Math.pow(x, 2) + b * x + c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Programa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 (String args[]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 // Aquí va el códig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A52-FD14-47B9-B99B-194C6A620D3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A6D4-C510-4162-B6AB-9E4C18D189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 (cont)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o de y en una parábola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, b, c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 = U.readDouble(“Ingrese a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 = U.readDouble(“Ingrese b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 = U.readDouble(“Ingrese c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u parábola = “ + a + “x^2+” + b + “x+” + c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Double(“Ingrese x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alor para y = “ +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arabola(a, b, c, x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2A3C-42FA-4DD3-A74E-1CD2D13120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Ordenar 4 números generados al azar. Como indicación, recuerde que puede ordenar 3 y luego encontrar la posición del cuar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a función que reciba dos parámetros (x, n) y obtenga la raíz n-ésima de x. Recuerde que la fórmula de la raíz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√ x  =  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23B-65B6-4892-B09D-6CAEE0DA10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7 Conector recto"/>
          <p:cNvSpPr/>
          <p:nvPr/>
        </p:nvSpPr>
        <p:spPr>
          <a:xfrm>
            <a:off x="4902120" y="47293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6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7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EF6-7C86-4B23-B911-1C3CC62FD46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3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Número: 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obtienen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, d2, d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1 = n / 1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2 = (n % 100) / 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3 = (n % 10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despliega el número al revé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3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1FBE-5852-42E7-9D41-06A74FF5AD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ibir una fecha en formato de número (por ejemplo: 20070309) y convertirla en su forma tradicional (09/03/2007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fecha = U.readInt(“Ingresa la fecha (aaaammdd): 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obtienen cada componente de la fech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ia, mes, ano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ano = fecha / 100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s = (fecha % 10000) / 1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ia = (fecha % 100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despliega la fecha en el formato correct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(“La fecha correcta es =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dia + “/” + mes + “/” + ano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6B2-7E7B-4416-ACFE-4E87692FAE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un programa que permita ordenar 3 números enteros entre 1 y 100 generados al azar. El diálogo sería algo similar al siguient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dicación: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random() entrega un real al azar entre 0 y 1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max(x, y) entrega el mayo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min(x, y) entrega el meno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2FC-6CD4-4CD6-B7DD-ED5186592E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8604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Ordenar 3 números ent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s = 73 8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1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2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3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mayor, medio, menor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ayor = Math.max(Math.max(n1, n2),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nor = Math.min(Math.min(n1, n2),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dio = n1 + n2 + n3 – mayor – menor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Ordenados = “ + menor + “ “ + medio + “ “ + mayor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1269-9A4E-4E5A-8171-EACFB0B84B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Funciones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rozos de código que pueden ser llamados desde cualquier parte del programa y parametrizadas a partir de ciertos valor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2 Tip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 Aquellas que vienen con el lenguaj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 Aquellas que el usuario debe escrib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C62F-BFFF-4311-93B5-FAC4ABC382B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os argumentos (expresion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función (método) utilizando los argumen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cibir el resultado de la función (punto de invocació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funcion&gt; (&lt;argumentos&gt;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funcion&gt;:  Instrucción de invocación de la función. Por ejemplo U.readInt es la instrucción de invocación (incluyendo el “U.”)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argumentos&gt;: Cero o más expresiones aritméticas y/o funciones separadas por coma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Math.max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th.max es la instrucción de invocació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as variables “x” e “y” son los argumen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BA7-8F3D-41D4-BC70-C876CDFDA9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 existentes en la librería matemática (Mat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852B-186A-4ED4-85D9-B16E86104B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2214720" y="2387520"/>
          <a:ext cx="6215040" cy="3768840"/>
        </p:xfrm>
        <a:graphic>
          <a:graphicData uri="http://schemas.openxmlformats.org/drawingml/2006/table">
            <a:tbl>
              <a:tblPr/>
              <a:tblGrid>
                <a:gridCol w="1242720"/>
                <a:gridCol w="971640"/>
                <a:gridCol w="1071720"/>
                <a:gridCol w="1071360"/>
                <a:gridCol w="18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gn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Arg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Resul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|x|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-3)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-3.0) = 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entre x 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4, 6)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4.0, 6.0) = 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entre x 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4, 6)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4.0, 6.0) = 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random(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eatorio entre [0, 1[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random =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.0 3.0) = 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qrt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√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qrt(25.0) = 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exp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exp(1.0) = 2.71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lo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og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log(Math.E) =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14T14:01:48Z</dcterms:modified>
  <cp:revision>77</cp:revision>
  <dc:subject/>
  <dc:title>CC1001 – Computación I Clase 0</dc:title>
</cp:coreProperties>
</file>