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A807-0345-496C-9F98-6A825C6302B1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6B83-0BBD-446F-9C75-F1169EA9F3A6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92E-5128-483B-B45B-8174FAA9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49C-7E48-44B8-8A6E-3CAB6B1B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B6229-AFC2-4672-9810-C4C1D19D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76DAF-84D6-401A-B73A-EE5442E8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4B3F8-45EE-4976-9198-4D57A08B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DC033-FCBB-47B0-AC90-0959F985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BD546-490B-4520-86C3-E446DB55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F6357-8F85-493F-888F-E3FCF524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5A136-D41C-4AC2-BDAE-578A0C52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296E1-A7EA-4E91-8469-019AEBA1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ED31C-A223-4506-BB64-F0ECF9CA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6C4E0-BDA8-4C18-A43F-8540AE17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A77-154E-4E4A-92D9-AC9E2FEF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E3D4A-51F2-4B17-A58A-950F6B0F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57F80-8305-46BC-9890-4A2A1814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B8AF3-4BA0-425F-B701-F9955D91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48A75-02E9-4594-9C0A-914F6615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E07E6-CD53-401F-9E29-A2457C45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3D6EB-7D9F-4D4D-9C30-19FDDDF1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238D9-9939-4AEE-A28A-E4DA8C1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FB47D-68E7-40B5-8BF2-D41EFD7B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B9C99-1116-488D-AEA3-73C66F5B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94170-8B7E-4648-9F16-38AA0F8E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D3B-7774-45E3-969E-FF23BA1E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B4879-B029-42FB-BFDE-004DA7C6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53297-6B30-45DC-9F1C-37B58126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39B2A-0773-4540-98F9-200B6E44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4CD5A-5B87-4B8F-92A6-E6850559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2B1C3-25B9-4FDD-A047-D10FA783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C202A-DD22-408A-A71D-75DC82C2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BCBB4-FD3C-4509-9BE7-EF0BFB8A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072F7-07ED-4D0A-94F5-94E3550A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DC857-EB8D-48E6-9F0B-C4761D4A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AE1E1-66C3-48E3-929F-ED805CA0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7F86-2D61-45F9-9797-C6B0215C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6E1B1-938C-4DB2-8AD2-0120F510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04C40-70C1-49E6-8C7E-9E864DCD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CB3E0-9D16-44C8-B993-DA749080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2FB25-0A0A-4A9C-9D02-7BECC2D4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611DD-A1A7-44D2-948F-4F6BBFA5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2A633-E1BA-4737-8302-7F6EDC24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0C215-6CA2-4BAF-B909-5C9A3935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68E13-582E-44D0-98FA-169A9849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5D01E-0020-489F-81FB-365F947C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6F937-5286-4BD5-9006-5D1735DB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7930-2AC7-4D80-A252-ADEA9B6C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3CCD2-206A-408B-B7E1-3B6299D9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CFA7E-229A-402D-BD99-323DCD8A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BCD9E-2118-4AEB-A4BB-01B2856F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2E495-D915-4AA6-908C-407BED90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9AF32-A83D-450A-8F15-ED3BB88F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9B82-7A09-44BE-AB02-7FC8A7FB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347C-14FC-4824-9BEB-E934368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A768-FF30-4840-9F2A-EB5707F6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4AA5-9928-47ED-8C91-AED51117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2014-9020-4481-AFE4-434ABA0B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3D3-077E-454C-BBC8-C27BF913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92DC-5180-4385-8C83-6A2C3FD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3075-5A7F-42EB-B782-9A4EBC23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94ED-8524-480C-B330-22E204C7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9AF9-81EB-4624-B135-AB569BEF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4EAC-F832-44A6-9121-12277AD3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B6F2-8A0E-4CD4-96D2-5A7426B7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629D6-B593-48C7-B86E-32997A4B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2609-979E-4228-87D1-B8A99E0A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9596-5BB9-4F19-8506-23C3F4CE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22E2-6B93-4640-B6E2-4EBAA795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318-9CD8-401E-A14F-0D0D2C0E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B170-7E00-4FE5-9CE6-17171F05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5D88-2616-467D-98B7-74F015C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3A9C-E300-4EC9-9544-62F756E8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DBE77-C333-414B-8108-AF137DE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FBFD-3686-400C-B13D-95439281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8BBD-DEA1-42AE-A56D-1914555F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4E25-ECB3-4807-8857-B053272E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2EDD-FD9D-40D6-AE0B-77D563BF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E361-08D9-4D6E-A945-3209BEAD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B7E39-3D04-4D13-BD5D-8A84858A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FA0-7547-43C5-9148-7A592AE2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76FA-64E3-43ED-A87F-C6EE8AB9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0DC1E-C208-4D69-B8BB-885716C1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CBA9D-8504-408E-83E9-223852DF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2494A-B649-440C-8C27-F4C31DEF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53AE-D9DE-4932-A2E3-F87D402D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B172-6B83-4E15-9BA6-6EC60C5F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EA137-355E-4605-B719-6C319FBB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DAC2E-8B1F-4878-BA65-321BE10E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38CA-2D46-4A26-888B-044515FF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341CF-EDDA-4745-80F6-514A4C8A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225-E87B-4737-BDAB-8A6A3006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F1DFB-457E-4477-A02A-5E95BAB2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B88C5-A4E4-4CA6-AE24-50C41E3D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9DE46-5682-46A2-893A-F63B4BF5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A8C48-727A-4483-91B1-AF46D629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3CC03-A72C-41EA-B9A1-8B5CBCB2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85DBE-01A1-4EE1-91A1-2F9A0D69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02DF0-8FEC-4C7F-87E6-8DDC907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47A4-115B-4FCE-BE55-0E3E1664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19556-4445-427C-90A5-23857EB6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98F5-A678-42FD-BE4D-F12BE78A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9CB-034C-41B4-A0CF-BD42B868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0296F-C71B-451E-A822-FCA4C039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D4A54-9583-4FD0-94F3-82FD2035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F3592-D9C5-4C62-90FC-4EA046AE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C8A1B-1E2C-48CD-8604-9FC4C13B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6E836-ACAA-4D8D-B11A-E0A64325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8FB42-22DE-4807-AAE8-6A53B635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E8150-AC22-4AC2-87D2-8D38629B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5376D-9A78-440E-98BB-3DDC166A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8F1F5-65C4-497E-B2E8-8ED23D13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C1FA9-581F-4D35-A0F0-3CDEDB91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4D8-53F2-456E-B9F6-11A17BC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A79CC-D78E-4CE9-85DA-4F165DAA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1BA4-1227-4CA6-BD0F-5540EC55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E7492-732B-465E-8E78-042A797C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3A56B-8836-40CA-88E4-A5F8DB20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C6806-B9B5-45A1-A7A3-19B75758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42467-1F34-4C12-9D6A-20FEAE4D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A2CD6-B4C1-42C5-B678-42848162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3D29B-ABB9-4B2B-A99A-8A6D6586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26DC1-6268-4990-B187-0ED1AEDA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A5050-1FDD-40E4-B113-EE3F0AF4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478-38AC-4B28-8430-3976B686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80CE9-1DE2-4CF4-B989-90D97525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28BD-B899-4B4E-8FFC-247BE6E3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C3B14-E405-4B3D-833C-FDE45E62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66A1-CFCD-4E7E-AE76-0D158C97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06D5D-E159-49BF-A819-E5347B10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62057-B318-4C9F-9677-651DD9FA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047CD-BC1C-4633-8FCC-F435B454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1FC24-2588-4DC8-9F08-EA387585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F8AC6-CFBF-4B44-A292-EC94EE6F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81CEB-FEA5-40FF-A70C-98F36456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CF4-0E84-4904-B81C-91298A57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CC6F1-4518-491A-9AC3-0DDF38F4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943C9-3773-4202-8345-DE6752A7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E354-ED43-4C55-970F-1FCA49D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FB899-F385-4A8A-8BAA-1C84C90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02591-8979-41F3-9FAB-3EF1300C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BEACC-6B27-467B-8662-8E8C1C6B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E86BA-B84D-4F7D-B11E-C9B16131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9C938-5EE8-4320-B0C9-A5791DD9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5A442-0025-4583-BDB4-82CF4312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3E4F6-9B0F-4349-968B-60E209C4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3269-2EDF-4A54-BA86-58678147636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7CDB-96CD-4306-BBD1-66D29BE9456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9269-D555-4393-9D2A-970B1EF99C3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C365-9C55-41AF-AFC8-2ECCFBF68D0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A307-B9F1-41DA-A597-034B76D4215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3164-7587-4386-83B2-223EDF686C2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5389-7582-400F-99DD-94A8B16F8CD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2B5F-72FA-4064-93A5-6A835657FE3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D89B-7B02-4886-845A-DE29DC28A56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A98F-7343-4C77-8B0D-BE44A99C8B2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2057-B079-447E-A632-7DB37376FD9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4421-5611-4647-8B90-DB28400D54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8C66-45A6-4593-A07C-E43E3D18ACE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C874-9064-4E43-B04B-435946CF64F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C81A-A9B7-49F9-ACF6-285C906E499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18AB-9E72-47A0-B46F-51E2C3BCE4A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B140-B803-442B-A22A-4EB560AC6CC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60FD-5181-455C-80CA-E8F946ACB4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4FA4-C676-45BC-A678-CF85938D594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63BF-456E-4072-BD3F-ADFC1B6C696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1D12-82B5-4D55-B00C-7655F691EF3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7349-D3C4-4FFD-9F83-DA8F4A5C975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546B-6D19-45ED-AC30-642C0D28DC4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C947-82E8-47AC-B125-34DBBF5964A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14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FEB9-18E7-4F6A-B956-D046FB7003A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Predefinidas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Gill Sans MT"/>
              </a:rPr>
              <a:t>Recuerde que a un double se le puede asignar un i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3A30-B33A-4CBD-B8C4-1490037AF9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214720" y="2000160"/>
          <a:ext cx="6215040" cy="2683080"/>
        </p:xfrm>
        <a:graphic>
          <a:graphicData uri="http://schemas.openxmlformats.org/drawingml/2006/table">
            <a:tbl>
              <a:tblPr/>
              <a:tblGrid>
                <a:gridCol w="1242720"/>
                <a:gridCol w="971640"/>
                <a:gridCol w="1071720"/>
                <a:gridCol w="1071360"/>
                <a:gridCol w="1857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u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gnifi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Argu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Resul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mp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sin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sin(Math.PI) = 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cos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s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cos(Math.PI) = -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tan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ang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tan(Math.PI) = 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sin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cos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sin(1.0) =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π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/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cos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cocos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cos(1.0) = 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tan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cot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tan(0.0) = 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Predefinidas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 la solución al problema de la motiv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15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U.println(“Ordenar 3 número enteros”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U.print(“Numeros = “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1, n2, n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1 = (int) (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Math.random(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* 100)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2 = (int) (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Math.random(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* 100)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3 = (int) (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Math.random(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* 100)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U.println(n1 + “ “ + n2 + “ “ + n3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ayor, medio, menor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ayor = 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Math.max(Math.max(n1, n2), n3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enor = 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Math.min(Math.min(n1, n2), n3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edio = n1 + n2 + n3 – mayor – menor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U.println(“Ordenados = “ + menor + “ “ + medio + “ “ + mayor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9A1D-6888-4498-ACCF-303D4942638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Definidas por el Usuario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s funciones definidas por el usuarios poseen la misma semántica que en el caso de las funciones predefinidas cuando éstas son invocada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diferente está en que deben escribir sub-programas principales que resuelvan problemas particulares y que sean “repetibles”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&lt;tipo-resultado&gt; &lt;nombre&gt; (&lt;argumentos&gt;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&lt;instrucciones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&lt;expresión-resultado&gt;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3D4C-26FB-40A6-AAD4-8C16DE56A31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Definidas por el Usuario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, la función az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azar (int min, int ma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min + (int) (Math.random() * (max - min + 1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on esta función podemos obtener un número entre [min, max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B87D-E286-46B7-8F64-B5C963A7A8D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con nuevas funcion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Ordena3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 args[]) 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Ordenar 3 número enter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Numeros =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1, n2, n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1 = 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2 = 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3 = 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n1 + “ “ + n2 + “ “ +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Ordenados =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menor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medio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mayor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4D8B-BB32-4ED2-AC9C-CB3C020D7CF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con nuevas funciones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azar(int min, int ma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in + (int) (Math.random() * (max - min + 1))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enor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ath.min(Math.min(n1, n2)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ayor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ath.max(Math.max(n1, n2)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edio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n1 + n2 + n3 – menor(n1, n2, n3) – mayor(n1, n2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B659-5F56-40AB-B47F-4B2E43E73B0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utilizando la clase U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Ordena3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 args[][]) 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Ordenar 3 número enter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Numeros =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1, n2, n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1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2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3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n1 + “ “ + n2 + “ “ +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Ordenados =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U.menor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U.medio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U.mayor(n1, n2, n3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7B50-F800-4A9F-B050-5270F57A7C8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utilizando la clase U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U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azar(int min, int ma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in + (int) (Math.random() * (max - min + 1))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enor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ath.min(Math.min(n1, n2)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ayor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ath.max(Math.max(n1, n2)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medio(int n1, int n2, int n3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n1 + n2 + n3 – menor(n1, n2, n3) – mayor(n1, n2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BDC1-F0EF-47DC-B2BE-79A8B29A053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blema: Escriba un programa que le permita al usuario, utilizando la fórmula de una parábola, ingresar un punto “x” y que le retorne indicando el valor para “y” en ese punto. Simule el diálogo de la siguiente form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1961-6676-428C-B8F1-3DC514952E2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5 Rectángulo redondeado"/>
          <p:cNvSpPr/>
          <p:nvPr/>
        </p:nvSpPr>
        <p:spPr>
          <a:xfrm>
            <a:off x="1928880" y="2928960"/>
            <a:ext cx="6715080" cy="242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o de y en una paráb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e a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e b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e c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u parábola = ...x^2+...x+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e x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alor para y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U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double parabola(double a, double b, double c, double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a * Math.pow(x, 2) + b * x + c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Programa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 (String args[]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 // Aquí va el códig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72B1-9420-48A9-93A0-A80AA16E259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4324-36D9-4E09-B628-6381E4798B6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olución (cont)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alculo de y en una parábola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a, b, c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a = U.readDouble(“Ingrese a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b = U.readDouble(“Ingrese b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 = U.readDouble(“Ingrese c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u parábola = “ + a + “x^2+” + b + “x+” + c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U.readDouble(“Ingrese x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Valor para y = “ + 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U.parabola(a, b, c, x)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3E97-7213-4247-B27F-9F328F14A5C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Ordenar 4 números generados al azar. Como indicación, recuerde que puede ordenar 3 y luego encontrar la posición del cuar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a una función que reciba dos parámetros (x, n) y obtenga la raíz n-ésima de x. Recuerde que la fórmula de la raíz 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√ x  =  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1/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6841-ABA8-4041-875E-1E8747444CD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7 Conector recto"/>
          <p:cNvSpPr/>
          <p:nvPr/>
        </p:nvSpPr>
        <p:spPr>
          <a:xfrm>
            <a:off x="4902120" y="472932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6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57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529B-1C22-487B-976D-84FCD6327A2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vertir un número de 3 dígi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3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Número: 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 obtienen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, d2, d3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1 = n / 10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2 = (n % 100) / 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3 = (n % 10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 despliega el número al revé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3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949A-B9EB-408F-991D-1AB374749E9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ibir una fecha en formato de número (por ejemplo: 20070309) y convertirla en su forma tradicional (09/03/2007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fecha = U.readInt(“Ingresa la fecha (aaaammdd): 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 obtienen cada componente de la fech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ia, mes, ano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ano = fecha / 1000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mes = (fecha % 10000) / 10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ia = (fecha % 100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 despliega la fecha en el formato correct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(“La fecha correcta es =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dia + “/” + mes + “/” + ano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E4D5-5A44-4983-90F7-1B23AFAD03C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scribir un programa que permita ordenar 3 números enteros entre 1 y 100 generados al azar. El diálogo sería algo similar al siguient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dicación: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ath.random() entrega un real al azar entre 0 y 1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ath.max(x, y) entrega el mayor entre x e 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ath.min(x, y) entrega el menor entre x e 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7371-FC4F-4EEC-9760-64860F2A382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5 Rectángulo redondeado"/>
          <p:cNvSpPr/>
          <p:nvPr/>
        </p:nvSpPr>
        <p:spPr>
          <a:xfrm>
            <a:off x="1928880" y="2786040"/>
            <a:ext cx="671508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Ordenar 3 números ent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s = 73 8 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Ordenados = 8 46 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Ordenar 3 número enter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(“Numeros =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1, n2, n3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1 = (int) (Math.random() * 100)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2 = (int) (Math.random() * 100)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3 = (int) (Math.random() * 100)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1 + “ “ + n2 + “ “ + n3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mayor, medio, menor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mayor = Math.max(Math.max(n1, n2), n3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menor = Math.min(Math.min(n1, n2), n3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medio = n1 + n2 + n3 – mayor – menor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Ordenados = “ + menor + “ “ + medio + “ “ + mayor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7A01-4461-40EF-8359-FBB7E64A1E7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Funciones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rozos de código que pueden ser llamados desde cualquier parte del programa y parametrizadas a partir de ciertos valor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2 Tip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Gill Sans MT"/>
              </a:rPr>
              <a:t>Funciones Predefinidas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 Aquellas que vienen con el lenguaj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Gill Sans MT"/>
              </a:rPr>
              <a:t>Funciones Definidas por el Usuario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 Aquellas que el usuario debe escrib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1632-7081-462F-A1F2-3CD4634B434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Predefinidas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los argumentos (expresione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la función (método) utilizando los argumen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Recibir el resultado de la función (punto de invocación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funcion&gt; (&lt;argumentos&gt;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funcion&gt;:  Instrucción de invocación de la función. Por ejemplo U.readInt es la instrucción de invocación (incluyendo el “U.”)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argumentos&gt;: Cero o más expresiones aritméticas y/o funciones separadas por coma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Math.max(x, y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th.max es la instrucción de invocació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Las variables “x” e “y” son los argumento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4E6D-8A86-4F47-80B1-380ABE4F659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Funciones Predefinidas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(cont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ones existentes en la librería matemática (Math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2A37-D9CF-4058-B66B-475A488CE84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2214720" y="2387520"/>
          <a:ext cx="6215040" cy="3768840"/>
        </p:xfrm>
        <a:graphic>
          <a:graphicData uri="http://schemas.openxmlformats.org/drawingml/2006/table">
            <a:tbl>
              <a:tblPr/>
              <a:tblGrid>
                <a:gridCol w="1242720"/>
                <a:gridCol w="971640"/>
                <a:gridCol w="1071720"/>
                <a:gridCol w="1071360"/>
                <a:gridCol w="1857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u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gnifi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Argu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Resul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mp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bs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|x|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bs(-3) =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abs(-3.0) = 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ax(x, 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entre x e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ax(4, 6)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ax(4.0, 6.0) = 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in(x, 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entre x e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in(4, 6)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min(4.0, 6.0) = 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random(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leatorio entre [0, 1[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random =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pow(x, 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pow(2,.0 3.0) = 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sqrt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√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sqrt(25.0) = 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exp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exp(1.0) = 2.71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log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og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Gill Sans MT"/>
                        </a:rPr>
                        <a:t>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log(Math.E) = 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14T14:01:48Z</dcterms:modified>
  <cp:revision>77</cp:revision>
  <dc:subject/>
  <dc:title>CC1001 – Computación I Clase 0</dc:title>
</cp:coreProperties>
</file>