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9BD6-E385-4393-A47E-107871FC47A9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B00A-E943-45F2-B417-35B8A8686D02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9FC-01D0-4DDD-A92D-336F6D6A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F84-2471-4597-B9D4-37FC2D03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0545B-5EF1-4102-BA3D-BEACDFF2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43AF4-D4EF-4EC3-B9F7-4C0A8FC8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77CB4-F36D-4D69-9BBF-A2AD9992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B8554-C689-4564-AEA6-7F091F4C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E00DF-F04B-4162-8130-42CD72CE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D230B-E06C-4655-A241-66B1DC96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DF045-86E3-4A84-AAF0-BF359F6E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E2B6C-60F7-45D8-B4C0-7465D022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8E407-72E7-402B-9E83-FB5C6461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915E6-F3FD-4743-9B8B-99E5EB50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478-6C6B-48B0-A718-9E7DBDA0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78182-B2B6-44E1-BC48-9FDE1062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7BF95-F91B-46C6-9E68-5D2BA2D8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5553F-8F98-43B1-BFEF-01EC5620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9E622-96C3-463A-8643-602E01A6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40346-29A4-4BCF-9EB5-740778D1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69BBB-BC7B-4614-915D-CD1F664D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5E53C-2ABE-4BD7-9775-D7643266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50870-F955-41D6-B722-008AEE62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79745-D141-4794-B800-9903E3CF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AB6BB-103B-4FC3-AD6D-B3AA69EA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B9F-9B16-42A8-9598-350AAAAF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5435A-9ECF-4578-A196-C07E1E0D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F793A-E5E7-4B70-8A24-8FB5403E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FF677-4CCD-4B00-B401-82C4A6AA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CB82C-B5E4-4056-B724-A5517C27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C1B51-3DB2-4BD4-AAFC-5CFF12EB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5CF36-ECEF-469A-B342-D7180A43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A598F-4476-4459-8829-896A5FCA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D9889-3504-4C41-B11E-FB3EB5C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E3F57-17A1-459C-9FE1-A495127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B57A8-2627-4FB1-9A3C-16AB0BD1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493E-E040-4611-97BB-D23F823E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EA888-BF69-4A1A-AF7E-437D8C2A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762DE-0A2C-45E7-B434-8C2762CB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F617C-5817-4CEA-94F4-DD158B73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9F32E-70D5-4E2B-B315-164FD957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8538B-0B63-463B-9EA6-3E232A34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58189-F3BF-40AA-9368-252F48A9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CBC06-D03E-421F-B636-B90C9916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E963F-D041-44BB-A591-AB31025D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7892F-5319-46D3-9030-D9FC899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C3F7F-9B50-4EF6-8F43-1A086BE7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7F05-618B-484F-9A78-55FB863C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FB1F3-FB62-4BAE-8E71-575DCB6C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44865-DB85-47BC-B94E-783CADC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8C98F-FD18-45F3-B78C-B4D568C3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D7A85-C8EC-4678-A26E-C60A816D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0BEE4-4609-45FE-95BC-CDDCD83A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76DF-2C1D-4F17-BBC4-A703F6F1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ECD2-9E7B-42EA-A9F0-B5EEBF2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8CE7-2743-4C91-92A3-112E8BFB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B78D-A97A-497C-89D8-CDB65DCE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1DB5-3912-4D46-A742-9C72D0EF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8B8-EDC7-4AAF-AD69-0B8DFAA2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E754-8D34-402A-9CB4-E0E8194B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31BB-EE7E-425B-910F-907F9A9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16B6-1548-4A80-A74B-04CA6E2F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5AA6-3745-432A-977A-60AF8F05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7764-FC27-4B1A-B8AC-1388C04E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1817-4016-42DC-821C-C0269045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439B9-3A96-42FA-B9C2-F38511B5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4638-B986-4D6D-92E8-C9A2A372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D988-E1CF-471B-9CC1-2EC5F8B9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2FB9-2F3B-4CCD-BFF2-D82FD99F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1F3-6383-48B3-8110-5A5DD68D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E3CC-B048-4C5C-920A-77CB7887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1F18-F26A-4198-852C-6061CABF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620A-4AC9-4837-9603-2CC2F581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CD3F-775C-4E14-B915-2FC6038D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3FD4-7AFC-47D2-AEF1-7BA1D62D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4ACF-E57F-4DF5-AA29-980268C2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3BBC-4449-453F-A771-0A431773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9661-B0E1-45E0-B904-24846E79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4A49-5C7A-4F34-A6E4-44EE65F3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B570-D832-4192-90D9-1AC3547C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C21-8AF1-418A-9854-434FAED5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12A2-1F0F-4D9A-9512-A202311F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5A3E1-2D71-4435-84CC-0568E1B4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8EE9-E0D0-4741-9D02-2699DD77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32878-5715-4DBC-A4CC-00866CED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3C446-F6D2-4DDF-B75D-BBFAAD4C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FFE9-F40F-410A-8F6E-E9544E26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08CEB-F342-4EF7-A447-A18B9BB4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D992-2A1F-461D-B74D-10605CD0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AB839-A564-40A7-A808-904BD830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E1D0-6FB1-4C41-85D1-210028C2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83E-8956-4305-AD70-47609882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8B521-7525-46C3-8F99-3AF380B7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0ADEE-A473-4EB9-AE59-7427AEB9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415C3-F903-4E72-8FC9-5C5AAF47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20799-780D-4E5E-9941-3AD3AF93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0A8A8-8BE0-45EB-90F1-C3614531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97257-3A3B-433F-86C1-4D8EE34A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48E7A-0919-4C31-8BE1-D22AF6A2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1D2BD-5B73-47BC-885E-8F757B6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83E63-CE1E-4854-B727-A1A0BB29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A7EA5-5740-4BBA-BD97-BD2F1594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61E-38DE-4B0D-AAF4-39A3784C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5610B-0188-476E-A087-28CBDE1B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FDC1-4BD2-4B27-BB50-6B47C04D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B74D-532E-4E0B-BC98-DBAD648E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B6E3E-3FD5-4315-AF9B-4D0C9F96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BF409-6FDF-4002-A260-57A94354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BC7FF-AA60-40F9-AC4E-44BED846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A48B2-FAC8-45EC-84B8-17E40321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1FCAF-6CA1-4347-B583-2B0C4FE2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5CEF2-7077-43D8-9FA0-4DEF0209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BF61F-0304-4A1A-90D8-172621E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9CD-D322-4821-B288-83AAE82B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26F6-AA4D-451B-8928-C9258DCD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BA972-EDE3-44E9-919C-14A797BA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F352A-D679-4FBB-BC1F-BA8C9E84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0F593-5C36-4474-BD93-B4B5AF58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4BC96-ACA6-4587-9F71-E7ED1EDD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0D25D-866C-4CFA-81B9-ABA4FEAD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3D18C-E787-43AA-91A0-6567A922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16CB1-FF93-4563-A6B5-D7358547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BCEFC-C144-45D7-BA80-1BF37F1B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29A66-129D-4678-863C-6FF40741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D41-BED7-4DF5-B40B-5175E003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F80AB-7DB4-4B0C-BDBF-2F2D0C30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2FD1D-7839-4662-A679-3DBAD8B1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7CF56-035C-41DA-B853-8E4381AB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0D78E-1872-4CFA-9BAF-642F1D8D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05FB3-B2AE-4B5C-AE2C-D59FA08F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2234F-31B1-4838-B8DE-D20A4F49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4633E-61CC-4635-89F8-0D4C643F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6406F-7CDA-44A4-8C92-8F319C2A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5DE12-8E4F-421B-AFE8-57FF0446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706F0-9C63-4709-8699-721D1B6C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E79-91E2-4480-B235-E6DF4C55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BD9BE-5D57-4D30-B566-10960FD0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CE0D4-79F6-4DE6-9D27-52BF5EBF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5ECB2-19E6-4371-9B81-BD68DFC9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0240F-622B-46A4-A9CE-65FDFEE4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DB170-4139-4C77-B27F-E8E4AA7D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A1A05-4528-417C-845C-E5763261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959B8-646C-4E30-B162-346860EF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9FC38-2ED8-45B4-B3A0-9FB8A567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274EE-C4FC-4967-93A2-BA24864E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C9156-FE1E-4593-A5DE-09F4D488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6366-8EF2-4F02-ABCE-939A023BD8B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7A0A-29B2-4C52-921D-E46926E8FA8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71F3-CDC5-43E4-B073-F44D79E28FA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F3A0-AEB7-487C-9218-A2AFBE9CEF6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DC22-7407-4A6C-812F-4C0D592434F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72BF-7519-495C-954B-9DE0D98BDAF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038F-949D-4EB2-BE1E-3E9C6816948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7353-C32D-4859-8E87-2C98774BE06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CA1-26E1-45D6-BFB4-6117E9192AC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11F5-3E9C-417E-AE0E-04CBC60FDEB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5DF2-6E93-4863-AFEA-91270DD8D3A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AF9C-2259-4509-87A6-0F9B49F4C87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D19E-A0CF-4884-8DD2-D00881890AA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7279-8B77-4FC6-92E0-D19C608200A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24B1-AF46-4AFA-AF1C-61B97B289DE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77DC-5BFF-4FDD-A33C-24B7DAB258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E6E7-FE1A-42BD-AC35-63ACD4E3164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D0FE-0647-4140-8C3E-5A6E6C8CC6D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181A-4EE6-4121-BD3F-321E64ED301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C66D-BF7C-484B-8345-F82BD20C323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AF35-F089-43EB-9107-DF38355D007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3C73-DEA7-400E-A324-857254E6A92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1BD7-D3C3-421F-B9F8-ACC80C6C7CD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8D69-84E8-4866-BB8E-031522BB7EB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9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7197-E64B-4452-9F2C-D53C2389BE2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Inicialización de Variabl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claración y asignación inicial de un valor a una variab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claración (reserva de espacio de memoria) de variable según tip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valuación de la expresión para obtener el valor inic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signación del valor evaluado a la variable “declarada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tipo&gt; &lt;nombre&gt; = &lt;exp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tipo&gt; &lt;nombre1&gt; = &lt;exp1&gt;, &lt;nombre2&gt; = &lt;exp2&gt;, ...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tipo&gt;: Tipo de variable a iniciali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nombreN&gt;: Nombre de la o las variables a iniciali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expN&gt;: Expresión a evaluar como valor inici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E746-B1ED-4B48-902E-CB8A7A42229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de Datos Numéric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Bit = binary digit (digito 0 o 1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4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¿Cuál es el mayor número entero?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presentación: 011111111111111111111111111111111 (32 bit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l primer bit en 0 indica el signo POSI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Los siguientes 31 bits en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valuado: 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+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+…+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=1+2…=2.147.483.647=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3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1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imilar al decimal 99999… =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483E-4DAC-4E79-99E5-1CE94FB863F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857240" y="2071800"/>
          <a:ext cx="6715440" cy="1112760"/>
        </p:xfrm>
        <a:graphic>
          <a:graphicData uri="http://schemas.openxmlformats.org/drawingml/2006/table">
            <a:tbl>
              <a:tblPr/>
              <a:tblGrid>
                <a:gridCol w="928800"/>
                <a:gridCol w="642960"/>
                <a:gridCol w="1928880"/>
                <a:gridCol w="2071800"/>
                <a:gridCol w="1143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Va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Va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ci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2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=-2.147.483.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1=2.147.483.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1.07 x 10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07 x 10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de Datos de Expresion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C1DE-FDDF-4ACF-9530-1CDDB0854D2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857240" y="2071800"/>
          <a:ext cx="6715440" cy="2930400"/>
        </p:xfrm>
        <a:graphic>
          <a:graphicData uri="http://schemas.openxmlformats.org/drawingml/2006/table">
            <a:tbl>
              <a:tblPr/>
              <a:tblGrid>
                <a:gridCol w="1143000"/>
                <a:gridCol w="1000440"/>
                <a:gridCol w="1785600"/>
                <a:gridCol w="1428840"/>
                <a:gridCol w="135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dor u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del opera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(-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dor bi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y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2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étodo (fun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de 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pow(2,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8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pre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Último tipo ope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+ 2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y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4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Constantes Simbólica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Variables con la capacidad de guardar un único valor (inicial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on inmutabl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inal &lt;tipo&gt; &lt;nombre&gt; = &lt;valor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en las Asignacion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Asignar valor a una variable del mismo tip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Asignar valor a una variable de un tipo más grande (int &gt; doubl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No se puede asignar un valor más grande a una variable de tamaño más pequeño sin un casting de tipo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2A37-5401-404B-89E3-3918B737DBE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Casting (Coerción) de Tip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versión explícita de un valor compatibles con el valor de la variable pero más grand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la expresión para obtener el val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vertir (forzar) el valor al tipo indic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volver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variable&gt; = (&lt;tipo&gt;) &lt;expresion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donde se almacena el valor convert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tipo&gt;: tipo de la variable. Debe ser compatible con el tipo de la vari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a evaluar (del super tip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683B-3998-445C-8FF5-47CC506BCD6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Algunos Ejempl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180080" indent="-165960">
              <a:lnSpc>
                <a:spcPct val="100000"/>
              </a:lnSpc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1 = 4.5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JAVA lanza un error de tipo,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no puede hacer la conver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2 = (int) 6.5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En este caso el casting ex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plícito permite que n2 = 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ouble p = (5 + 6)/2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Aquí el valor sería 5, con l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que perdimos preci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ouble c = (5 + 6)/2.0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Aquí el valor sería 5.5, por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que 2.0 obliga a que la divi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ión sea re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v1 = 7, total = 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100.0 * v1 / total  </a:t>
            </a: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≠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  v1 / total * 100.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7F2B-E4B2-4F79-B30C-2136D8C7F73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Escriba un programa que establezca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5D3D-5F5E-4917-A02A-5094CEC7A92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5 Rectángulo redondeado"/>
          <p:cNvSpPr/>
          <p:nvPr/>
        </p:nvSpPr>
        <p:spPr>
          <a:xfrm>
            <a:off x="1928880" y="2500200"/>
            <a:ext cx="671508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versor de Números de 2 Díg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Dame un 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u inverso es = 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olicitamos el número al usu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2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ame un Númer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paramos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 = n/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2 = n-d1*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también es vál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(10*d2+d1)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7222-71ED-4C99-A962-2B71853BE4B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Con operador de módul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olicitamos el número al usu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2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ame un Númer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paramos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 = n/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2 = n%10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Resto de la divi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45D3-1666-4D18-B4A7-80EE91CE36D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vertir un número de 3 dígi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Recibir una fecha en formato de número (por ejemplo: 20070309) y convertirla en su forma tradicional (09/03/200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B31-AA16-4ECD-A435-76FEA139793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Clase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071-A3B2-4208-ABA0-E50FE77814C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0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51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8E2F-5866-4B24-8F1E-589E8FB5300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alcular el perímetro y el área de un rectángul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l = U.readDouble(“Larg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a = U.readDouble(“Anch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Perímetro = “ + (2*(l+a)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rea = “ + (l*a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871D-9DD9-4A8B-99A5-A7E6D59734C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Rectángulo redondeado"/>
          <p:cNvSpPr/>
          <p:nvPr/>
        </p:nvSpPr>
        <p:spPr>
          <a:xfrm>
            <a:off x="1928880" y="2357280"/>
            <a:ext cx="67150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el perímetro y área de un 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Larg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nch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 Diseñar un diálogo y escribir un programa que calcule la velocidad de un móvil en km/h, dadas las distancia (en metros) y el tiempo (en segundos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álculo de Velocidad de un Móvil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d = U.readDouble(“Distancia (en mts)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t = U.readDouble(“Tiempo (en segs)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Velocidad = “ + (d/t*3.6) + “ km/hr”)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iene de (d/1000)/(t/360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DF8C-0D1E-48BD-97A1-5DE2FC7C57A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8 Rectángulo redondeado"/>
          <p:cNvSpPr/>
          <p:nvPr/>
        </p:nvSpPr>
        <p:spPr>
          <a:xfrm>
            <a:off x="1928880" y="3214800"/>
            <a:ext cx="6715080" cy="142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álculo de Velocidad de un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Distancia (en mts)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Tiempo (en segs)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elocidad = ...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Escribir un programa que instruya al computador para que establezca el siguiente diálog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68AA-B0A0-41A5-9645-462DBC4A59A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5 Rectángulo redondeado"/>
          <p:cNvSpPr/>
          <p:nvPr/>
        </p:nvSpPr>
        <p:spPr>
          <a:xfrm>
            <a:off x="1928880" y="2928960"/>
            <a:ext cx="6715080" cy="221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álculo de Porcentajes d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otos Candidato 1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otos Candidato 2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Total de Votos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ndidato 1 = ...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ndidato 2 = ...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álculo de Porcentajes de Votación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v1, v2, total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declaramos todas las variab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v1 = U.readInt(“Votos Candidato 1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v2 = U.readInt(“Votos Candidato 2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total = v1 + v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Total de Votos = “ + total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andidato 1 = “ + (100.0*v1/total) + “%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andidato 2 = “ + (100.0*v2/total) + “%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9DC8-91B5-4BD5-B052-FE9DB58259C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Instrucción de Asignac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 instrucción de asignación es una sentencia que permite darle un valor a una variable, obtenido de alguna expresió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uar expresión (calcular el resultado) según las reglas normales de algeb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signar (guardar) el resultado evaluado a (en) l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&lt;variable&gt; = &lt;expresión&gt;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Nombre de la variable a ser asignad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que debe ser evaluada para asignar el val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D579-87D9-4FB8-AD6B-AA180116B81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Instrucción de Asignac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(cont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v1 = readInt(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total = v1 + v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promedio = (v1 + v2)/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Expresión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strucción escrita en una línea (hacia el lado) y no en varios nivel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s compuesta p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Variables y constant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peradores binarios (+, -, *, /) y unarios (+, -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étodos (funciones) que devuelven valor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réntesis para priorizar sub-expresion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13A1-49E2-42F2-AAC1-055C3660B88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Expresión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 (cont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as expresiones se evalúan según el orden tradicional utilizado en aritmé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244880" indent="-174960">
              <a:spcBef>
                <a:spcPts val="34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unarios (+, -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“multiplicativos” (*, /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“aditivos” (+, -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44880" indent="-1749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En caso de operadores de igual prioridad, se evalúan de izquierda a derecha.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100.0 * v1 / total 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(100.0 * v1) / tot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os paréntesis se usan par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999720" indent="-43884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odificar el orden de evaluación. Ejemplo: (a+b)*c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999720" indent="-43884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Resaltar el orden de evaluación.  Ejemplo: a+(b*c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5742-1C12-4670-93B2-F98185C3E8C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5 Flecha izquierda y derecha"/>
          <p:cNvSpPr/>
          <p:nvPr/>
        </p:nvSpPr>
        <p:spPr>
          <a:xfrm>
            <a:off x="4572000" y="5143680"/>
            <a:ext cx="428760" cy="142560"/>
          </a:xfrm>
          <a:prstGeom prst="leftRightArrow">
            <a:avLst>
              <a:gd name="adj1" fmla="val 50000"/>
              <a:gd name="adj2" fmla="val 5012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9T12:24:49Z</dcterms:modified>
  <cp:revision>77</cp:revision>
  <dc:subject/>
  <dc:title>CC1001 – Computación I Clase 0</dc:title>
</cp:coreProperties>
</file>