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31D3-36D6-40B5-A17B-7342BE04E555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6C56-4803-49D4-B984-5B7941216D50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B67-284C-42C4-A7AD-EA023AAE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A38-9883-466F-99FD-509181DD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79003-1BD0-45DE-AD5A-F963FAD0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30E0C-09C7-41C3-9166-7728C140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EB3C1-CA62-4C9F-947C-0A1E74B6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2B10C-3E7C-499A-AE18-C7A42D68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BEC8A-6533-4432-9712-75FBDAC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27B2A-91F7-4434-9F99-990CC5F4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84A76-8BE0-446E-A693-5788D9A0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6EFE0-9428-452F-90B3-A59C2C03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EEC4D-7034-44B0-A7B3-3AB97A2E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5B8D7-4B7E-4CCC-AD8F-64C577D8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FED-9628-467A-9ED9-E1037D89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89DFB-0CA9-4E22-B852-5C4C7169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FA767-25E9-43A5-A3B9-8D4F9975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293B3-0C03-409B-942F-AC1F9B05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B97DE-8FE6-49CF-93AC-B3CBD001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BF643-3B5E-4621-BBBC-9FCBDE2F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D5462-79FD-4673-BBC2-A91EB165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D8FDC-0E11-4721-9CDB-995F7BFE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C8582-A462-47C9-B9CD-735E11C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295C9-2429-492E-A06F-707EA6E0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94343-29D3-43CC-8992-FC6FE38E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41C-62F0-44A8-9A1D-C082B9F9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F4CDA-4578-4221-A496-EB81BCDB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7338D-6AA2-49AF-9549-68E979AF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665BD-8BEE-4280-AF38-69694F16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574DA-D31A-4D66-9B7F-8158E829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A460B-1197-49B6-AA27-98EE9AFF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F857F-1CC9-456A-93FA-4C2226CA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4E944-2253-4034-A5AE-6226D096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71622-076F-4CD3-82F2-8986207F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D6589-6EF5-4094-BE8B-3C8E0BCF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4FEBA-ECD0-40CE-92EC-B027458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F3CE-9269-4153-8ECE-7C838803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2B532-6BDB-4B01-9975-80F96D51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3CF87-534D-44FB-8FF6-EFADA2AA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9603C-48B2-49BE-A2EB-4C135C82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3D038-C6B1-41D9-B931-1677EC3C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A52EC-C1F2-465C-A34D-CE86D46F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AFF4C-B3DD-45BD-9B77-92789BE3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511E8-F53B-4475-869B-C147230B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41A94-2F44-4370-9EE2-1CC94559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7A8AB-DE62-4E75-95B9-55DFDB2D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CABD7-D853-4C0B-956D-7AFCC1E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F62C-41C0-4A8C-8684-912385D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2797E-DB49-4AA8-9354-6800E5E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B2B9B-19DE-4EBB-96E8-EE8708D0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91B79-CD28-4412-8F70-ED7FC7D7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6CD74-F654-46D6-9846-425E1F26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65607-D987-4D07-8EC3-B002D81C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90D4-5616-4280-8CF7-DBA65CC1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2D4A-715F-42DD-974B-70C5266E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9DF1-AB0B-4E17-9BB0-B50843FE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B160-EAFE-4B53-9D95-968FB63D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305-1E33-4F39-8ACA-85E8625E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BD1-94C4-47A5-85E2-B52A2A5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A1DD-A462-4149-A237-79CDB250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CA90-9B39-43ED-836F-16281E6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B0EF-39D2-4D18-BC8F-D278229B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11F7-5FD7-470D-BE95-6CBCC441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76B0-82EE-48EE-818A-5B6470D6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A06F-DB14-4294-AEF3-5455B76E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717D-3EAA-422E-8119-F278BD54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FED1-F802-4C47-8DB2-D84F393F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4DB1-E709-46C0-91F7-BAB447E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1A59-0296-45FB-903A-C3051C9E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7AD-A694-43A9-9143-4CBEE824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E303-7979-4A4F-9121-5C948A75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5C33-97EC-40A9-81B6-5E7FEEA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9572-6594-4B7E-8BCD-28C2EBC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5411-2AAA-4E5F-A0E3-AD73837E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EAA1-ED7B-4ABC-9589-27240DCC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EF12-3AB8-47BA-92EB-A617B185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06F6-F517-4576-92CB-B72C793D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5002-6210-4616-8296-F7058AD6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62B75-B929-4E2F-9936-0858B537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F436-8802-4AC9-9E86-491FCF2D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804-7B4B-4E40-89B0-53C4975D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B7CE-ABFB-4516-AB9B-7A1AD658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EE6D0-10AE-458F-871A-1265893B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D5C2-E1B7-4224-B6AA-10554DA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F40A-3498-46E6-9318-73EBD3C9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58B1-5B98-4A97-B76F-CA72771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4B1B-07D9-4EA4-B325-57A60D0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8DFD-DCBF-4AB7-A616-6ACA9E34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8670-0707-42FB-8FE9-BEB8172B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C2E3F-C18F-491C-8F57-D41E51C3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1F04-62D4-4100-BB53-D5A8BDB4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68B-AA6C-4BE0-99DD-72CBABD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2C3C1-DA11-4D6A-812B-27C63FA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11749-A79D-4642-ADD0-92E89A00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DAEA-443C-4934-9EFF-DA24C008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CCC4-2D06-477D-A5CB-96F94FB6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5CA69-AEF9-4AAD-AFB1-4E89CC66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1FAF3-A94E-4428-9E94-75C35DFB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D8998-2B79-4669-8E46-7B2C2BDD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06A7C-7A59-43B3-8896-FFF836F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3CBB-58CE-41D4-AE25-5A8EE8BD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21D7-7FFF-4FE6-A1D6-7A6DF096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070-153C-4143-A50A-0D77ABBB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1F816-1509-4C64-86A3-3C7F8247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0A0F-DEE9-400C-8833-414EDF64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6C0F0-9616-4E7E-AAF2-DACF6D00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9194-ADD5-431B-BD10-8A762E3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7FC17-C855-4ECB-83B6-2D6499F3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D0C0-0C2D-4056-BF5A-2279EB86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1EA09-E9AB-4AD4-80DC-6E5ADAFB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37B61-68C6-4DC0-9AF0-5593DBB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CE87A-4899-4F4C-87D1-FC825C1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800F-AB7A-4339-B829-E9D0216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118-DC2A-4E5F-A3E5-7EAF015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46BC2-93DC-4FF4-825A-1492AD41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D4DA-1061-4CA1-ABBE-B92FBE7B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F7BD-353E-4301-8F10-ED47064F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DAFDC-2B57-40B1-92B5-E3957052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22A6F-C277-4AD2-9249-E49EBC7C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08E53-DC76-4813-86DD-6E7C3FFB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1B0DF-6C9A-4B15-AAE1-A03B6942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7628F-ADA2-42B7-AB6F-A838F49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DA802-9A29-4700-99A8-72C4612A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B06A-7DF4-42A8-811F-2DCB1260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166-F076-44FA-A51A-410372D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11087-F933-45F8-B9D6-5CE48EE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6D913-3C48-4348-8F77-C2C0FACB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FBC5-88FD-43A9-8813-07942E85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1A1C7-D50E-4A15-8338-15ABF0A6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C72C9-0EF7-437B-85C6-8EF49D85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3261-4960-40AE-ADA9-53E3EDAA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0C883-342B-49FF-A869-CFBDC40F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4A341-27BF-44D2-9AF6-13D29E6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0B18E-D921-4094-8871-39912D8C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EAB9-A5D0-4363-9395-51EE31E6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83A-D9AA-4FE7-811C-6C5F679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925C-AEF4-4B86-8538-25253AA4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DFD1-B416-45C6-A003-8738B27C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46D5E-C72B-4BC6-8D0F-74713A4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D0E7D-7E7A-49C8-8F37-2D23BE2F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31A47-220D-44E4-91BB-F2F7A593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4F149-7737-456F-9160-915A3E19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B68D0-69BF-4700-B055-1F59AEA1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9A9FE-E4F0-4CBD-8BEF-8A379421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2F425-3066-40D4-A40E-7B06D802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F231C-9D28-4611-8C94-56763C97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34BE-60DB-4589-9695-31861C3E513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71E6-E9F4-4F28-85D3-1D683C9B71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DBC4-21CC-4F56-BAA9-9456BE6A16C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DF3D-CA42-4C78-BB7C-EC13061DAAE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F431-A791-4095-8424-DA8797A60B7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3E30-6F7F-4A9A-BC00-4231C948A3F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6488-D0B2-4831-A630-BA31BB036DE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4BCF-AF35-4421-8371-6692202D8F8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9DF8-D430-4D68-B00D-D1467AB0C35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2742-7601-44D9-9580-BF8CA58F95D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5C78-2B61-4360-A9EB-A1E18199752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EBA6-DF65-4FB5-99C9-FA7AE7B83CB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6D75-3C3B-4602-8164-9648BFE252B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CD85-79FC-491F-BE55-0EB373FAA95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1831-436A-4EBF-B59F-DC9E537BB56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8DB1-5723-4E57-841E-924E9062953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A2F7-7CFE-40D8-8D74-1AAD6CDEB69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37C-9FA2-4021-9307-690655F33E2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4B7A-BC66-4513-8A8E-B5C6F7DDB08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FECB-A87A-4D4A-8CF5-706ADE23379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2C2-777D-4079-A3A6-5B979C43EDA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A067-050E-436C-8C2C-B14C75117E6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E4A-7B02-49CB-8D0E-328B311D96B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FFE1-BB6B-4B7E-BC0F-593C656607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9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9203-303E-47C5-80A4-C577CAB606E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Inicialización de Variabl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y asignación inicial de un valor a una varia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(reserva de espacio de memoria) de variable según tip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ción de la expresión para obtener el valor inic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signación del valor evaluado a la variable “declarada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&gt; = &lt;exp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1&gt; = &lt;exp1&gt;, &lt;nombre2&gt; = &lt;exp2&gt;, ...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tipo&gt;: Tipo de variable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nombreN&gt;: Nombre de la o las variables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expN&gt;: Expresión a evaluar como valor inici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3560-4896-49B7-A2A9-D9BDEF5B37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Numéric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Bit = binary digit (digito 0 o 1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¿Cuál es el mayor número entero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presentación: 011111111111111111111111111111111 (32 bit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l primer bit en 0 indica el signo POSI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Los siguientes 31 bits en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do: 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…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=1+2…=2.147.483.647=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milar al decimal 99999… =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D27A-828F-4284-B138-0377074B98E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857240" y="2071800"/>
          <a:ext cx="6715440" cy="1112760"/>
        </p:xfrm>
        <a:graphic>
          <a:graphicData uri="http://schemas.openxmlformats.org/drawingml/2006/table">
            <a:tbl>
              <a:tblPr/>
              <a:tblGrid>
                <a:gridCol w="928800"/>
                <a:gridCol w="642960"/>
                <a:gridCol w="1928880"/>
                <a:gridCol w="2071800"/>
                <a:gridCol w="114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ci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=-2.147.483.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=2.147.483.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de Expres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C9B5-859B-4259-A950-E6BECA01A1D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857240" y="2071800"/>
          <a:ext cx="6715440" cy="2930400"/>
        </p:xfrm>
        <a:graphic>
          <a:graphicData uri="http://schemas.openxmlformats.org/drawingml/2006/table">
            <a:tbl>
              <a:tblPr/>
              <a:tblGrid>
                <a:gridCol w="1143000"/>
                <a:gridCol w="1000440"/>
                <a:gridCol w="1785600"/>
                <a:gridCol w="1428840"/>
                <a:gridCol w="135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u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l oper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(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bi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2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étodo (fun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 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pow(2,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8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pre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Último tipo ope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2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4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onstantes Simbólica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Variables con la capacidad de guardar un único valor (inicia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on inmutabl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inal &lt;tipo&gt; &lt;nombre&gt; = &lt;valor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en las Asignac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l mismo tip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 un tipo más grande (int &gt; doubl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No se puede asignar un valor más grande a una variable de tamaño más pequeño sin un casting de tipo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A98D-FC02-4760-867B-67E6067BB4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asting (Coerción) de Tip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sión explícita de un valor compatibles con el valor de la variable pero más grand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la expresión para obtene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tir (forzar) el valor al tipo indic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volver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variable&gt; = (&lt;tipo&gt;) &lt;expresion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donde se almacena el valor convert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la variable. Debe ser compatible con el tipo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 evaluar (del super tip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F044-11CB-494C-88F7-FD13CB2474E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Algunos Ejempl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180080" indent="-165960">
              <a:lnSpc>
                <a:spcPct val="100000"/>
              </a:lnSpc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1 = 4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JAVA lanza un error de tipo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no puede hacer la conver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2 = (int) 6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En este caso el casting ex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plícito permite que n2 = 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p = (5 + 6)/2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, con l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perdimos prec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c = (5 + 6)/2.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.5, por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2.0 obliga a que la divi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ión sea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 = 7, total =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100.0 * v1 / total  </a:t>
            </a: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≠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  v1 / total * 100.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7D86-B52B-44C7-81C2-AE125A866C8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a un programa que establezca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392-BD74-45A2-8EB2-47E159F012A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5 Rectángulo redondeado"/>
          <p:cNvSpPr/>
          <p:nvPr/>
        </p:nvSpPr>
        <p:spPr>
          <a:xfrm>
            <a:off x="1928880" y="2500200"/>
            <a:ext cx="671508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versor de Números de 2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ame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u inverso es = 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-d1*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también es vál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(10*d2+d1)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8876-2988-481C-9B3C-43079EBDF2F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Con operador de módul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%1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Resto de la div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EA68-D88F-4BD3-9BA3-C777838C24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vertir un número de 3 dígi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Recibir una fecha en formato de número (por ejemplo: 20070309) y convertirla en su forma tradicional (09/03/200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552B-38E6-48DA-83D5-DA3536CFBB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Clase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B580-1A6F-414D-96DD-7E53D46FBB3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0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51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4DA2-7D4B-4677-9D90-80C966C2DFB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alcular el perímetro y el área de un rectángul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l = U.readDouble(“Larg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a = U.readDouble(“Anch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Perímetro = “ + (2*(l+a)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rea = “ + (l*a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141D-B2AC-4972-A502-6B0BBCB1D4F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Rectángulo redondeado"/>
          <p:cNvSpPr/>
          <p:nvPr/>
        </p:nvSpPr>
        <p:spPr>
          <a:xfrm>
            <a:off x="1928880" y="23572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álculo de Velocidad de un Móvil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d = U.readDouble(“Distancia (en mt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t = U.readDouble(“Tiempo (en seg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Velocidad = “ + (d/t*3.6) + “ km/hr”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iene de (d/1000)/(t/360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976C-2945-4A65-8B86-9B75932C9D6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8 Rectángulo redondeado"/>
          <p:cNvSpPr/>
          <p:nvPr/>
        </p:nvSpPr>
        <p:spPr>
          <a:xfrm>
            <a:off x="1928880" y="3214800"/>
            <a:ext cx="6715080" cy="142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Velocidad de un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istancia (en mt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iempo (en seg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elocidad = ...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Escribir un programa que instruya al computador para que establezca el siguiente diálo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0542-69F6-48BA-918A-7AE795A00A0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5 Rectángulo redondeado"/>
          <p:cNvSpPr/>
          <p:nvPr/>
        </p:nvSpPr>
        <p:spPr>
          <a:xfrm>
            <a:off x="1928880" y="2928960"/>
            <a:ext cx="6715080" cy="221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Porcentajes d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1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2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otal de Votos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1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2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álculo de Porcentajes de Votación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, v2, total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declaramos todas las variab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1 = U.readInt(“Votos Candidato 1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2 = U.readInt(“Votos Candidato 2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Total de Votos = “ + total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1 = “ + (100.0*v1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2 = “ + (100.0*v2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D2BF-83DC-48A3-8B7A-8A01684E404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 instrucción de asignación es una sentencia que permite darle un valor a una variable, obtenido de alguna expresió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ón (calcular el resultado) según las reglas normales de algeb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signar (guardar) el resultado evaluado a (en)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variable&gt; = &lt;expresión&gt;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Nombre de la variable a ser asignad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que debe ser evaluada para asigna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2F51-5A57-4E65-A51E-EE2408A3F2D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v1 = readInt(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promedio = (v1 + v2)/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strucción escrita en una línea (hacia el lado) y no en varios nivel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 compuesta p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Variables y constant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peradores binarios (+, -, *, /) y unarios (+, -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étodos (funciones) que devuelven valor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réntesis para priorizar sub-expresion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06BE-CC09-440D-BC9C-E4E7EBE150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s expresiones se evalúan según el orden tradicional utilizado en aritmé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unarios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multiplicativos” (*, /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aditivos”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En caso de operadores de igual prioridad, se evalúan de izquierda a derecha.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100.0 * v1 / total 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(100.0 * v1) / tot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os paréntesis se usan pa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odificar el orden de evaluación. Ejemplo: (a+b)*c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Resaltar el orden de evaluación.  Ejemplo: a+(b*c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3670-AFFF-48B7-83C7-9AA4A678BAD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5 Flecha izquierda y derecha"/>
          <p:cNvSpPr/>
          <p:nvPr/>
        </p:nvSpPr>
        <p:spPr>
          <a:xfrm>
            <a:off x="4572000" y="5143680"/>
            <a:ext cx="428760" cy="142560"/>
          </a:xfrm>
          <a:prstGeom prst="leftRightArrow">
            <a:avLst>
              <a:gd name="adj1" fmla="val 50000"/>
              <a:gd name="adj2" fmla="val 5012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9T12:24:49Z</dcterms:modified>
  <cp:revision>77</cp:revision>
  <dc:subject/>
  <dc:title>CC1001 – Computación I Clase 0</dc:title>
</cp:coreProperties>
</file>