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dt" idx="3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 type="ftr" idx="3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 type="sldNum" idx="3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52703-713C-4610-AD59-64875F1F15E3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4C4-4E52-4B3C-9E39-FB23E01D6042}" type="slidenum">
              <a:rPr b="0" lang="es-CL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F677-449A-4D57-B8DC-5C69E906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ECED-46CC-4166-B131-0A82451A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B68B8-D043-4DA1-B52F-C86163CB1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8ECB0-8D14-455D-B86D-48E7BE2DB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59389-0AFA-4B1D-9BDD-E43CC07F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CCEEA3-D4EE-4D90-9BE4-BB9AE508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B6703A-DECD-4032-843F-DB3656D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002A59-FE25-40AE-901D-076E6D316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DEE22-0404-4A36-A0EC-AC9763EF6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5A344-1002-4458-BF08-973A246D7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E1D2CE-8F3B-471F-937A-BB24D2A3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20C40F-682D-40CD-9FC9-72FC1A26F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2890-AA0F-4B2C-B89D-779450CF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F35509-79A5-4D24-93C2-AAF8CD13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4D9D0-31F9-45F3-878A-66F08157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0C116-8A41-4066-A418-8DBB23F46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F65C6-3F98-4F2E-A128-E5586AF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AE802C-AAAD-4BA5-9FD2-C64C18C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DA1B8B-8806-43CA-87AE-4B44675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F17381-A09A-4F36-B2E0-7AA51AF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6C5EF-4315-461A-9C5D-FD659A7B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F4C9F1-1B61-46AE-AFF4-6421E0957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ADB4B8-4F5F-4A33-B66D-AB045930C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8E66-B9FC-47CD-849C-83F299EDC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FB3B2-0B77-4EA8-A260-CD52AB224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067B4D-8AEE-49C9-856E-BAC7D8490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EB28F8-CB7C-4B59-A1FE-D1E778DBA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A9CB9-0EF5-4E5E-8ACF-8B53B0928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12E56E-2EBB-4DDC-9794-A60F8FF0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CA8737-5E40-412A-A553-553A40082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1EEE39-332C-419C-9459-8979C270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BFE4D-F818-4622-ABBF-BE8E2FF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44858B-F67A-4FEC-9C25-B5C58C29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54645E-CD9D-4EC8-A18A-4FBDB8EA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D55F9-971E-49C7-BCA7-DB8ADD00B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B01D6-3E87-4011-8201-5BCF2720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DF4E0-6D72-46BC-9DA3-2E94B9D2E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A7E26-4134-4BD2-90AD-33D7B43DB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55DDA6-61A1-46FD-8197-26F8ECA93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0E8AD3-CC83-421A-9F2B-F70D6747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BF568-76E9-46CA-9A8B-13BBC0607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8383E5-6339-470D-BCA2-8932651B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17E8B0-D1EA-4751-8561-38BFB715D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6E93C9-972D-4FFD-BEF1-23538093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9670A0-73F1-4F96-9ACF-6283AB68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6442-FDD5-41E6-A81F-F9D8924F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3AC44B-43EB-4465-A723-AA032912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87DC78-8974-46CA-9B42-2E81D080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92C903-B03F-46E4-AC32-FBDD69D4B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13C3A-4ED2-45F2-A5F1-9D15C2938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2D0945-FD4D-40B9-9E72-9822CF5C0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73D99-CFAA-4306-99AD-908EB8215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2D028-06DB-43E3-A145-D128C085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54F4-D031-42F3-B139-B61C9E6B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3B8D-243C-47FF-AFFA-39F797A9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75F3-9238-4E0D-B911-BC223505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93C3-3E66-4C02-88CD-3461E9513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DFAF-1819-4336-A16C-ADF993CB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73543-355B-47FE-94C0-045ECA0F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5DD94-7FE8-4EB7-BBD0-7D2453A4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EA93-72CF-4AED-8CAA-652FE5A0D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FE4A-7AC4-4FD3-AEA1-7FC0C9317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AEF7C-9E24-48AD-BEB6-29985B0B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F5DED-B1AB-45F6-BFB9-F6707B98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FA5C1-E77C-4EA0-9F1D-1B90CE67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4CC94-43AE-49CC-B7AE-4F32A5FC3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1E40B-4B3A-4E90-92D1-BB7552A97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3077-D174-48D4-8805-92A5A1BAB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0F463-9457-41D3-8340-DD7A600C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2D125-39D0-4B9B-8753-AA47D32E5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C223B6-47B9-4588-AF0D-CC51715F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E1A5C-D341-4A84-A252-6AB3E5999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CDC73-C550-4596-8CBA-29EE1E7D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B103F-E200-44DB-A77B-BB1BA4AE9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12E30-0A23-4A07-92D3-0714B5CA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0B76C-AD3A-44C0-8F97-DC231DBA8E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5365D-2A12-4BA3-B4DB-5F8590134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9CA01-AC8E-40D9-A1B2-6DFF1F0A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7437-BEA4-492F-B42D-46C3E0B5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601BF-D0AD-4849-A2A8-1153D0A3B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B11D-DBF8-4893-8CED-95E20C6F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B95D3-472E-4C5D-A426-CD4D2E10E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687CC-3C0D-4523-87C1-58DC2843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B72C72-B9B5-4DFA-905F-E3ABB0996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CF922-A8F7-47F9-8F29-BFADA25D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3039EB-1FB8-4485-ADBA-516DD76D0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B58DE0-8FFD-4814-8D93-7384FF966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5D15-79B1-4D9F-BA30-8C8C55C23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581CB-7A05-418A-834A-2A4329FB8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DF7A-E50A-447B-9E5E-BBC614A0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24EB4A-5F69-4F06-8A2A-90912F4A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09D9B-8736-4F79-83D3-AF3A1866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4278E-3D9D-4AFF-9EE1-47AC268C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4C5E5-81E1-4000-9F67-3767A18B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603896-1E1E-4680-A126-F51B0DCEC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F7F3E-70CB-4B60-999F-539DC76B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74294-F308-4DB3-81B6-E25453BF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D957E-D57B-4A59-8EDC-29B20FBF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472B6-00E8-49B1-823B-E495EEC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90939-9BCC-4A77-AAFA-9763FDAE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535C-5E95-49E0-9A7A-787CBB637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E420AB-4AB2-46A2-8CD6-33AAEEDE2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F4B74-2A49-45FA-9DE4-9FAE436D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64282-4FA1-4C40-A04E-F859B94E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7C41E-0D54-484B-890E-8D4D9137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29FEE-F602-440D-BA84-667C441C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4B7D14-7DC6-4A1C-8531-06E56BCB5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A5CB1-E17A-4C3C-8BA9-3F45484B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C5E9F-FAA6-4ED4-91B2-31BD5F9C9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EFC87D-B81B-4CFA-BAB4-E2A6F79B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66389C-0ECB-4DE4-8809-EBB72DDEC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AB4D7-1C1D-4C58-AD45-3F8546AB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89C961-91E1-4E03-948C-A9DBBC8B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9A3F1-72E7-4726-BC08-1E0D58F9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AE033-CDBE-444F-B12C-A99070B1C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69D3D-5BB7-412E-B6FF-B72C390C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DCE6D5-EA5D-4E73-BB04-ACB6E9BAD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C3DB8-91FD-42AF-A103-9F2496A5B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3A64A-EA34-4DDF-A83E-97C7572BB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51E3B-7C0A-42BB-AED2-BE7F97FB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3DCC15-9A7A-4153-BE08-87F4F826C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43DCE-A9AD-496F-897A-B7B404B45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F08C-8010-4D27-8FC7-5D2C260F6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286F4-D0CF-48B0-AD04-8B711F1D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C26DE-151B-44B3-B3A7-51C1FB09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60B4F-DD60-4578-A861-C868FEB40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CAF1CE-4EF4-48FB-B890-872D98DBF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E71D3-7E00-44EE-8B57-6E262BADE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B3B596-CA4A-48E8-9455-199907C65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94304A-E153-4B3B-8DC1-70A101B5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CBB4A8-5F2F-477C-889A-A3A0F1313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386690-F984-40E0-A6DB-B39DCC5AE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EEE71A-AABC-4857-A45C-FDBD87217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66DC-9951-4CAD-98CA-8AC8A72B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38101E-5CEE-4925-A935-AB051CDE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888FA-8541-4228-A4E8-3B4F14BF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B19B23-8683-4413-8690-C90D1EAE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8895A8-01F3-40BA-A3AC-BFED8436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E1CA41-5A42-407E-9C11-BA10A495C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E8A2C-3490-49A1-8448-B0B678DE7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6046A-E3AA-47C7-B4CE-8D907294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726680-51BB-40C8-B6DE-886D489AB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A00E3-FCC6-4399-A194-F0799D601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58443F-0A78-476E-881A-1F6F5924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57992-2225-49FA-8EEC-5308DFFCA89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7FB28-C2EB-4F85-BE64-D8E31235971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12 Rectángulo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417" name="12 Rectángulo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13 Proceso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15 Proceso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28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A51B5-9A64-4159-AD36-65ABA36CE4E0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9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0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918A8-8BC4-4839-A99A-910694E9BD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465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7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109A6-406D-4E50-A6BF-172864D8ECA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9765-2744-4948-81B5-046D7690ABB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E5F1-4C08-4B8A-BE17-251611097E14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1BF8-F37F-4F69-A3F8-DC1668833B2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12 Elipse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12 Elipse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13 Elipse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725-CB5D-4542-9BAB-2F0D52FAD8A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40ED-83B3-4AC9-91D7-6D1A63070DB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03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F89B-D6D7-46F9-BD93-0297A9EF1413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FB5-209A-43DF-AFF4-FA9E38E90AD7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12 Rectángulo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13 Rectángulo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15 Elipse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51" name="15 Elipse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16 Elipse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277D2-AB3E-441B-B09F-68E4518548FB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FEA7B-3BD5-4E79-96C6-5E5E8B3DF5A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198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64B3A-A0CA-4C1E-BBB0-C387DD02A212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B8AFD-EB9E-48F0-A20D-B67952AF80D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198D-5A30-4BD7-AA4B-32B3DF161A6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8DD8-6365-4A45-A9F9-8B2D06CC21A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6 Circular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7 Elipse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10 Anillo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287" name="10 Anillo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" name="11 Rectángulo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14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9C9F-9A8A-4B21-846B-0284BB3E9C1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908B4-CF2C-4114-AEF9-5A2AF55528B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12 Rectángulo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2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A51FA-78B8-4921-A815-E2D9522E2FD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3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4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A627C-387A-4DA8-B0F2-746C36D4414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5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0C72-C7F2-4FB5-952E-7CEC77F3BEA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6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7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4E31A-E30B-4D7F-AEEF-C6E53B62DE1A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lase 2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subTitle"/>
          </p:nvPr>
        </p:nvSpPr>
        <p:spPr>
          <a:xfrm>
            <a:off x="1428840" y="5000400"/>
            <a:ext cx="7407360" cy="157932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Fecha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9 de Marzo de 2007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Sección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05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rofesor:  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rés Muñoz Ordenes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E-Mail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andmunoz@dcc.uchile.cl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  <a:p>
            <a:pPr marL="27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Página Web: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	</a:t>
            </a:r>
            <a:r>
              <a:rPr b="0" lang="es-ES" sz="1900" spc="-1" strike="noStrike">
                <a:solidFill>
                  <a:srgbClr val="320e04"/>
                </a:solidFill>
                <a:latin typeface="Gill Sans MT"/>
              </a:rPr>
              <a:t>http://ucursos.ing.uchile.cl </a:t>
            </a:r>
            <a:endParaRPr b="0" lang="en-US" sz="19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7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56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1EE97-D57F-49A4-BE14-C3D056ED3A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Inicialización de Variabl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y asignación inicial de un valor a una variable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Declaración (reserva de espacio de memoria) de variable según tip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ción de la expresión para obtener el valor inicial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Asignación del valor evaluado a la variable “declarada”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&gt; = &lt;exp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tipo&gt; &lt;nombre1&gt; = &lt;exp1&gt;, &lt;nombre2&gt; = &lt;exp2&gt;, ...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tipo&gt;: Tipo de variable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nombreN&gt;: Nombre de la o las variables a inicializar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&lt;expN&gt;: Expresión a evaluar como valor inicial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F9F3-CCD4-4793-AD6B-0CA3CD1E2F6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Numéric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Bit = binary digit (digito 0 o 1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¿Cuál es el mayor número entero?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Representación: 011111111111111111111111111111111 (32 bits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l primer bit en 0 indica el signo POSITIVO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Los siguientes 31 bits en 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valuado: 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+…+1x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0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=1+2…=2.147.483.647=2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31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imilar al decimal 99999… = 10</a:t>
            </a:r>
            <a:r>
              <a:rPr b="0" lang="es-ES" sz="1800" spc="-1" strike="noStrike" baseline="30000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EF17-25D8-4316-8EEB-EF3BEE701F76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1857240" y="2071800"/>
          <a:ext cx="6715440" cy="1112760"/>
        </p:xfrm>
        <a:graphic>
          <a:graphicData uri="http://schemas.openxmlformats.org/drawingml/2006/table">
            <a:tbl>
              <a:tblPr/>
              <a:tblGrid>
                <a:gridCol w="928800"/>
                <a:gridCol w="642960"/>
                <a:gridCol w="1928880"/>
                <a:gridCol w="2071800"/>
                <a:gridCol w="11430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en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Val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reci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=-2.147.483.64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2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1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=2.147.483.6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6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.07 x 10</a:t>
                      </a:r>
                      <a:r>
                        <a:rPr b="0" lang="es-ES" sz="1600" spc="-1" strike="noStrike" baseline="30000">
                          <a:solidFill>
                            <a:srgbClr val="000000"/>
                          </a:solidFill>
                          <a:latin typeface="Gill Sans MT"/>
                        </a:rPr>
                        <a:t>3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de Datos de Expres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2BD0E-A6E5-4585-8DCB-45426062205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8" name=""/>
          <p:cNvGraphicFramePr/>
          <p:nvPr/>
        </p:nvGraphicFramePr>
        <p:xfrm>
          <a:off x="1857240" y="2071800"/>
          <a:ext cx="6715440" cy="2930400"/>
        </p:xfrm>
        <a:graphic>
          <a:graphicData uri="http://schemas.openxmlformats.org/drawingml/2006/table">
            <a:tbl>
              <a:tblPr/>
              <a:tblGrid>
                <a:gridCol w="1143000"/>
                <a:gridCol w="1000440"/>
                <a:gridCol w="1785600"/>
                <a:gridCol w="1428840"/>
                <a:gridCol w="135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jemp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n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u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l operan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-(-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(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perador binari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yor tip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2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étodo (funció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ipo de Result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ath.pow(2, 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8.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xpres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Último tipo op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1 + 2 + 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t y dou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Double (4.5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onstantes Simbólica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Variables con la capacidad de guardar un único valor (inicial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Son inmutables 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final &lt;tipo&gt; &lt;nombre&gt; = &lt;valor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Tipos en las Asignacione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l mismo tipo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Asignar valor a una variable de un tipo más grande (int &gt; double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No se puede asignar un valor más grande a una variable de tamaño más pequeño sin un casting de tipo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-219240">
              <a:spcBef>
                <a:spcPts val="55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924C1-84BE-4C20-88D5-691215C1CC2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Casting (Coerción) de Tip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sión explícita de un valor compatibles con el valor de la variable pero más grande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Evaluar la expresión para obtene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Convertir (forzar) el valor al tipo indic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Devolver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&lt;variable&gt; = (&lt;tipo&gt;) &lt;expresion&gt;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donde se almacena el valor convert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tipo&gt;: tipo de la variable. Debe ser compatible con el tipo de la variable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a evaluar (del super tipo).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5BF0C-774D-4CE1-9E24-15F1975E9611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7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31920" indent="-25704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Algunos Ejemplos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180080" indent="-165960">
              <a:lnSpc>
                <a:spcPct val="100000"/>
              </a:lnSpc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1 = 4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JAVA lanza un error de tipo,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no puede hacer la conver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2 = (int) 6.5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En este caso el casting ex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plícito permite que n2 = 6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p = (5 + 6)/2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, con l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perdimos prec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double c = (5 + 6)/2.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Aquí el valor sería 5.5, por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que 2.0 obliga a que la divi-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ión sea real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 = 7, total = 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2" marL="806040" indent="-2077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100.0 * v1 / total  </a:t>
            </a:r>
            <a:r>
              <a:rPr b="0" lang="es-ES" sz="2000" spc="-1" strike="noStrike">
                <a:solidFill>
                  <a:srgbClr val="000000"/>
                </a:solidFill>
                <a:latin typeface="Consolas"/>
              </a:rPr>
              <a:t>≠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  v1 / total * 100.0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0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EF7AB-CEF1-4AA6-A9B8-61E005BA5F44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Escriba un programa que establezca el siguiente diálogo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198B-3190-4D38-876B-C85F1C67615C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5 Rectángulo redondeado"/>
          <p:cNvSpPr/>
          <p:nvPr/>
        </p:nvSpPr>
        <p:spPr>
          <a:xfrm>
            <a:off x="1928880" y="2500200"/>
            <a:ext cx="6715080" cy="1214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Inversor de Números de 2 Dígi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ame un Númer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Su inverso es = 5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-d1*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también es váli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(10*d2+d1)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8E576-B643-420D-B72F-6658A9A26958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jercicio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Solución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Con operador de módulo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olicitamos el número al usuari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Inversor de Números de 2 Dígitos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n = U.readInt(“Dame un Número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Separamos los dígito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1 = n/10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d2 = n%10;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Resto de la división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Mostramos el resultado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Su inverso es = “ + d2 + d1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7C34C-B60E-4BDF-8781-5029029F40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Trabajo Práctico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Invertir un número de 3 dígito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3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: Recibir una fecha en formato de número (por ejemplo: 20070309) y convertirla en su forma tradicional (09/03/2007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6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B495-9C2D-4CC5-90F0-0515C024100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En esta clase…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Solución Clase Anterior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Motivació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Definicione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Ejercicio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Trabajo Práctico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Gill Sans MT"/>
              </a:rPr>
              <a:t>Complementos de la Clas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97EF0-A08D-4DCB-B42E-E4F5B90311B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1428840" y="2428920"/>
            <a:ext cx="740736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CC1001 – Computación I</a:t>
            </a:r>
            <a:br>
              <a:rPr sz="4300"/>
            </a:b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Fin de la Clas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subTitle"/>
          </p:nvPr>
        </p:nvSpPr>
        <p:spPr>
          <a:xfrm>
            <a:off x="1428840" y="6215040"/>
            <a:ext cx="7407360" cy="36504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320e04"/>
                </a:solidFill>
                <a:latin typeface="Gill Sans MT"/>
              </a:rPr>
              <a:t>El Presente es la única salida del Pasado y la única entrada al Futuro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650" name="3 Imagen" descr="logo_dcc.jpg"/>
          <p:cNvPicPr/>
          <p:nvPr/>
        </p:nvPicPr>
        <p:blipFill>
          <a:blip r:embed="rId1"/>
          <a:stretch/>
        </p:blipFill>
        <p:spPr>
          <a:xfrm>
            <a:off x="5643720" y="285840"/>
            <a:ext cx="3111480" cy="1452600"/>
          </a:xfrm>
          <a:prstGeom prst="rect">
            <a:avLst/>
          </a:prstGeom>
          <a:ln w="0">
            <a:noFill/>
          </a:ln>
        </p:spPr>
      </p:pic>
      <p:sp>
        <p:nvSpPr>
          <p:cNvPr id="651" name="5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BB152-48EE-40B8-B67C-2B1FEA301A39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1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Escribir un programa que establezca el siguiente diálogo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alcular el perímetro y el área de un rectángulo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l = U.readDouble(“Larg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a = U.readDouble(“Ancho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Perímetro = “ + (2*(l+a)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Area = “ + (l*a)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7424-6CD9-44CB-BBE8-3B552E7D60B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5 Rectángulo redondeado"/>
          <p:cNvSpPr/>
          <p:nvPr/>
        </p:nvSpPr>
        <p:spPr>
          <a:xfrm>
            <a:off x="1928880" y="2357280"/>
            <a:ext cx="671508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lcular el perímetro y área de un rectá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Larg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Ancho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Perímetro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Área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Solución Clase Anterior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Problema 2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 Diseñar un diálogo y escribir un programa que calcule la velocidad de un móvil en km/h, dadas las distancia (en metros) y el tiempo (en segundos)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000000"/>
                </a:solidFill>
                <a:uFillTx/>
                <a:latin typeface="Gill Sans MT"/>
              </a:rPr>
              <a:t>Solución</a:t>
            </a: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4" marL="1257840" indent="-176760">
              <a:spcBef>
                <a:spcPts val="2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Cálculo de Velocidad de un Móvil”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d = U.readDouble(“Distancia (en mt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double t = U.readDouble(“Tiempo (en segs): “);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U.println(“Velocidad = “ + (d/t*3.6) + “ km/hr”); 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1" marL="620280" indent="-2293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Consolas"/>
              </a:rPr>
              <a:t>// Viene de (d/1000)/(t/3600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AD7F-F5E6-4083-B92C-3309A0F1A742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8 Rectángulo redondeado"/>
          <p:cNvSpPr/>
          <p:nvPr/>
        </p:nvSpPr>
        <p:spPr>
          <a:xfrm>
            <a:off x="1928880" y="3214800"/>
            <a:ext cx="6715080" cy="1428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Velocidad de un Mó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Distancia (en mt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iempo (en segs)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elocidad = ... Km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Problema: Escribir un programa que instruya al computador para que establezca el siguiente diálog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38886-DA3C-4CCE-B8CC-B4D019C37EDE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5 Rectángulo redondeado"/>
          <p:cNvSpPr/>
          <p:nvPr/>
        </p:nvSpPr>
        <p:spPr>
          <a:xfrm>
            <a:off x="1928880" y="2928960"/>
            <a:ext cx="6715080" cy="22147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38160">
            <a:solidFill>
              <a:srgbClr val="26697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álculo de Porcentajes de Ele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1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Votos Candidato 2: </a:t>
            </a:r>
            <a:r>
              <a:rPr b="0" lang="es-ES" sz="2000" spc="-1" strike="noStrike">
                <a:solidFill>
                  <a:srgbClr val="ff0000"/>
                </a:solidFill>
                <a:latin typeface="Consolas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Total de Votos =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1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70c0"/>
                </a:solidFill>
                <a:latin typeface="Consolas"/>
              </a:rPr>
              <a:t>Candidato 2 = ...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Motivación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Solució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400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álculo de Porcentajes de Votación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int v1, v2, total; 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// declaramos todas las variables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1 = U.readInt(“Votos Candidato 1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v2 = U.readInt(“Votos Candidato 2: “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Total de Votos = “ + total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1 = “ + (100.0*v1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nsolas"/>
              </a:rPr>
              <a:t>U.println(“Candidato 2 = “ + (100.0*v2/total) + “%”);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9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23D9-0B0A-4625-BDBA-DA6F915B0CAF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46680" indent="-2682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La instrucción de asignación es una sentencia que permite darle un valor a una variable, obtenido de alguna expresión.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Evaluar expresión (calcular el resultado) según las reglas normales de algebra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spcBef>
                <a:spcPts val="499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Gill Sans MT"/>
              </a:rPr>
              <a:t>Asignar (guardar) el resultado evaluado a (en) la vari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Sintax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41320" indent="-21708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&lt;variable&gt; = &lt;expresión&gt;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variable&gt;: Nombre de la variable a ser asignada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1041840" indent="-16416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&lt;expresion&gt;: Expresión que debe ser evaluada para asignar el valor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1" marL="607680" indent="-22464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C0CB1-0DD4-42AB-92F0-74C58E5413C3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6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000000"/>
                </a:solidFill>
                <a:uFillTx/>
                <a:latin typeface="Gill Sans MT"/>
              </a:rPr>
              <a:t>Instrucción de Asignación</a:t>
            </a:r>
            <a:r>
              <a:rPr b="0" lang="es-ES" sz="28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ill Sans MT"/>
              </a:rPr>
              <a:t>Ejemplo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v1 = readInt()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total = v1 + v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lnSpc>
                <a:spcPct val="100000"/>
              </a:lnSpc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nsolas"/>
              </a:rPr>
              <a:t>promedio = (v1 + v2)/2;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Definició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Instrucción escrita en una línea (hacia el lado) y no en varios nivele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45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Es compuesta por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Variables y constant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Operadores binarios (+, -, *, /) y unarios (+, -)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Métodos (funciones) que devuelven valor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349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Gill Sans MT"/>
              </a:rPr>
              <a:t>Paréntesis para priorizar sub-expresiones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FDA2-C9EB-406C-AEAF-04E1343313DB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3 Imagen" descr="logo_dcc.jpg"/>
          <p:cNvPicPr/>
          <p:nvPr/>
        </p:nvPicPr>
        <p:blipFill>
          <a:blip r:embed="rId1"/>
          <a:stretch/>
        </p:blipFill>
        <p:spPr>
          <a:xfrm>
            <a:off x="7532640" y="0"/>
            <a:ext cx="1611360" cy="752400"/>
          </a:xfrm>
          <a:prstGeom prst="rect">
            <a:avLst/>
          </a:prstGeom>
          <a:ln w="0">
            <a:noFill/>
          </a:ln>
        </p:spPr>
      </p:pic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300" spc="-1" strike="noStrike">
                <a:solidFill>
                  <a:srgbClr val="572314"/>
                </a:solidFill>
                <a:latin typeface="Gill Sans MT"/>
              </a:rPr>
              <a:t>Definicione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000000"/>
                </a:solidFill>
                <a:uFillTx/>
                <a:latin typeface="Gill Sans MT"/>
              </a:rPr>
              <a:t>Expresión</a:t>
            </a:r>
            <a:r>
              <a:rPr b="0" lang="es-ES" sz="2600" spc="-1" strike="noStrike">
                <a:solidFill>
                  <a:srgbClr val="000000"/>
                </a:solidFill>
                <a:latin typeface="Gill Sans MT"/>
              </a:rPr>
              <a:t> (cont)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550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as expresiones se evalúan según el orden tradicional utilizado en aritmétic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349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unarios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multiplicativos” (*, /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2" marL="1060560" indent="-438840">
              <a:spcBef>
                <a:spcPts val="451"/>
              </a:spcBef>
              <a:buClr>
                <a:srgbClr val="feb80a"/>
              </a:buClr>
              <a:buFont typeface="Gill Sans MT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ill Sans MT"/>
              </a:rPr>
              <a:t>Operadores “aditivos” (+, -)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4" marL="1244880" indent="-174960">
              <a:spcBef>
                <a:spcPts val="45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En caso de operadores de igual prioridad, se evalúan de izquierda a derecha. 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100.0 * v1 / total 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(100.0 * v1) / tota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13800" indent="-226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	</a:t>
            </a:r>
            <a:r>
              <a:rPr b="0" lang="es-ES" sz="2200" spc="-1" strike="noStrike">
                <a:solidFill>
                  <a:srgbClr val="000000"/>
                </a:solidFill>
                <a:latin typeface="Gill Sans MT"/>
              </a:rPr>
              <a:t>Los paréntesis se usan para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Modificar el orden de evaluación. Ejemplo: (a+b)*c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  <a:p>
            <a:pPr lvl="3" marL="999720" indent="-438840">
              <a:spcBef>
                <a:spcPts val="400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Gill Sans MT"/>
              </a:rPr>
              <a:t>Resaltar el orden de evaluación.  Ejemplo: a+(b*c)</a:t>
            </a:r>
            <a:endParaRPr b="0" lang="en-US" sz="1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3" name="4 Marcador de número de diapositiva"/>
          <p:cNvSpPr/>
          <p:nvPr/>
        </p:nvSpPr>
        <p:spPr>
          <a:xfrm>
            <a:off x="8613720" y="6305400"/>
            <a:ext cx="4572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6475B-79BA-4A6E-8175-01E579ECCA65}" type="slidenum">
              <a:rPr b="0" lang="en-US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5 Flecha izquierda y derecha"/>
          <p:cNvSpPr/>
          <p:nvPr/>
        </p:nvSpPr>
        <p:spPr>
          <a:xfrm>
            <a:off x="4572000" y="5143680"/>
            <a:ext cx="428760" cy="142560"/>
          </a:xfrm>
          <a:prstGeom prst="leftRightArrow">
            <a:avLst>
              <a:gd name="adj1" fmla="val 50000"/>
              <a:gd name="adj2" fmla="val 5012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5T13:18:40Z</dcterms:created>
  <dc:creator>Andrés Muñoz Ordenes</dc:creator>
  <dc:description/>
  <dc:language>en-US</dc:language>
  <cp:lastModifiedBy>Andrés Muñoz Ordenes</cp:lastModifiedBy>
  <dcterms:modified xsi:type="dcterms:W3CDTF">2007-03-09T12:24:49Z</dcterms:modified>
  <cp:revision>77</cp:revision>
  <dc:subject/>
  <dc:title>CC1001 – Computación I Clase 0</dc:title>
</cp:coreProperties>
</file>