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04D8-8AFA-4957-AE36-2C517F3D5071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45B0-EF85-4CD0-92C1-549FE064DCA8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7BB2-2227-4DA6-ACCF-A1B29DA4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2CC0-0EA4-4B87-8AAA-5AE38AD0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D4E77-01DB-4AE4-BF9E-7FD778A1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4ED26-C35D-4A6C-AD3C-52A16C72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6ABB3-99D5-4F7C-85E2-C82B4A58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0FE4F-C58E-499C-ABB8-DDAEACEB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A1995-002D-4BF1-9342-1E444F46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8E523-5FD8-48FF-9A9A-FD643EC7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71E36-7709-488C-BF1D-D453460C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DE0BE-D4BF-41FA-A155-5949DA53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CF7B2-13FE-41B4-A8C8-A301E4D2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D2D9D-23BE-4E72-9189-B009ADAF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FF6C-51B0-4B8B-A169-E1DB5B8E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278BE-12CD-4B83-AA87-150A993C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D0F94-0483-43EC-A2C9-F8AD391A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988E1-BB2C-4B0A-9EDE-3458B78B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3E616-CBF3-47DD-9DA9-EAC5CC84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5E56F-E028-4106-9628-1BFB4273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E592C-C7FB-4DB9-9A92-799CC598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89ADF-154B-4EB6-932E-21AA273E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381F4-8A49-47E9-9F3C-6C6287B7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F9097-B46D-4AA5-9F1E-790946C2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C42D6-6B7D-4A83-80D4-9A5B4F83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CF7C-8EE5-4613-81B0-66461638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BDC70-328C-4383-8A37-BE5182D0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2657E-EA6D-4781-9154-B7304C13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6BEC5-049C-48FC-BA38-84C7C710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47A42-5492-4CDF-B2BC-24326D1E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BD8D9-070B-4F99-963B-34CBAB6B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61EC4-C8AF-4FB7-92E2-0236EDDC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53743-35F9-466C-8CFB-5F3D70AB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52CCA-D6C8-42A4-95C6-DAC9BB23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AAB62-ACAA-4824-AF29-385CAD04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18324-11D8-4534-8654-8DCC8D9B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3349-1E3E-49C0-9519-C36BF0B2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4594C-69A6-4DC6-A882-22FD218C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5B47F-B002-4443-8B95-3F0D8EA8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6139D-C019-4853-9A8F-2E2D94B8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CA6C4-1E38-4AA6-B321-0362C0BF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0848A-B7DB-40AF-B92B-260874FD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577B3-8F57-4404-A0D4-A625AB5A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68460-ADFE-407E-BA9F-DD1999E4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7F55C-67CF-4467-B267-8226DD38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10CF2-6383-4E32-A4C6-DDE8C8FC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D6757-1C97-4756-B8F4-B5FA4BE7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E969-BCBE-4BF2-93FA-92D1C9EB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D83CC-C73B-491F-8F6F-C2F21CC1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8D7E4-3629-464A-9D7B-55369AC8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7A306-40DB-4804-8439-03F987D3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926D3-AF53-4B87-AC1E-6F89B39E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4B38D-F759-4929-B0BE-B88563F3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1642-529E-49FA-B93E-119F27B0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293A-8CF4-4B82-8646-2221C083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6FFF-2A4F-463A-86B3-6C588924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2714-2898-45BA-AE74-2918A6F4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9570-495A-477A-9AA3-5DE021CE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121E-4CD7-4A56-8C25-118F1A66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4BE8-FC4F-4AA4-984A-F14DEF36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7CEB-2167-49A9-A1DE-8CDE13C4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8CD3-7476-4DEF-BEF2-CCB1CF46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5364-144A-44E3-8EBF-BA96D631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7FCD-466D-4E1C-9090-879F3651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51899-C6D8-4FA2-BD4A-D87B82F4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CDB81-4727-4E55-986E-76803412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A1ECC-5FC6-4762-BE59-CC14FFB3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D414A-9EB8-415E-9759-39C655B9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B6F14-659F-4469-9E65-320241D8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FA62-CD8E-4846-97B7-D9F3D2FB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D7DCE-4EDF-436C-8DED-759CDC3A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89425-8821-4892-B733-5F156135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124CD-CE3F-4E62-9A37-B4BC83A9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A5677-2236-4A9C-8442-FAAB58D0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A1270-8C61-4E3C-8BC4-2EFCC11E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691E1-3F8C-4EC8-BAEA-8B73273D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8C388-911F-4FBF-BA5F-1E6D1C07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2A3E7-14B0-44E0-A2ED-02CFEDB9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EF9D2-024E-4DEC-BD92-E168353F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85CBA-01E0-489D-8D27-EBD213D2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5C64-CC27-4BF1-BA5B-6043E534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D7498-2508-42FA-95D6-8D7D53CA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BE621-D669-44F7-A0F6-23B80825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9AE30-93ED-4423-A784-1F5C911B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7D7C1-C0F4-4E92-9F43-07ACE839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DD0DF-BD76-4AFC-8664-CF869655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CABE8-4046-4896-80F8-B5B29B8C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5899F-5750-4333-BB89-0C3F85D8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68D13-1E45-496B-AEB3-69BD3C4E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E34FB-2CEC-4749-909F-A5235E45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4ED48-E78C-4519-99F9-BDF189CC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CE7C-98A2-43B8-94F3-2A984863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CFE95-F224-471D-8AED-229525BE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85CB6-2860-4720-BA10-27AD4794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A93DE-F3F3-4D44-B696-3BDBE134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72CB8-3EBC-4736-A5B6-03E3862E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2DFD6-6563-4EDA-BDD5-C7C98BCE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29CEC-8F71-4EA6-9CA3-202950DD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C79F4-D089-4928-BBA8-B624982F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91FE8-C305-4642-A0F2-C9AAA14D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955B8-5DC4-44DD-A105-5FE50BB7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9E1AF-9846-43A4-908D-A4B671BE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48FB-61A7-46C1-BB2B-D5D8810B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CFEA2-555B-4E99-BCA1-FB0BA565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AAFDC-6CEF-4C76-9569-BAD78629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0486A-CF70-4E6A-82A6-AD3AF074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B19E3-3CC5-4EBE-B6B6-34DE4E6C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D08C8-AC7B-4BDE-B4B8-5F80B21C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CC9D1-16A2-48C9-941F-7E55B8D7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F51C7-4C2F-4B34-9C55-89970C1E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55590-D0C6-408E-A1B4-F6B54C57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75690-6654-44A0-B9DF-8A1E763E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C2AD7-BCEA-4032-A330-9ACD4C4A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7EB9-F24B-4F97-A379-D6626896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04C07-5DA5-4F07-988F-6119D41A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61391-657C-4239-BE0A-10D7BFC9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5F07C-A77D-44AD-A25C-10B74EA8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F39B8-BF4D-434D-B0A7-40AF2D07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B364E-2D7C-4D25-A5B1-6026385D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1431B-77F5-4E52-A3E7-5A97586B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A4973-C59E-4E50-B75B-FDB26034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72902-C4AF-481A-BFBF-19A44E1F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E8BB1-9C46-4C6F-97CC-60CA6C14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935B4-5720-417E-8D98-F6F19FA9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4711-0DA9-432B-AAF1-1D1F6965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47DBF-4AFE-443E-855E-3F22EDB4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81701-F919-4610-ADC5-17FB4E39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5529C-F75F-4410-9F7B-B095B42A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BAF76-5A86-4125-8E1A-3DB06C49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A2967-709C-4214-930C-A7993286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ABA5F-9555-4384-B363-57271402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10244-A531-4111-AA1D-DFFA32D8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DAF20-1A5D-45B5-A455-D051C90F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877D8-D644-4B14-A9AA-64AD4990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4FA91-251E-4217-928E-615F090F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CBA0-88AB-464C-AC09-A49EC4C2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AB341-580D-4BE9-86C6-FEB18E30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251EA-9A44-4956-8A5F-AD778B2D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75C62-C914-469B-9A78-006F8BA4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4D0E3-89D1-4B1F-A323-7850C822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B1F33-6842-44DE-976A-4B97ADC5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757DB-947B-4D1A-B383-E3C3495D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0547B-4ABC-4542-93CE-E3D42202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6B8A1-3733-4D6B-BFF3-AC9949BF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0721D-35A1-4AC6-9EA6-AD23E706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234DE-10F5-47FE-B698-83223272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4D54-E2EC-431E-811C-4D819729B6E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F6C4-CDC1-44F0-A69F-EEC0960D990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0AAD-488D-45D8-94FA-D10AB693C70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90A1-972B-4F80-AC87-3D33CB48A1E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1641-D180-4C8F-B2B1-B7027A820E9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A443-C065-41CD-8A78-1C7EB159D7A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6A30-B6C0-439C-8C29-3FF9FF6E1D8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5259-F532-450C-ADDA-1B412CA5BB0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4F14-171D-452B-BB04-EE19CC7B547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0333-A9B5-49D8-A0A6-8EE31B79A74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0B5C-44A4-4C02-9171-F3F3881F239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D82B-3F0D-4EC1-A589-BC8780B2AB0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D800-3282-4391-AB16-80B365A20EF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7C9E-E835-4281-A3A0-B9921F9C4CF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5E9A-CF68-4DB6-B1DD-D3695A01D039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5D08-0595-44EB-AE10-B202FAA3DB0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0AC5-923D-4638-B6D1-57D5E8FA0659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E482-1E67-4B48-9995-2D2E2AAB953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C5A5-6E0A-4C32-9D13-61E23846EDF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E1C2-E4A8-4B74-B1CA-30E7776480F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C0C4-320F-4EAE-A633-1336F85194F7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2A7D-C833-47A6-A86F-4BDCD0B4367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B025-31CB-4D2C-803D-B4E75D0ABFD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7DAA-478A-4C12-B319-00DB79E6D90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lase 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28840" y="5000400"/>
            <a:ext cx="7407360" cy="157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Fecha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9 de Marzo de 200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Sección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5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rofesor:  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rés Muñoz Orden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E-Mail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munoz@dcc.uchile.c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ágina Web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http://ucursos.ing.uchile.cl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56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D168-5E78-4BE1-A12D-BC77FC5AA30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Inicialización de Variable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Declaración y asignación inicial de un valor a una variabl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Semántic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Declaración (reserva de espacio de memoria) de variable según tip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Evaluación de la expresión para obtener el valor inicia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Asignación del valor evaluado a la variable “declarada”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&lt;tipo&gt; &lt;nombre&gt; = &lt;exp&gt;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&lt;tipo&gt; &lt;nombre1&gt; = &lt;exp1&gt;, &lt;nombre2&gt; = &lt;exp2&gt;, ...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&lt;tipo&gt;: Tipo de variable a inicializa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&lt;nombreN&gt;: Nombre de la o las variables a inicializa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&lt;expN&gt;: Expresión a evaluar como valor inicial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B30A-688A-4D25-B95D-210EFE3DDFA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Tipos de Datos Numérico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Bit = binary digit (digito 0 o 1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4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¿Cuál es el mayor número entero?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Representación: 011111111111111111111111111111111 (32 bits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El primer bit en 0 indica el signo POSITIV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Los siguientes 31 bits en 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Evaluado: 1x2</a:t>
            </a:r>
            <a:r>
              <a:rPr b="0" lang="es-ES" sz="1800" spc="-1" strike="noStrike" baseline="30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+1x2</a:t>
            </a:r>
            <a:r>
              <a:rPr b="0" lang="es-ES" sz="1800" spc="-1" strike="noStrike" baseline="30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+…+1x2</a:t>
            </a:r>
            <a:r>
              <a:rPr b="0" lang="es-ES" sz="1800" spc="-1" strike="noStrike" baseline="30000">
                <a:solidFill>
                  <a:srgbClr val="000000"/>
                </a:solidFill>
                <a:latin typeface="Gill Sans MT"/>
              </a:rPr>
              <a:t>30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=1+2…=2.147.483.647=2</a:t>
            </a:r>
            <a:r>
              <a:rPr b="0" lang="es-ES" sz="1800" spc="-1" strike="noStrike" baseline="30000">
                <a:solidFill>
                  <a:srgbClr val="000000"/>
                </a:solidFill>
                <a:latin typeface="Gill Sans MT"/>
              </a:rPr>
              <a:t>31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-1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similar al decimal 99999… =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1DED-3813-4FD5-9E88-C4557DC40F6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1857240" y="2071800"/>
          <a:ext cx="6715440" cy="1112760"/>
        </p:xfrm>
        <a:graphic>
          <a:graphicData uri="http://schemas.openxmlformats.org/drawingml/2006/table">
            <a:tbl>
              <a:tblPr/>
              <a:tblGrid>
                <a:gridCol w="928800"/>
                <a:gridCol w="642960"/>
                <a:gridCol w="1928880"/>
                <a:gridCol w="2071800"/>
                <a:gridCol w="1143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nor Va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yor Va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eci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2</a:t>
                      </a:r>
                      <a:r>
                        <a:rPr b="0" lang="es-ES" sz="16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31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=-2.147.483.6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r>
                        <a:rPr b="0" lang="es-ES" sz="16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31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1=2.147.483.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1.07 x 10</a:t>
                      </a:r>
                      <a:r>
                        <a:rPr b="0" lang="es-ES" sz="16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07 x 10</a:t>
                      </a:r>
                      <a:r>
                        <a:rPr b="0" lang="es-ES" sz="16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Tipos de Datos de Expresione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EEE8-D542-4D47-95AA-FF76803793D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1857240" y="2071800"/>
          <a:ext cx="6715440" cy="2930400"/>
        </p:xfrm>
        <a:graphic>
          <a:graphicData uri="http://schemas.openxmlformats.org/drawingml/2006/table">
            <a:tbl>
              <a:tblPr/>
              <a:tblGrid>
                <a:gridCol w="1143000"/>
                <a:gridCol w="1000440"/>
                <a:gridCol w="1785600"/>
                <a:gridCol w="1428840"/>
                <a:gridCol w="135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jemp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pera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sul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perador un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po del operan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(-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 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perador bin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yor ti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 + 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 y 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 (2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étodo (funció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po de Resul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pow(2, 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 (8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xpre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Último tipo ope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 + 2 + 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 y 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 (4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Constantes Simbólica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Variables con la capacidad de guardar un único valor (inicial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Son inmutable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final &lt;tipo&gt; &lt;nombre&gt; = &lt;valor&gt;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Tipos en las Asignacione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Asignar valor a una variable del mismo tipo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Asignar valor a una variable de un tipo más grande (int &gt; double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No se puede asignar un valor más grande a una variable de tamaño más pequeño sin un casting de tipo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8EAD-4DF0-4169-9456-1C786599734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Casting (Coerción) de Tipo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Conversión explícita de un valor compatibles con el valor de la variable pero más grande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valuar la expresión para obtener el valo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Convertir (forzar) el valor al tipo indica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Devolver el resulta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&lt;variable&gt; = (&lt;tipo&gt;) &lt;expresion&gt;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variable&gt;: donde se almacena el valor converti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tipo&gt;: tipo de la variable. Debe ser compatible con el tipo de la variabl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expresion&gt;: expresión a evaluar (del super tipo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2D49-15BE-48F2-8389-2EF29766565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Algunos Ejemplo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180080" indent="-165960">
              <a:lnSpc>
                <a:spcPct val="100000"/>
              </a:lnSpc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1 = 4.5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JAVA lanza un error de tipo,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no puede hacer la conversió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2 = (int) 6.5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En este caso el casting ex-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plícito permite que n2 = 6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double p = (5 + 6)/2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Aquí el valor sería 5, con l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que perdimos precisió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double c = (5 + 6)/2.0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Aquí el valor sería 5.5, por-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que 2.0 obliga a que la divi-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ión sea re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v1 = 7, total = 2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100.0 * v1 / total  </a:t>
            </a: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≠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  v1 / total * 100.0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F50D-406E-45F9-B7D9-9B4CA7C6DF6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Escriba un programa que establezca el siguiente diálog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4104-B1B2-4358-8E3B-19685B0DA7E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5 Rectángulo redondeado"/>
          <p:cNvSpPr/>
          <p:nvPr/>
        </p:nvSpPr>
        <p:spPr>
          <a:xfrm>
            <a:off x="1928880" y="2500200"/>
            <a:ext cx="6715080" cy="121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Inversor de Números de 2 Díg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Dame un Númer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Su inverso es = 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Solución 1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olicitamos el número al usuari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Inversor de Números de 2 Dígitos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 = U.readInt(“Dame un Número: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eparamos los dígito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d1 = n/1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d2 = n-d1*1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Mostramos el resulta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u inverso es = “ + d2 + d1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también es váli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u inverso es = “ + (10*d2+d1)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1032-FF09-473B-9607-F65D965C54F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Solución 2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Con operador de módul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olicitamos el número al usuari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Inversor de Números de 2 Dígitos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 = U.readInt(“Dame un Número: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eparamos los dígito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d1 = n/1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d2 = n%10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Resto de la divisió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Mostramos el resulta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u inverso es = “ + d2 + d1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A44B-D762-44A0-9A36-0D35E6BCB3C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rabajo Práct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Problema 1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Invertir un número de 3 dígit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Problema 2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Recibir una fecha en formato de número (por ejemplo: 20070309) y convertirla en su forma tradicional (09/03/2007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8534-5E45-43BB-B5F1-4A559B44790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n esta clas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Solución Clase Anteri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Trabajo Práctic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mplementos de la Cla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1378-C1B7-4D19-BB13-10A0461AB54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Fin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1428840" y="6215040"/>
            <a:ext cx="7407360" cy="365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20e04"/>
                </a:solidFill>
                <a:latin typeface="Gill Sans MT"/>
              </a:rPr>
              <a:t>El Presente es la única salida del Pasado y la única entrada al Futur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50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651" name="5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FFD7-5C2A-42DF-B667-5E63F99C0D2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Clase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Gill Sans MT"/>
              </a:rPr>
              <a:t>Problema 1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: Escribir un programa que establezca el siguiente diálog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Gill Sans MT"/>
              </a:rPr>
              <a:t>Solución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Calcular el perímetro y el área de un rectángul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l = U.readDouble(“Largo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a = U.readDouble(“Ancho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Perímetro = “ + (2*(l+a)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Area = “ + (l*a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5177-F548-479C-895B-58517FBFCCE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5 Rectángulo redondeado"/>
          <p:cNvSpPr/>
          <p:nvPr/>
        </p:nvSpPr>
        <p:spPr>
          <a:xfrm>
            <a:off x="1928880" y="2357280"/>
            <a:ext cx="6715080" cy="17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alcular el perímetro y área de un rectá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Larg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Anch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Perímetro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Área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Clase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Gill Sans MT"/>
              </a:rPr>
              <a:t>Problema 2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: Diseñar un diálogo y escribir un programa que calcule la velocidad de un móvil en km/h, dadas las distancia (en metros) y el tiempo (en segundos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spcBef>
                <a:spcPts val="2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Gill Sans MT"/>
              </a:rPr>
              <a:t>Solución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Cálculo de Velocidad de un Móvil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d = U.readDouble(“Distancia (en mts)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t = U.readDouble(“Tiempo (en segs)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Velocidad = “ + (d/t*3.6) + “ km/hr”)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Viene de (d/1000)/(t/3600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F6BF-51D5-484C-9BD3-843D184E4EA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8 Rectángulo redondeado"/>
          <p:cNvSpPr/>
          <p:nvPr/>
        </p:nvSpPr>
        <p:spPr>
          <a:xfrm>
            <a:off x="1928880" y="3214800"/>
            <a:ext cx="6715080" cy="1428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álculo de Velocidad de un Mó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Distancia (en mts)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Tiempo (en segs)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Velocidad = ... 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oblema: Escribir un programa que instruya al computador para que establezca el siguiente diálog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9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7875-494D-4625-A32C-74C4564D7E4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5 Rectángulo redondeado"/>
          <p:cNvSpPr/>
          <p:nvPr/>
        </p:nvSpPr>
        <p:spPr>
          <a:xfrm>
            <a:off x="1928880" y="2928960"/>
            <a:ext cx="6715080" cy="221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álculo de Porcentajes de El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Votos Candidato 1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Votos Candidato 2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Total de Votos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andidato 1 = ...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andidato 2 = ...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olució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Cálculo de Porcentajes de Votación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v1, v2, total; 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declaramos todas las variabl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v1 = U.readInt(“Votos Candidato 1: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v2 = U.readInt(“Votos Candidato 2: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total = v1 + v2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Total de Votos = “ + total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Candidato 1 = “ + (100.0*v1/total) + “%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Candidato 2 = “ + (100.0*v2/total) + “%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9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74AF-5467-4AAE-8883-B68623A290B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Gill Sans MT"/>
              </a:rPr>
              <a:t>Instrucción de Asignación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a instrucción de asignación es una sentencia que permite darle un valor a una variable, obtenido de alguna expresió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valuar expresión (calcular el resultado) según las reglas normales de algebr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Asignar (guardar) el resultado evaluado a (en) la vari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lnSpc>
                <a:spcPct val="10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&lt;variable&gt; = &lt;expresión&gt;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41840" indent="-164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variable&gt;: Nombre de la variable a ser asignad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41840" indent="-164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expresion&gt;: Expresión que debe ser evaluada para asignar el valo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EF47-E2D6-48EA-AE3A-F2F0615DE73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Gill Sans MT"/>
              </a:rPr>
              <a:t>Instrucción de Asignación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(cont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v1 = readInt(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total = v1 + v2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promedio = (v1 + v2)/2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Expresión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Instrucción escrita en una línea (hacia el lado) y no en varios nivel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Es compuesta po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Variables y constante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Operadores binarios (+, -, *, /) y unarios (+, -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Métodos (funciones) que devuelven valore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aréntesis para priorizar sub-expresione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D657-2DD8-4F42-9E31-8122F56D1CD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Expresión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 (cont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Las expresiones se evalúan según el orden tradicional utilizado en aritmétic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1244880" indent="-174960">
              <a:spcBef>
                <a:spcPts val="34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1060560" indent="-438840">
              <a:spcBef>
                <a:spcPts val="451"/>
              </a:spcBef>
              <a:buClr>
                <a:srgbClr val="feb80a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Operadores unarios (+, -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060560" indent="-438840">
              <a:spcBef>
                <a:spcPts val="451"/>
              </a:spcBef>
              <a:buClr>
                <a:srgbClr val="feb80a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Operadores “multiplicativos” (*, /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060560" indent="-438840">
              <a:spcBef>
                <a:spcPts val="451"/>
              </a:spcBef>
              <a:buClr>
                <a:srgbClr val="feb80a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Operadores “aditivos” (+, -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44880" indent="-17496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En caso de operadores de igual prioridad, se evalúan de izquierda a derecha. 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100.0 * v1 / total 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(100.0 * v1) / tot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Los paréntesis se usan par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999720" indent="-43884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Modificar el orden de evaluación. Ejemplo: (a+b)*c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999720" indent="-43884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Resaltar el orden de evaluación.  Ejemplo: a+(b*c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5112-2824-40A4-8AE7-96983E65CB4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5 Flecha izquierda y derecha"/>
          <p:cNvSpPr/>
          <p:nvPr/>
        </p:nvSpPr>
        <p:spPr>
          <a:xfrm>
            <a:off x="4572000" y="5143680"/>
            <a:ext cx="428760" cy="142560"/>
          </a:xfrm>
          <a:prstGeom prst="leftRightArrow">
            <a:avLst>
              <a:gd name="adj1" fmla="val 50000"/>
              <a:gd name="adj2" fmla="val 5012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3:18:40Z</dcterms:created>
  <dc:creator>Andrés Muñoz Ordenes</dc:creator>
  <dc:description/>
  <dc:language>en-US</dc:language>
  <cp:lastModifiedBy>Andrés Muñoz Ordenes</cp:lastModifiedBy>
  <dcterms:modified xsi:type="dcterms:W3CDTF">2007-03-09T12:24:49Z</dcterms:modified>
  <cp:revision>77</cp:revision>
  <dc:subject/>
  <dc:title>CC1001 – Computación I Clase 0</dc:title>
</cp:coreProperties>
</file>