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77F3-7A2A-4F82-A0E9-8E3D212DF5CE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21AA-F0FA-4E4B-BAEB-3692B059254C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8F6-55DF-4877-A977-8F79B176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759-6E74-4BBA-9E84-2B48C66E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B9756-E7EB-4646-AF96-8BB90D2A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E56BF-C705-4A1E-8688-E03B8ABC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69654-4D09-4B47-9495-C72330CD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60D8D-8DC6-41A1-8D79-5A901D5C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DBD0B-96E8-450B-B20C-90A04397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E5BA4-5333-442B-B7AE-F9C1FC55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08959-D030-402C-8031-0A02245C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D9035-1E65-46AA-A9CB-424DCA99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6851E-4FF7-4551-B98B-C3FAAB06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443EB-640F-4B91-BEFD-C5A5AF32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6D9-EDAB-4C37-9242-693C85B5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2A902-D691-4AE4-B116-845B5B83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DEFD4-0339-4A60-A4A3-595B7CAB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4005C-6BF8-41F1-BA96-4CF13C85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BD841-07E7-425A-A40C-14548ECC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070FA-224F-43AD-AE1D-E7343C86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C8518-8D1B-4BFB-AA19-D4ABD164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EB6DB-7049-474A-999F-32F7AF08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37A08-9F7D-4012-807B-8BFA4EB1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CAE24-5282-49C2-A05C-289CBF36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2C2B0-6008-439D-9D27-2CAEA80F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0F7-57F1-440C-975E-945B80E3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B82BF-B815-45A2-9EB7-94037CC3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2DA37-FAA0-4DF1-87AE-A5A14FB8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0CE02-3820-462E-8F8B-32CCA5D8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897FC-991C-4B37-A44F-A2D2235C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B315A-CCD8-40BA-A240-CEB25F8F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57573-CFF0-4A1A-B5CA-395E80B8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58D71-CD4F-4535-AAA6-E754076E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EE8AA-A6EC-4A35-ADC3-A279BD74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A0DCE-F8A3-403E-92DB-5A0604A9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466A5-69B9-49AE-B715-95209127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43D5-8CBC-4616-90B9-5B3BF51C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E6DCD-4DC8-4F0B-94EF-D335901C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33FD0-F5FC-49C5-9928-57983F56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4ECFA-26B9-4481-9215-FB5B7059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844FF-B0CF-4CC3-8931-C8DA781D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C2648-F9A1-4F2A-A0CC-20E37DB4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098EB-D23E-4621-A5BE-E977E85B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BFC12-34EC-4C17-AA8E-B066495B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22220-C0E6-4EAB-903B-F64CBC8A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C57DC-4367-4CE1-B0AC-6516CA19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5B947-B551-498E-B593-A6B5EEB0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4995-DB42-4753-8FA0-CE3C4A2D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7ECC7-DF32-4229-B63B-E3E6DD0C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ECCFD-C551-4086-AFBE-9291506A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DFF1C-7A37-4700-879E-24ADEFD8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3C162-8A3A-4EA8-8E69-89337E0E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0878C-D528-41C8-A59D-506C2920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1C3A-1789-416F-B340-F6FF9111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ED86-66E6-4C08-B59A-35959CDB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568D-4792-4A84-84F9-34D54D17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1F63-73AE-4B7C-AA8E-4421E5CE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33E3-4FB5-4288-8528-F40D80EF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8D2-0E80-46EE-AECF-433DA664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F71A-1387-4555-BBD6-A099CF5F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7C61-5864-4AF1-8C5E-085B3774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2B89-E8B1-44DC-8FB1-D814A5E6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2980-2A49-461A-BD6B-4245A8AF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BAE8-1FB3-4292-B072-5E6FDF18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13B6A-E034-4ED4-B99C-A69BBEC0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0F81-3147-4F43-A8F1-956266EE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8B24-C7AD-4C36-B586-F12291EA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4A005-C712-4A92-8B74-C3A655B6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1936-FBB5-4DCE-92FF-0F8C2156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C63-E95A-4DE5-89F6-F55F25A5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C4DF-18C4-482F-A377-0EEC0A1C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9BAD-AC81-4087-BF9D-E362B815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E1AC-52B4-4CAC-89B2-7ABE85C4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BF6D-63FC-4F86-ADA4-17EDA22E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A4378-0073-4566-85EE-62E64FC3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D10FF-79FF-402A-9AC2-8DCE1829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C0F8-0039-4A21-B14B-EDBF9BD2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36BBC-B120-4528-BF8D-3FB41648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0C78E-BD0C-490B-B274-D8067345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048BF-0655-47BC-BD54-D23CCBF8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81F-B21D-4F38-8106-CD5BECF0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C696B-899F-4C39-9569-645A9405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822EA-1BD1-410E-A174-83E38FCF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BD1D4-8246-4FF9-93E3-7D120C78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92B40-FD47-4737-914F-E17ABD3C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DEFD-A8B5-4B9A-8490-74A62D61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17ED7-120B-423D-91BB-5AF79CCE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3FED1-BDEC-474A-BC3F-BB3C01B7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8A9F0-57C2-42A5-B565-A4FE12FC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DEAE4-438E-495A-BFCD-93D95770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FB45E-B63C-453C-AE13-1C1BF55C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8EF-3F8B-44EF-9A60-BB43EAFA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495FB-C251-4657-9FB7-C0862120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1C2E5-9471-4E12-A8C2-9B55BB8E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78B3A-21AE-4654-8DF4-F01E85B4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F0B04-EEB7-486B-BE1F-507424F2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6F2A3-13EE-4FC2-BD61-1ACB7A64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A8B66-4262-4D19-87E4-488C25F1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5CF7D-60AD-4673-A3D5-F85492B1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C5AA1-8763-4FEC-A1E2-DBCB3893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87B09-2B5A-4918-AF07-BCE73B79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50069-6FD1-4E28-91CD-15C0CF00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E88-60C8-47DD-B5A1-5E8E7DD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E140B-1F55-4E41-9AE7-7194C760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BA9F7-DE00-41FF-A55D-01EAB2D5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513B6-7A8B-4303-86A6-EBC6823D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C2DFF-4314-4C5B-A38C-CE44C345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BA12F-4FD5-4D45-9C17-12E856E5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3BDB2-BD87-4A69-BA82-CC30F679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FC8F6-E6FC-4022-8C1C-76155B42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DFEB6-291B-4913-BF9D-5CA886DD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2140A-04A5-4DB4-8A3D-F6432C3D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FD61B-5C36-459A-8CEC-38734C1F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810-3345-4086-96E4-9AC24639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165EE-FB78-439B-B642-DCF97EA7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B4F05-5519-4B36-A923-1071EDFD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07652-19D3-4FAA-8C21-2F76CD26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F673F-08D5-4667-941F-BF561C49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1A352-F2EC-4673-821B-1AD65D47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DA776-8454-4F54-A81A-017097E9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EFDAF-8174-4D11-8CDD-B6CF6A17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91E2F-EB09-405C-A595-BD6751FD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C0E9D-CD10-41BA-9294-AD84072F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FD7CF-BFE3-4103-8BD0-06FBF4B6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B42-703C-41DD-ADF9-C7A391F0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30A68-3802-4427-92CF-7CDE5A42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627C6-B74E-4BDA-8536-4D678275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3A3C7-5819-4B7E-AF19-5B1F776A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EE2D3-544D-4F00-B348-180E6F0A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810FB-0FC4-42D8-A3FB-6C35B777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98D33-F774-478E-8172-F66808B4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7A911-0502-4538-A8DB-991EFCA9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C738E-CAD7-4694-BD56-9D11996B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3B34C-5BA3-4E83-96BA-92876567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A5F60-A5D8-4CDC-A8EE-D0E9732A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00F-DA3B-4A9A-9F1F-454839C9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48B57-36BE-4AD4-AC98-65D2D54B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0D42D-8CAC-4AAD-9A0E-29415FAC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45593-DCD4-4C47-BF2C-0B35A681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72D7A-8F30-45DE-81E6-849C10CA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9E930-7CBE-4A99-8793-C505189B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D066D-15F7-47C6-AE7F-F6133DFD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F764D-30F2-4834-9959-C58144E8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6FD90-4707-4084-8E2B-B34121E6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A445F-32C2-475B-BA13-50B82D65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B6FFC-E786-4462-BB0D-86DB593D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9063-97F6-4B61-8E5E-B7D6246C598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B798-F85B-40D9-8DF6-00605128C00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524D-46DF-4EA7-8B77-BE50A5206F8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A237-E1C9-4619-8749-3F7C4CE6791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DDD9-967B-4448-8DF5-40DC2486AB7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D35D-E9B2-470B-9CC1-4E2C42A11AC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0BA1-E520-4BDA-88BB-8FDCC8DD9AD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EFE3-B14A-45A2-88C5-61ADF6267D6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1EB5-554B-4648-8A83-FE420B6839F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8223-ECF8-48ED-968D-259AC528D41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8896-4B18-40F9-915D-CE05CBFC7A4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1336-BBE9-42B3-A708-0B946344346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2A1C-22B9-4645-9BE9-AB8F68B1421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9CD1-2F48-45DF-8287-A220D4F4EBE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576E-C9FC-4EE9-B7A8-C60C1BC825B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C61F-2E36-480C-A247-89B58B2B33F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B0D4-523F-4141-B194-C543EE157BA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D784-F17F-4420-90FD-81FAD656B7D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CCD0-B760-42E3-9266-B53FCC405CA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E231-EDEE-4C5D-B7CE-38A4930C15A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F2AD-7D8E-4AC6-85E3-D8E1B5CF768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2F64-98B4-4C3A-9DE2-093F08563BE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12BF-33F6-4785-AF33-753B51BB4A9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2454-F5E1-441F-9F79-0C2DAD61FD1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9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74A8-F986-4FD9-91C9-20C1AB5DE78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Inicialización de Variabl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claración y asignación inicial de un valor a una variab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claración (reserva de espacio de memoria) de variable según tip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valuación de la expresión para obtener el valor inic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Asignación del valor evaluado a la variable “declarada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tipo&gt; &lt;nombre&gt; = &lt;exp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tipo&gt; &lt;nombre1&gt; = &lt;exp1&gt;, &lt;nombre2&gt; = &lt;exp2&gt;, ...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tipo&gt;: Tipo de variable a iniciali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nombreN&gt;: Nombre de la o las variables a iniciali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expN&gt;: Expresión a evaluar como valor inici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DC5D-F689-4064-88CE-2ABD55E6DC3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de Datos Numéric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Bit = binary digit (digito 0 o 1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4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¿Cuál es el mayor número entero?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epresentación: 011111111111111111111111111111111 (32 bit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l primer bit en 0 indica el signo POSITIV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Los siguientes 31 bits en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valuado: 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+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+…+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=1+2…=2.147.483.647=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31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-1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imilar al decimal 99999… =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8D31-97CA-4EBE-A90E-EE7DFFF38A9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857240" y="2071800"/>
          <a:ext cx="6715440" cy="1112760"/>
        </p:xfrm>
        <a:graphic>
          <a:graphicData uri="http://schemas.openxmlformats.org/drawingml/2006/table">
            <a:tbl>
              <a:tblPr/>
              <a:tblGrid>
                <a:gridCol w="928800"/>
                <a:gridCol w="642960"/>
                <a:gridCol w="1928880"/>
                <a:gridCol w="2071800"/>
                <a:gridCol w="1143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 Va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 Va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ci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2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=-2.147.483.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1=2.147.483.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1.07 x 10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07 x 10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de Datos de Expresion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0725-7CCE-46E6-B6C9-7451746073C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857240" y="2071800"/>
          <a:ext cx="6715440" cy="2930400"/>
        </p:xfrm>
        <a:graphic>
          <a:graphicData uri="http://schemas.openxmlformats.org/drawingml/2006/table">
            <a:tbl>
              <a:tblPr/>
              <a:tblGrid>
                <a:gridCol w="1143000"/>
                <a:gridCol w="1000440"/>
                <a:gridCol w="1785600"/>
                <a:gridCol w="1428840"/>
                <a:gridCol w="135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dor u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del opera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(-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dor bi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 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+ 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y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2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étodo (fun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de 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pow(2,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8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pre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Último tipo ope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+ 2 + 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y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4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Constantes Simbólica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Variables con la capacidad de guardar un único valor (inicial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on inmutabl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final &lt;tipo&gt; &lt;nombre&gt; = &lt;valor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en las Asignacion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Asignar valor a una variable del mismo tip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Asignar valor a una variable de un tipo más grande (int &gt; doubl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No se puede asignar un valor más grande a una variable de tamaño más pequeño sin un casting de tipo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C233-D7C8-4066-81A5-E18FD2DEAE9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Casting (Coerción) de Tip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versión explícita de un valor compatibles con el valor de la variable pero más grand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valuar la expresión para obtener el val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vertir (forzar) el valor al tipo indic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evolver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variable&gt; = (&lt;tipo&gt;) &lt;expresion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donde se almacena el valor converti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tipo&gt;: tipo de la variable. Debe ser compatible con el tipo de la varia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a evaluar (del super tip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DDB9-1EAD-4D51-85EF-52DCC6E6DE4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Algunos Ejempl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180080" indent="-165960">
              <a:lnSpc>
                <a:spcPct val="100000"/>
              </a:lnSpc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1 = 4.5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JAVA lanza un error de tipo,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no puede hacer la conver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2 = (int) 6.5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En este caso el casting ex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plícito permite que n2 = 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ouble p = (5 + 6)/2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Aquí el valor sería 5, con l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que perdimos preci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ouble c = (5 + 6)/2.0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Aquí el valor sería 5.5, por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que 2.0 obliga a que la divi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ión sea re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v1 = 7, total = 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100.0 * v1 / total  </a:t>
            </a: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≠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  v1 / total * 100.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1499-F2EF-407E-B919-3C2C9DD6DB2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Escriba un programa que establezca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DF11-B080-45D8-8362-84772119ACD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5 Rectángulo redondeado"/>
          <p:cNvSpPr/>
          <p:nvPr/>
        </p:nvSpPr>
        <p:spPr>
          <a:xfrm>
            <a:off x="1928880" y="2500200"/>
            <a:ext cx="671508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versor de Números de 2 Díg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Dame un 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u inverso es = 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Solución 1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olicitamos el número al usuari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Inversor de Números de 2 Dígitos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ame un Númer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paramos los dígito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1 = n/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2 = n-d1*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Mostramos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d2 + d1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también es váli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(10*d2+d1)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E03F-6BFA-4D7E-AAEF-4BB6B26D454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Solución 2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Con operador de módul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olicitamos el número al usuari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Inversor de Números de 2 Dígitos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ame un Númer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paramos los dígito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1 = n/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2 = n%10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Resto de la divi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Mostramos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d2 + d1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EDCC-8FF2-4135-84B2-0943B9445EC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vertir un número de 3 dígit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Recibir una fecha en formato de número (por ejemplo: 20070309) y convertirla en su forma tradicional (09/03/2007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19B5-4C21-4954-BA07-896D228A944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Clase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390A-F685-4232-98A9-B942DF6A255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0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651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7EA9-6BFD-4F04-B4CE-E8727966B97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alcular el perímetro y el área de un rectángul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l = U.readDouble(“Larg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a = U.readDouble(“Anch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Perímetro = “ + (2*(l+a)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rea = “ + (l*a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F91A-DB24-447A-A5F8-2C04AF5D01C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Rectángulo redondeado"/>
          <p:cNvSpPr/>
          <p:nvPr/>
        </p:nvSpPr>
        <p:spPr>
          <a:xfrm>
            <a:off x="1928880" y="2357280"/>
            <a:ext cx="67150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el perímetro y área de un rect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Larg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nch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 Diseñar un diálogo y escribir un programa que calcule la velocidad de un móvil en km/h, dadas las distancia (en metros) y el tiempo (en segundos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álculo de Velocidad de un Móvil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d = U.readDouble(“Distancia (en mts)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t = U.readDouble(“Tiempo (en segs)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Velocidad = “ + (d/t*3.6) + “ km/hr”)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iene de (d/1000)/(t/360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0F8F-2FC3-4ADE-8DDD-075F4EE4C25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8 Rectángulo redondeado"/>
          <p:cNvSpPr/>
          <p:nvPr/>
        </p:nvSpPr>
        <p:spPr>
          <a:xfrm>
            <a:off x="1928880" y="3214800"/>
            <a:ext cx="6715080" cy="142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álculo de Velocidad de un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Distancia (en mts)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Tiempo (en segs)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elocidad = ...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blema: Escribir un programa que instruya al computador para que establezca el siguiente diálog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FE06-82AF-4C48-BE77-5CC647D80F7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5 Rectángulo redondeado"/>
          <p:cNvSpPr/>
          <p:nvPr/>
        </p:nvSpPr>
        <p:spPr>
          <a:xfrm>
            <a:off x="1928880" y="2928960"/>
            <a:ext cx="6715080" cy="221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álculo de Porcentajes d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otos Candidato 1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otos Candidato 2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Total de Votos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ndidato 1 = ...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ndidato 2 = ...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álculo de Porcentajes de Votación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v1, v2, total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declaramos todas las variabl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v1 = U.readInt(“Votos Candidato 1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v2 = U.readInt(“Votos Candidato 2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total = v1 + v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Total de Votos = “ + total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andidato 1 = “ + (100.0*v1/total) + “%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andidato 2 = “ + (100.0*v2/total) + “%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097D-DB4D-4947-B2BE-80D3B803EA2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Instrucción de Asignación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a instrucción de asignación es una sentencia que permite darle un valor a una variable, obtenido de alguna expresió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uar expresión (calcular el resultado) según las reglas normales de algeb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signar (guardar) el resultado evaluado a (en) l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&lt;variable&gt; = &lt;expresión&gt;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Nombre de la variable a ser asignad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que debe ser evaluada para asignar el val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8BA8-4570-4ED2-BCB1-506EB769241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Instrucción de Asignación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(cont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v1 = readInt(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total = v1 + v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promedio = (v1 + v2)/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Expresión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Instrucción escrita en una línea (hacia el lado) y no en varios nivel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s compuesta p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Variables y constant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peradores binarios (+, -, *, /) y unarios (+, -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étodos (funciones) que devuelven valor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réntesis para priorizar sub-expresion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78CA-A9B5-479C-99FD-C7746DDCE9C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Expresión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 (cont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as expresiones se evalúan según el orden tradicional utilizado en aritmét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1244880" indent="-174960">
              <a:spcBef>
                <a:spcPts val="34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unarios (+, -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“multiplicativos” (*, /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“aditivos” (+, -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44880" indent="-1749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En caso de operadores de igual prioridad, se evalúan de izquierda a derecha.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100.0 * v1 / total 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(100.0 * v1) / tot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os paréntesis se usan par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999720" indent="-43884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odificar el orden de evaluación. Ejemplo: (a+b)*c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999720" indent="-43884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Resaltar el orden de evaluación.  Ejemplo: a+(b*c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FD6E-EC80-4084-AFA2-1688600D879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5 Flecha izquierda y derecha"/>
          <p:cNvSpPr/>
          <p:nvPr/>
        </p:nvSpPr>
        <p:spPr>
          <a:xfrm>
            <a:off x="4572000" y="5143680"/>
            <a:ext cx="428760" cy="142560"/>
          </a:xfrm>
          <a:prstGeom prst="leftRightArrow">
            <a:avLst>
              <a:gd name="adj1" fmla="val 50000"/>
              <a:gd name="adj2" fmla="val 5012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9T12:24:49Z</dcterms:modified>
  <cp:revision>77</cp:revision>
  <dc:subject/>
  <dc:title>CC1001 – Computación I Clase 0</dc:title>
</cp:coreProperties>
</file>