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9A97-8E99-4A01-A1A1-415156EF6437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ECA6-8514-437A-AC2B-3F309E123BFB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B12-1C3A-456D-9A4F-3F92DAAF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BE1-0FEB-49FB-949E-9270109D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8E184-62F7-44A3-9063-896D9BFC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6B3BB-F42B-468B-92EE-438277B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52525-FE12-4ECB-95B0-7D75FCF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8CD1-0A5D-4AC9-A5FF-DBA620D5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1E656-DE63-4F07-B63D-D72B9CB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64E3-3D3D-48EE-BD83-62D6F2A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919B1-16BF-4C1B-AD2B-A7D3CB8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82511-7A36-4631-9E60-EFB08695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22C44-8524-4F0B-8F6F-BC4071E8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F2D02-20E8-46A3-8614-A59ADDFB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537-551E-47D9-B46E-21D91AA4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ADE44-3FA0-49E4-95AC-A091F39D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A0270-47E6-41D3-B836-81B1627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9BCEA-58D8-4E9A-831C-B7CCE9F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371B-3E90-4E01-B646-7F0C88D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2061B-3222-4DAB-8A84-FDE9D6B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F5402-776B-4C2A-85B2-AE10E34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076C5-F720-48F3-93E0-92E2CED8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969F7-740D-4C95-B845-E9813BE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F654-285E-4704-B776-EB62F0B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83012-CCEA-4BF6-A1D2-3438A5F4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080-CDD2-4E4D-8655-BDBB8DFF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EEE09-5565-45C9-8F90-B8C40313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3CD04-A05C-4EBD-A960-53A5A07E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4DB9-D1B5-479D-AA9C-DF2D4B5C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A8E1D-3324-4AEC-A54F-D709751F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DDE50-49F9-426B-8258-6AC8763B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8981E-5716-4A81-90B1-9A900F0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41FC-2C27-4BB0-AD2D-DAB0DA5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0C30-05AF-463D-B073-A91119A5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CA71-1CD8-4180-9F29-3EE74F1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2A48-132D-4438-9CBA-2694CBA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C54-14DD-4984-90C9-8C04EC8C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9D028-F922-4294-9AB9-0C44DAC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3A4B0-7B70-4EA4-953B-A754B4E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5F5A-2E3D-427C-8A1E-8E12C32B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2597E-2DC4-4E78-AB14-359B3887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7405C-2A06-4FF0-8D96-994C046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8EF4A-F27C-46FC-AC1F-194CAE6F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42938-8052-460D-818D-B5D343C0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58479-CB7C-4710-B87C-642D723F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CFC13-A38A-46F6-B189-B3FE0EC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C32DE-D479-4C2A-AE17-F717816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C276-36E9-4FCC-AB26-17F6B65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AE24-4A74-4F4A-9081-2B41F82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53F2D-BF9C-4824-982D-BD3C392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E9A1B-130B-475B-B8BB-E1DCC29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E969-EBF4-4505-BCFC-0D6A58FB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EDD45-4EEA-47F0-9E0C-4A843D65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D693-78D2-48B6-8A3F-EAA1A8D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1D8-4828-46C5-BB8F-B96A61E7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E4B9-F7FE-41A1-91B2-6085A129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9BEF-6E00-41E9-98FE-2A7D82F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2DAE-DD8F-4EBA-9561-A6214D9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8CB-4C16-4CB7-9E69-AC0833E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4A1E-85B4-49D7-928D-B2D0A11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1F2-3CB5-45CF-ADFD-945E06F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89E5-C7F4-4D86-98F5-E42CCA4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123-FAA5-4061-AA4D-9EA2DA77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709-FAD3-4365-9A6A-8CE71BA7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DE85-FF00-488B-ADE6-5EB485B2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1086-0A61-43CA-BA5F-526672BD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B7A7-232D-4359-BF0D-16F0AB2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909A-8387-4118-9ED3-CE06862A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5EAA-9CF2-475A-B627-A0BB6D9B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F90-D369-4914-B036-78E2BE2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E2C5-1591-46DC-A2C3-FC71928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D1A7-005D-4AF8-8152-C381860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3E0B-7E8F-4B0E-8DD4-994D6573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9F02-C95A-4D79-B353-EB304F6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483C-3CA4-4F78-ABA9-E43841C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32C4-B9B4-4AA5-86B6-3280E84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5BF9-D04C-4E6E-A072-BA5571D4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D73C-4A1E-420A-A409-96859844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F955-5935-4259-92F3-0E7DF66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F5B1-4A36-45CF-A651-55D93D4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8F8-952B-4A29-8935-8358E442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3495-07D3-45D8-B5D2-313CA4A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BD26-2615-43CD-8E7A-906B5A56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D5F6-AD46-4B1D-BB4B-5FD4880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48A0-6895-4EF2-BEF1-67C6BDC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DC27-BEB0-40AB-9CB8-D2BB563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5EFD-D3D6-4BEB-9858-4D0BB2B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EE2D-1994-424B-9985-BF08AE5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0B0B-1968-428E-9F3D-66A438AB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EABE-7E68-40AF-AB4B-E8ED6D55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36B01-7556-4ED9-B776-07190D67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D84-920D-40F9-8822-80A69545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5B8D-94F3-4E67-9C8B-1C111B7F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08C7-756D-4D58-9D32-ECE42C3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92F2-CE27-4C79-9751-5A95D886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A241-B6F3-423A-ABBB-3D5D033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643C-169B-448E-87A6-812184C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627E-5130-4773-B03F-55A33149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BBD9F-5E20-4A62-935C-053DF36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10106-0483-4D98-A025-7C81116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2B587-90AA-46CE-8F84-CD53814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2F849-96C1-4922-8AF7-2E9E4514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7CC-A150-4872-A79A-6919AA25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9B96-8281-4464-9BF3-EB17B897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2E8A-DFC3-4E8F-8727-5DD77F87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1C25-ACDD-48FF-A3B8-06BAEB7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2EC6E-9FAE-4B0D-9D96-09231DF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C58D-46ED-47AB-B8C3-8342A3A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B76A-BE08-482A-B233-D800D23A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98FA-D97A-4F82-A6CF-014B9382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0CCB-F565-4B09-8042-2CC5839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F8BE-8217-41E4-929E-7AB6FE0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DCA2-8B35-46C5-87C1-878E89F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C07-4E82-4B28-8958-B32C743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9BE3-D145-4DC5-8958-3B976330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2B23-1410-43C5-ADBE-8D4B3B08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2959-8887-456A-B4A0-B1BAFE2D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7FF5-6FF3-4959-83DD-ADD817FC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0559-539F-4A19-A3F1-8D84230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E09B-28E0-4777-BCB5-1E5AD33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5E32-40C4-4646-8E11-0198CF3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2635-0013-4845-BE6A-A9833312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84D8-058F-4B17-84EB-67BD23D0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0A3D-F072-401F-A4A8-A63D1AE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1A1-5927-4D1E-90BA-E8851B3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259D-5846-4B1E-AE5B-EB8C801C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1C87-7903-40D7-8BDE-85D34EDA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747F-7630-480A-8B6A-D9F15A12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C4938-2873-4826-9F1B-0B7E3898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F906-4BDA-480C-AD2B-FE7115EC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9072-D39F-4428-9F4D-4FE324EB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2397C-25EF-46DD-BD2C-D9FE8F3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8068-05D6-4FC3-B39D-F17C8D41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F0A3-E892-48D3-90D1-B2774B84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C845-B540-438A-AB10-5408434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495-83A8-48C3-B167-643D683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2F83-9590-497C-B9F3-74D9415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19E9D-9DBB-4E58-9496-211D570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472E-1E21-4B97-B20D-9DB4F66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E5A3D-216B-4996-9673-204CD0D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56C3-A0C0-4D3B-BDD4-7837977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E8C9-9206-47E2-A1FA-91282981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D2A85-8277-4236-82EE-73F1AF72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1D0B0-1566-4D5D-8437-7B0A7AAC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7F1A-8FDF-403F-B3B8-C83B2C12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F98FE-945B-49A7-8B5B-F1342FA7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7FC1-5F42-4C0D-94AA-7BC8B76F1D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652-EEEA-4EC4-AB3D-3BCC212FF3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65BB-BF1A-437D-8EB6-B883F00C4DD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5165-897D-4FFE-8275-7DF51C92C8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4AF6-4733-4141-B724-E1054459B26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01C-2FDD-44EC-8F92-785304E410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2C7-5E8F-49AE-8518-31D650BCAEC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DF0-C873-4A27-9B57-4311085891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D71A-B1BF-44C6-843F-5C270BA1CB1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B10-E141-4A10-8A0F-C394B4DF6A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E026-D3BD-48BB-A457-34BB1C8FD18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883-63CA-42E8-AE48-961A149D23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AB2-86B2-445D-B89F-F8F4B3E98AD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AF1-22C2-4DBC-9105-B7F14287A0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18C-2314-4E96-851E-0A4EE23EBB8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739-B86E-46C7-A238-D144B64EBB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DD6-EF72-4DDD-B9C7-29FA93B3321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2528-EDC0-44E4-B0AB-DE17BBEAC6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72A-5BBA-4DFF-8DB4-59CB846994E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F8D-F9A3-4B27-865C-733C7DC95A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CFB1-5F32-456E-9CDE-CB7E7469FD6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73AC-2809-4D88-8994-7FF6B2D753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CDBF-9014-442E-9395-033B8B89E2C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FFC-89EA-4462-8B6F-9A45A9301B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8FD-0FA3-4FA1-923E-9C0250EB9D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cemos nuestro código en deta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(método) que escribe el parámetro (argumento) en la pantalla del computa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n la pantalla la frase encerrada entre las comillas (“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…”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793-0534-47BF-9AF4-7EB0D828A52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ción (reserva de memoria) de un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 (define)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mo una variable de tipo ent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tipo&gt; &lt;variable&gt;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dato a definir (int o doubl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entero sin punto decim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double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real (con punto decimal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 (letra seguida de letras, dígitos o _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C5B4-CA2D-455B-BA34-47F2A77810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Variabl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 una ubicación (celda) en la memoria del computad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cidad: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valor/número (del tipo declarad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iene la capacidad de variar (cambiar) su val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5357880" cy="3062520"/>
          </a:xfrm>
          <a:prstGeom prst="rect">
            <a:avLst/>
          </a:prstGeom>
          <a:ln w="0">
            <a:noFill/>
          </a:ln>
        </p:spPr>
      </p:pic>
      <p:sp>
        <p:nvSpPr>
          <p:cNvPr id="619" name="5 CuadroTexto"/>
          <p:cNvSpPr/>
          <p:nvPr/>
        </p:nvSpPr>
        <p:spPr>
          <a:xfrm>
            <a:off x="421488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6 Rectángulo"/>
          <p:cNvSpPr/>
          <p:nvPr/>
        </p:nvSpPr>
        <p:spPr>
          <a:xfrm>
            <a:off x="3571920" y="457200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8 Conector recto de flecha"/>
          <p:cNvCxnSpPr/>
          <p:nvPr/>
        </p:nvCxnSpPr>
        <p:spPr>
          <a:xfrm>
            <a:off x="2857680" y="4071600"/>
            <a:ext cx="714960" cy="5007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2" name="10 CuadroTexto"/>
          <p:cNvSpPr/>
          <p:nvPr/>
        </p:nvSpPr>
        <p:spPr>
          <a:xfrm>
            <a:off x="192888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Rectángulo"/>
          <p:cNvSpPr/>
          <p:nvPr/>
        </p:nvSpPr>
        <p:spPr>
          <a:xfrm>
            <a:off x="5000760" y="5143680"/>
            <a:ext cx="9284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12 Conector recto de flecha"/>
          <p:cNvCxnSpPr/>
          <p:nvPr/>
        </p:nvCxnSpPr>
        <p:spPr>
          <a:xfrm flipH="1" flipV="1">
            <a:off x="5928840" y="5500080"/>
            <a:ext cx="1286640" cy="286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5" name="13 CuadroTexto"/>
          <p:cNvSpPr/>
          <p:nvPr/>
        </p:nvSpPr>
        <p:spPr>
          <a:xfrm>
            <a:off x="7215120" y="557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3AE-4A7C-40BD-B1CA-08A62540D7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ctura de valor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pera que el usuario ingrese un número y un 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 el número y lo entrega como resultado de la fun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número se guarda (asigna a)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variable&gt; = &lt;U.readTipo&gt;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U.readTipo&gt;: método de lectura que indica el tipo de dato que le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Int() lee un ent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Double() lee un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67A-064B-404D-9CE4-FDAA211EC6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l valor de n incrementado en 1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úa la expresió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 +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n el valor de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su resultado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&lt;expresion&gt;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ritmética a evaluar para imprimi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B4BD-DC96-4858-AD45-762176E87A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Expresión Aritmétic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expresiones aritméticas funcionan igual como las conocemos y son de la fo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[operando] [operador] [operando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dores soportado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dición: 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ustracción: 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ultiplicación: *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ivisión: /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n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Variabl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stant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xpresiones con/sin paréntesi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a*b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 a+(b/c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Se resuelven con las mismas reglas aritméticas que ya conocemo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1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63B-F718-4A8C-8A85-2EAA29A9847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s posible abreviar las instrucciones para “usar” menos líneas de códi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7D05-F4F6-4845-9A4E-8D158A03776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operador “+” de convierte en un operador de concatenación cuando lo utilizamos con textos en comill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paréntesis obliga a evaluar primer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(n+1)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antes de concaternarlo, y por lo tanto, es una adición en vez de concatenación (entero + entero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4F87-B69A-4846-B3BB-2C5A4163EF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ln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uando se usa el “print” solo, el cursor se queda parado en la misma línea ya escrita, pero al fin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 este método provocamos que al final del texto que se debe mostrar se posicione el cursor al comienzo de una siguiente línea (print lin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7F2E-703E-4476-9F29-6F7824DFC7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4 Rectángulo redondeado"/>
          <p:cNvSpPr/>
          <p:nvPr/>
        </p:nvSpPr>
        <p:spPr>
          <a:xfrm>
            <a:off x="1928880" y="2428920"/>
            <a:ext cx="671508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perímetro y área de un cír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Radi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E78-681D-4C56-89DE-579EAB8572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FAF-9DBA-4458-914F-737E588F30A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Calcular perímetro y área de un círculo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Radio: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r un número para el radio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Perímetro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 2 multiplicado por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y multiplicado por el radio leído (fórmula del perímet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Área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ltiplicado por el radio leído elevado al cuadrado (fórmula del áre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4299-9EE9-435A-8F01-83933DA1788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ent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r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3.1416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3.1416*r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ta es la forma con abreviaturas. Ojo que 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que estamos utilizando es una aproximación, más que el número complet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C4D1-02F4-42B0-AB15-439A167F6C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rrores típicos al momento de revisar una solució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 seguir fielmente el diálogo propues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scribir la línea de títu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con mayúsculas las instruc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ínea de título con print en vez de print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pregunta con println y no con 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mbrar inadecuadamente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etra grieg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3,1416 en vez de 3.14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quivocarse en el valor de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por ejemplo 3.146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l operador de multiplicación (*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ar notación inexistente para elevar al cuadrado (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o r^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F61D-B09D-47F2-8E9B-759DED0B9A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r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double r = U.readDouble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Math.PI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Math.PI*Math.pow(r,2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de agregar el cambio de tipo, incorporamos métodos y valores de la librería matemática Ma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D7DC-709D-4664-8257-4B37BEE4E2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predefinido par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3.1415926535897932384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una constante real (valor inmodific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ow(x, 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lcula y entrega una potencia de un valor o variable (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es predefinida, es decir, viene con el lenguaje J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CF5B-AF42-4A2E-9864-E00ADDF5F21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3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Inventar un problema, diseñar el diálogo y escribir el progra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4 Rectángulo redondeado"/>
          <p:cNvSpPr/>
          <p:nvPr/>
        </p:nvSpPr>
        <p:spPr>
          <a:xfrm>
            <a:off x="1928880" y="21430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269F-077E-4558-942F-A98A92FF2D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Jalisco comple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Jalisco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 programa debe estar contenido en una clase y guardado en un archivo con el mismo nombre de la clase (Jalisco.jav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el código debe ser escrito dentro de un métod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0EF-0E97-4FB9-A57D-D0D134C9E4B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intaxis básica de una clase “ejecutabl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</a:t>
            </a: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nombre_de_la_clase&gt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{ // solo se debe reemplazar el no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 continuación viene el método principa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que la hace “ejecutable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programa&gt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quí va todo el program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s los programas (al menos al principio del curso) los definiremos de la misma form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 puede agregar “comentarios” con los caracteres // lo que permite escribir una línea de comentario. Múltiples líneas requieren el // al principi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8BE-71F3-42B1-B549-CEE7A64E744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 clase 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BufferedReader teclado = new BufferedReader(new InputStreamReader(System.in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ln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ln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ED5-DD87-43FD-AFF7-E4E2063C4C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a utilizar los programas, se debe primero guardar la clase U en un archivo U.java en el mismo directorio que t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clase U están todas las funciones que se requieren para escribir en pantalla y leer desde el teclado número enteros (int) y reales (doub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s utilizar la misma clase U.java escrita para muchos program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8D3-076F-46B8-80FE-EF4EF0D0F7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Instruir al computador para que establezca el siguiente diálogo con una persona (usuario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Rectángulo redondeado"/>
          <p:cNvSpPr/>
          <p:nvPr/>
        </p:nvSpPr>
        <p:spPr>
          <a:xfrm>
            <a:off x="2571840" y="3214800"/>
            <a:ext cx="500040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a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Gano yo con el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6 Llamada con línea 2 (sin borde)"/>
          <p:cNvSpPr/>
          <p:nvPr/>
        </p:nvSpPr>
        <p:spPr>
          <a:xfrm>
            <a:off x="500040" y="4572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7 Llamada con línea 2 (sin borde)"/>
          <p:cNvSpPr/>
          <p:nvPr/>
        </p:nvSpPr>
        <p:spPr>
          <a:xfrm>
            <a:off x="6929280" y="2643120"/>
            <a:ext cx="164340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8 CuadroTexto"/>
          <p:cNvSpPr/>
          <p:nvPr/>
        </p:nvSpPr>
        <p:spPr>
          <a:xfrm>
            <a:off x="1000080" y="6357960"/>
            <a:ext cx="814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Programa Jalisco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 El computador jamás pierde porque siempre pone un número mayor en 1 al que ingresa el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6FB-631E-4EA9-9BC0-270232380D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D3AC-9972-4CE7-AD2F-60D0C1E7A2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una serie de etapas (pasos, instrucciones) que debe realizar (ejecutar) el computador para resolver un probl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¿Cuáles son las etapas para resolver el problem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987-75E9-4DA9-8C42-A0DEAA0194E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lgoritmo que resuelve el problem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del computador la frase: “Ingresa un Número: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er (obtener) el número ingresado por la persona usando el tecl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una línea con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la frase “Gano yo con el” y el número (ingresado por la persona) más u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A6C8-9BC3-4FD0-A773-D6AD75CF4A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Programa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la traducción del algoritmo que resuelve el problema expresado en algún lenguaje de program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Usaremos como lenguaje de programa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EC8-1AD9-43F3-9874-B39702AF94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que representa el algoritm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4 Llamada con línea 2 (sin borde)"/>
          <p:cNvSpPr/>
          <p:nvPr/>
        </p:nvSpPr>
        <p:spPr>
          <a:xfrm>
            <a:off x="7072200" y="2286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Escribe en pant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Llamada con línea 2 (sin borde)"/>
          <p:cNvSpPr/>
          <p:nvPr/>
        </p:nvSpPr>
        <p:spPr>
          <a:xfrm>
            <a:off x="5072040" y="3071880"/>
            <a:ext cx="221472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Lee desde el tec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C35-1D2E-479F-8E6C-4A3D3F5A91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de programación creado en 1994 por SUN Micro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superconjunto de C (1971) y subconjunto de C++ (198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lenguaje orientado a obje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mueve la reutilización (herencia) de progra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orientado a redes y web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 concurrente y distribu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754-E9E9-46C7-8539-63B34E8518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inuació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pirado en el idioma inglé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t, print, rea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so de Notación mat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: n+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: print(…), readInt(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terminan con punto y coma (;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alabra con significados especiales (int, print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o de minúsculas (salvo en casos especia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 (interpretación) preci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con significado/efecto bien defini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7B4-A4FD-481E-9520-2494D5947C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5:34:19Z</dcterms:modified>
  <cp:revision>57</cp:revision>
  <dc:subject/>
  <dc:title>CC1001 – Computación I Clase 0</dc:title>
</cp:coreProperties>
</file>