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B45E-78B7-4E77-8962-BE9006519737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9972-5A94-49A3-819F-A792B095D94A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26A8-8812-4F38-A6C3-E443514D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054B-314A-4354-8236-4D50CE18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1070E-E141-4E75-B46E-92ECFA93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0F5FB-FAF3-4623-9FF4-543BD7CF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87C35-CD57-4BE0-980F-56486F3E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022A9-C851-40DE-85A9-CE0F0AD4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8C5FA-4827-46BA-92F6-6229E995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4B8D7-D355-468C-A293-78BC507B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87EBB-41E3-4E8F-A07B-96571266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95012-6E1F-44DC-84A0-F9BE81B9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F7998-044B-48BE-BF23-940DAB3C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3491C-B864-4D20-8E31-CF4347DCD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5EF-22AC-4E3A-AE06-9DF2169B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2A84B-AF23-4F65-92F8-9F73B7C3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304ED-DA42-458C-B132-64561F1B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D69C5-9A72-4368-B3A9-802C1E89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34B08-3CC3-4609-B159-1117C5BE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020A0-3226-47ED-8022-E6332FCB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3DF11-6235-497F-99D2-8A3EB785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D20E4-C360-4254-AA8D-A4DD080E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1B35C-348E-4056-AEED-C8A103A2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70586-BBD2-4804-A3F4-491EFE55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9BDC6-93DB-44A3-B163-A9CF222E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F6E5-3175-4CE7-B545-D5F7F4CB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5EAAC1-9510-4CF1-BCA1-B2186437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98A5A-6C04-43A4-8F30-D4F3B92E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EEA2B-A2CC-4203-BA79-49586EAF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C7DD5-C8A9-4834-86A4-AB72FFA3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FF9F0-B1CA-4326-92B3-EFE5B60D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04BC6-E4DF-4D7B-A0F8-B70167CB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875B3-BA93-4A05-A07C-07079287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210E9-F362-4EAB-B7C8-9CE31EFE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0A07D-7C95-442C-8B96-51BB2292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98266-78E3-45C2-962F-CEAC0ACA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11C8C-5541-42D6-B150-8675C84B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C3358-0B0F-4B45-9057-847704B9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D3A9B-1C74-4714-9EDA-474BFDC4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81BB0-1CA9-4633-902A-758C0FD9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4C2EB-A43C-44FB-BFCA-5FF22D3F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2E1ED3-8B8C-4C1F-84AB-8B87540A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F49A4-B3FE-49AF-A00E-7105DCE0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2D70F-FA95-41CD-8B6E-26D082D1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66F36-86D1-4501-ABF0-595CD31B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7D1CFF-06FF-4375-897E-3F75A5BA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664DE-BE3D-41CF-892E-C33A5F0B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55B5-02D2-4570-BFEF-293F535B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233C5-9F76-422A-9BE0-52AE5AC9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675EA-065F-40AB-A8B9-6C0067FE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0AB31-93A4-413B-B542-D488351F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A8878-B2D3-4E27-B3CD-2789A0E9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4D8CB-39CF-4EE0-B708-B1BBD292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810C-D2A8-4662-B968-60794BAB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4169-83E8-422D-B187-2C82F82B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BE79-3996-490F-8BF2-D53AAEB4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BDD4-DB5A-4D12-8F96-862F0594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C75B-943F-44A6-A923-2CDBD18F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0E6A-4D72-4D1E-A5FE-49BCBA3D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FEE1-73E0-44F2-88B0-A21AA41A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5452-07A5-4DC5-9C96-0096960B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624E-5634-4AA1-964C-1921B99F8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74E0-0653-4D18-B443-B4D1D2D6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059C-9000-46F4-82E9-78734140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C003A-13CC-45EB-AE9D-E333C52AE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33E48-5D5E-415E-BCCF-BB903E59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94E8C-C566-49BA-A3B9-D82833BF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AF1A1-ACB4-42F3-86A9-B0476CB8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2B25F-0492-4A15-A207-5F38F9A9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B458-E687-4C6F-B611-39B1C8E3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D383B-F2A1-485F-9E37-7C99843B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9CFE1-5E0D-4D32-BB5C-2A0D5AED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D3B59-F188-4D48-9551-74DAFE2E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811C9-5E24-48DE-A48F-3E6AAA9A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E4981-C7FF-4939-AEBB-95CB93C7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F1A93-BA17-4DEF-9E4B-001D448F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500E7-E826-42B9-9FA8-6DB64AB7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DB6C6-274D-4C16-8E31-CBD917404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DB411-9E2A-4E8C-AD00-51F6B072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B2B23-F4E5-4198-8966-0F6DBFCE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F23-D5E0-4603-A179-56586532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6517F-5BC8-40FA-B173-6B54FC12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C8914-0B90-4B88-8908-018991F2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F4F07-372E-4ED1-9420-8B353962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912DF-27FC-4404-A4C1-2FD46E33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9DC3C-3962-49C0-8FB9-2FC34324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E9AC1-C74C-4D16-B8D3-C8CEA97C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FAAAF-D4C4-4791-919F-A2D87D77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8E73E-2874-44B2-B484-260A01BD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E55EC-EE54-4617-AD82-433810ED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342C0-01E3-4AC8-8CF4-AFAE42B0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88FB-0EBD-4E92-A35F-673D0A34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16045-8521-4EE5-A3F1-9850965D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ECF01-3EF2-4FA6-91B5-A243244C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FADC1-538F-4EF8-B6A7-68681572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758C3-B65F-48C7-B171-63E3C74C8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8FE32-46C1-410D-9A3B-EF9FF475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ABEA7-72D2-4593-A140-5D73B08D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6A528-6E70-46C1-AE72-AB5CF762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2C0B0-7A8D-440E-B43D-A9AFC61A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D6D06-0AE4-4B1B-B9C8-F4F487BA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84CFE-FC8C-4A75-A14C-EB4CA678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BEEC-88DF-4EC0-8FF9-DCB7B52B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7EB2A-0D0E-49AE-BA49-37A5D4294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2404E-FBAD-4729-ADFC-8158E69C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DA253-1415-41DA-8218-1F2FF1B2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2B5CF-A5F7-4A50-BC59-84D8912C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85FF6-9DA7-445E-A466-DE496A37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28A0D-CA5C-41BF-B66A-A235AD14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56763-EDC1-4E92-9C0A-5B9AC528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64A6F-D8BB-49D4-BE64-992D0A7F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9A28D-DC0B-4A9C-B139-C285D5B5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ABFCA-4D4B-4CD2-B7F4-E22F4112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629D-BF73-4103-97D7-ECF96948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B623A-3D80-45D1-B400-F566C3A0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DBCD5-0121-42B4-BF5F-6211DD63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DE59B-E540-4949-BE7F-3CA8C81F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9FD4D-162E-4E0C-B2A5-2B5277DA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B5698-FF0A-42E0-92D6-CBD04F5F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F7A61-9CFC-4530-84CA-29432579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30035-E5C7-44B2-91E8-F4B0ECE8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F0148-3C8D-4C78-9352-8D8F4E50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88030-F49A-4CD0-8F01-D098F791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A3AC3-BAF8-4984-B4A9-1D734677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8A02-6303-43BA-B1E7-A8541916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13B38-232B-40FB-96F6-893D368B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7D3D9-AF53-427B-998F-D5F7549F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D5E04-928E-47B2-8B93-BD1AEF1E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5EA0E-E7D0-4214-B34D-F853D531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196EF-3A4A-4A74-9582-7F8BC46A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4BA49-48D8-4A4B-B722-2DE91714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BD2D4-36D9-4536-9474-BA610FED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2FAAC-11BB-43D6-9093-6990261A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420C1-4913-4FEE-A128-9B6A7F56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1D83C-0935-4EC4-9AE5-C7365A8A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E86-E712-4923-A0BA-B98D2FD2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EC29B-9C68-4879-9637-433A985F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1F1EA-103A-4192-9314-B6C506BC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279DF-89E5-468E-82DD-F5E83ED0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21561-4822-4F82-B39F-27C5A0CC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57F60-6E84-41FD-A574-3D491CE0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31680-81D3-4D9A-BF84-C077705B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62774-C1D4-4482-892C-855FF884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F1A02-59FC-4466-AA9B-8DAE8233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5D3DB-D088-4BAC-854A-324C60AA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091F7-A2D9-45A2-9D08-0B5E9C1A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A867-0B6C-4AFC-9316-63492E97E2A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00BC-C1EF-41E6-8414-6B36AA2C99C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4A0E-17B5-445D-B72A-5902CB3A547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C228-7CCF-45C0-8848-556E885888E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495F-BF18-48F8-A934-E3423D55733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E903-8681-4CA6-84C5-8701382EAAA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62BE-438B-4C1A-BBC7-D7DC70AFF0B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9880-F39C-4BB3-8F40-FE356C19525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607C-E82E-47BF-9E65-8B48CED8FEE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7AF8-A5D0-482B-AFCB-5A0C427381E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0C45-571B-4A50-9B2A-1920BC83BDF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94A7-C1A6-4209-B005-FB5A277CEF0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E9FB-4B38-45EB-A77A-3A9C289E557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6715-9058-4D85-B1A8-95EB7842CA9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5BC0-309E-40FC-A461-8DD4E546CC3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1CDD-EAE8-4654-BECB-9776A54E1D3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1E30-188E-4CB2-B547-3445F78AC68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8B02-2A8E-4EB2-B2CD-E348AB453F8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4693-736D-40F6-A077-21896A2411D9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3FC3-1FC3-42F9-A73C-608C9E24ECF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D21A-AA63-4DDC-83BA-480AB865B54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BD31-12F6-4827-AA49-EC52F910A29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D1AA-8B10-411A-9A98-4E04ECD8608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0C52-7009-4DF2-8BE0-EB73320600B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lase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28840" y="5000400"/>
            <a:ext cx="7407360" cy="157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Fecha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7 de Marzo de 200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Sección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rofesor:  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rés Muñoz Orden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E-Mail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munoz@dcc.uchile.c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ágina Web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http://ucursos.ing.uchile.cl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5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F327-4668-4D53-8267-95995BDA990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nalicemos nuestro código en detal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“Ingresa un Númer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unción (método) que escribe el parámetro (argumento) en la pantalla del computad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e en la pantalla la frase encerrada entre las comillas (“”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áxi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“…”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4EB4-99E1-4C03-8BD8-0FAFF5FBCCB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claración (reserva de memoria) de una vari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clara (define)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como una variable de tipo ente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áxi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&lt;tipo&gt; &lt;variable&gt;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tipo&gt;: tipo de dato a definir (int o double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int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: número entero sin punto decim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double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: número real (con punto decimal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variable&gt;: identificador que define el nombre de la variable (letra seguida de letras, dígitos o _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6107-A752-4810-BAEF-04C417685F1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Variable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Representación simbólica de un valor (número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Representa una ubicación (celda) en la memoria del computado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apacidad: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un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valor/número (del tipo declarado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iene la capacidad de variar (cambiar) su val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8" name="Picture 2" descr=""/>
          <p:cNvPicPr/>
          <p:nvPr/>
        </p:nvPicPr>
        <p:blipFill>
          <a:blip r:embed="rId2"/>
          <a:stretch/>
        </p:blipFill>
        <p:spPr>
          <a:xfrm>
            <a:off x="2428920" y="3500280"/>
            <a:ext cx="5357880" cy="3062520"/>
          </a:xfrm>
          <a:prstGeom prst="rect">
            <a:avLst/>
          </a:prstGeom>
          <a:ln w="0">
            <a:noFill/>
          </a:ln>
        </p:spPr>
      </p:pic>
      <p:sp>
        <p:nvSpPr>
          <p:cNvPr id="619" name="5 CuadroTexto"/>
          <p:cNvSpPr/>
          <p:nvPr/>
        </p:nvSpPr>
        <p:spPr>
          <a:xfrm>
            <a:off x="4214880" y="39290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6 Rectángulo"/>
          <p:cNvSpPr/>
          <p:nvPr/>
        </p:nvSpPr>
        <p:spPr>
          <a:xfrm>
            <a:off x="3571920" y="4572000"/>
            <a:ext cx="357120" cy="3571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8 Conector recto de flecha"/>
          <p:cNvCxnSpPr/>
          <p:nvPr/>
        </p:nvCxnSpPr>
        <p:spPr>
          <a:xfrm>
            <a:off x="2857680" y="4071600"/>
            <a:ext cx="714960" cy="5007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lg" type="stealth" w="lg"/>
          </a:ln>
        </p:spPr>
      </p:cxnSp>
      <p:sp>
        <p:nvSpPr>
          <p:cNvPr id="622" name="10 CuadroTexto"/>
          <p:cNvSpPr/>
          <p:nvPr/>
        </p:nvSpPr>
        <p:spPr>
          <a:xfrm>
            <a:off x="1928880" y="37861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11 Rectángulo"/>
          <p:cNvSpPr/>
          <p:nvPr/>
        </p:nvSpPr>
        <p:spPr>
          <a:xfrm>
            <a:off x="5000760" y="5143680"/>
            <a:ext cx="928440" cy="3571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4" name="12 Conector recto de flecha"/>
          <p:cNvCxnSpPr/>
          <p:nvPr/>
        </p:nvCxnSpPr>
        <p:spPr>
          <a:xfrm flipH="1" flipV="1">
            <a:off x="5928840" y="5500080"/>
            <a:ext cx="1286640" cy="2862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lg" type="stealth" w="lg"/>
          </a:ln>
        </p:spPr>
      </p:cxnSp>
      <p:sp>
        <p:nvSpPr>
          <p:cNvPr id="625" name="13 CuadroTexto"/>
          <p:cNvSpPr/>
          <p:nvPr/>
        </p:nvSpPr>
        <p:spPr>
          <a:xfrm>
            <a:off x="7215120" y="55720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1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508B-6ACE-4020-8D09-8B0723555B9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n = U.readInt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lnSpc>
                <a:spcPct val="9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353880" indent="-273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ectura de valor desde el teclad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53880" indent="-273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pera que el usuario ingrese un número y un EN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ee el número y lo entrega como resultado de la fun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l número se guarda (asigna a) la variable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53880" indent="-273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áxi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&lt;variable&gt; = &lt;U.readTipo&gt;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63800" indent="-167760">
              <a:lnSpc>
                <a:spcPct val="9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variable&gt;: identificador que define el nombre de la variabl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63800" indent="-167760">
              <a:lnSpc>
                <a:spcPct val="9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U.readTipo&gt;: método de lectura que indica el tipo de dato que le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lnSpc>
                <a:spcPct val="9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U.readInt() lee un enter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lnSpc>
                <a:spcPct val="9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U.readDouble() lee un re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FE9B-FC16-4DA2-9A5F-933F6E110C7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n+1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e el valor de n incrementado en 1 en la pantal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valúa la expresión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n + 1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con el valor de la variable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e su resultado en la pantal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áxi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&lt;expresion&gt;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expresion&gt;: expresión aritmética a evaluar para imprimi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72E0-0AA2-44BF-989F-841F710A6B4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Expresión Aritmética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as expresiones aritméticas funcionan igual como las conocemos y son de la for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[operando] [operador] [operando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Operadores soportado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Adición: +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ustracción: -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Multiplicación: *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División: /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Operand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Variables (por ejemplo </a:t>
            </a: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Constantes (por ejemplo </a:t>
            </a: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xpresiones con/sin paréntesis (por ejemplo </a:t>
            </a: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a*b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 a+(b/c)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Se resuelven con las mismas reglas aritméticas que ya conocemos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1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D6CB-6769-4DDC-B401-44572474A2E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ambién es posible abreviar las instrucciones para “usar” menos líneas de códig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int n = U.readInt(“Ingresa un Númer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 equivalente 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“Ingresa un Númer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int n = U.readInt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8BB3-8CC8-4407-A36D-34A951F9DAE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“Gano yo con el “ + (n+1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 equivalente 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“Gano yo con el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n+1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l operador “+” de convierte en un operador de concatenación cuando lo utilizamos con textos en comilla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l paréntesis obliga a evaluar primero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(n+1)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antes de concaternarlo, y por lo tanto, es una adición en vez de concatenación (entero + entero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941A-4092-415D-9263-D4D7E17B9AC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ln(“Gano yo con el “ + (n+1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uando se usa el “print” solo, el cursor se queda parado en la misma línea ya escrita, pero al final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 este método provocamos que al final del texto que se debe mostrar se posicione el cursor al comienzo de una siguiente línea (print line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D7FF-42B4-4D82-82C9-1F2E8C330B5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Escribir un programa que establezca el siguiente diálog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4" name="4 Rectángulo redondeado"/>
          <p:cNvSpPr/>
          <p:nvPr/>
        </p:nvSpPr>
        <p:spPr>
          <a:xfrm>
            <a:off x="1928880" y="2428920"/>
            <a:ext cx="6715080" cy="25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alcular perímetro y área de un círc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Radi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Perímetro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Área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5 CuadroTexto"/>
          <p:cNvSpPr/>
          <p:nvPr/>
        </p:nvSpPr>
        <p:spPr>
          <a:xfrm>
            <a:off x="1000080" y="6357960"/>
            <a:ext cx="81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Gill Sans MT"/>
              </a:rPr>
              <a:t>Hint</a:t>
            </a: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: Recuerda que para este problema es necesario saber las fórmulas del área y del perímetro de un círcu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F5BA-056A-4CBD-A517-725E23102B7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 esta clas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Trabajo Práctic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mplementos de la Cl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3A3A-D9FB-4647-8AE1-361562C8AFA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Algoritmo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“Calcular perímetro y área de un círculo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“Radio: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eer un número para el radio desde el teclad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“Perímetro =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el resultado de 2 multiplicado por número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y multiplicado por el radio leído (fórmula del perímetro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“Área =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el resultado del número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multiplicado por el radio leído elevado al cuadrado (fórmula del áre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0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07FD-6041-419D-9F65-044BD2F8DE0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Solución 1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Supongamos que el radio es enter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Calcular perímetro y área de un círculo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“Radi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int r = U.readInt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Perímetro = “ + (2*3.1416*r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Área = “ + (3.1416*r*r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ta es la forma con abreviaturas. Ojo que el número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que estamos utilizando es una aproximación, más que el número complet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D1B3-F575-4C11-A056-538844A1C3D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rrores típicos al momento de revisar una solución: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 seguir fielmente el diálogo propues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Olvidar escribir la línea de títul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con mayúsculas las instruccion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la línea de título con print en vez de printl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pregunta con println y no con pri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mbrar inadecuadamente la vari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la letra griega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3,1416 en vez de 3.141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quivocarse en el valor de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(por ejemplo 3.1461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Olvidar el operador de multiplicación (*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Usar notación inexistente para elevar al cuadrado (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o r^2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E4D4-22B5-42D0-8529-8253E193926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Solución 2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Supongamos que el radio es re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Calcular perímetro y área de un círculo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double r = U.readDouble(“Radi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Perímetro = “ + (2*Math.PI*r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Área = “ + (Math.PI*Math.pow(r,2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Además de agregar el cambio de tipo, incorporamos métodos y valores de la librería matemática Math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B7CD-8C8F-40AE-80E6-BCD0D40810F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Math.P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lor predefinido para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(3.14159265358979323846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 una constante real (valor inmodificabl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Math.pow(x, 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alcula y entrega una potencia de un valor o variable (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Gill Sans MT"/>
              </a:rPr>
              <a:t>y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unción es predefinida, es decir, viene con el lenguaje JAV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A1DC-404C-42C6-BCD2-0751D0C8D9F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abajo Prác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00"/>
                </a:solidFill>
                <a:uFillTx/>
                <a:latin typeface="Gill Sans MT"/>
              </a:rPr>
              <a:t>Problema 1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: Escribir un programa que establezca el siguiente diálogo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00"/>
                </a:solidFill>
                <a:uFillTx/>
                <a:latin typeface="Gill Sans MT"/>
              </a:rPr>
              <a:t>Problema 2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: Diseñar un diálogo y escribir un programa que calcule la velocidad de un móvil en km/h, dadas las distancia (en metros) y el tiempo (en segundos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00"/>
                </a:solidFill>
                <a:uFillTx/>
                <a:latin typeface="Gill Sans MT"/>
              </a:rPr>
              <a:t>Problema 3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: Inventar un problema, diseñar el diálogo y escribir el programa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4 Rectángulo redondeado"/>
          <p:cNvSpPr/>
          <p:nvPr/>
        </p:nvSpPr>
        <p:spPr>
          <a:xfrm>
            <a:off x="1928880" y="2143080"/>
            <a:ext cx="671508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alcular el perímetro y área de un rectá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Larg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Anch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Perímetro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Área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5 CuadroTexto"/>
          <p:cNvSpPr/>
          <p:nvPr/>
        </p:nvSpPr>
        <p:spPr>
          <a:xfrm>
            <a:off x="1000080" y="6357960"/>
            <a:ext cx="81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Gill Sans MT"/>
              </a:rPr>
              <a:t>Hint</a:t>
            </a: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: Recuerda que para este problema es necesario saber las fórmulas del área y del perímetro de un círcu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3813-5C1C-4465-A2A4-20E17C3D26A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lementos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grama Jalisco complet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lass Jalisco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void main(String[] args) throws IOException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Ingresa un Númer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 = U.readInt(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Gano yo con el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n+1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odo programa debe estar contenido en una clase y guardado en un archivo con el mismo nombre de la clase (Jalisco.jav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Además el código debe ser escrito dentro de un método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main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2AB2-7B8C-4500-B203-C5AC5DAFD0C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lementos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intaxis básica de una clase “ejecutable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lass </a:t>
            </a:r>
            <a:r>
              <a:rPr b="0" lang="es-ES" sz="1400" spc="-1" strike="noStrike">
                <a:solidFill>
                  <a:srgbClr val="ff0000"/>
                </a:solidFill>
                <a:latin typeface="Consolas"/>
              </a:rPr>
              <a:t>&lt;nombre_de_la_clase&gt;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{ // solo se debe reemplazar el nombr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A continuación viene el método principal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que la hace “ejecutable”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void main(String[] args) throws IOException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74960" indent="-1695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Consolas"/>
              </a:rPr>
              <a:t>&lt;programa&gt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aquí va todo el program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odos los programas (al menos al principio del curso) los definiremos de la misma forma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 puede agregar “comentarios” con los caracteres // lo que permite escribir una línea de comentario. Múltiples líneas requieren el // al principi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60C3-BC3C-409A-A8ED-1B341C1364C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lementos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La clase 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import java.io.*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class U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BufferedReader teclado = new BufferedReader(new InputStreamReader(System.in)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int readInt() throws IOException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return Integer.parseInt(teclado.readLine()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int readInt(String x) throws IOException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print(x); return Integer.parseInt(teclado.readLine()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int readDouble() throws IOException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return Integer.parseDouble(teclado.readLine()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int readDouble(String x) throws IOException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print(x); return Integer.parseDouble(teclado.readLine()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void print(String x)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ystem.out.print(x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void println(String x)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ystem.out.println(x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FF2F-D7BE-4E8A-A61A-8C41065F4ED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lementos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ara utilizar los programas, se debe primero guardar la clase U en un archivo U.java en el mismo directorio que tu progra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n la clase U están todas las funciones que se requieren para escribir en pantalla y leer desde el teclado número enteros (int) y reales (doubl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uedes utilizar la misma clase U.java escrita para muchos program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D68D-9347-4F95-A593-6E40D0B066F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blema: Instruir al computador para que establezca el siguiente diálogo con una persona (usuario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4 Rectángulo redondeado"/>
          <p:cNvSpPr/>
          <p:nvPr/>
        </p:nvSpPr>
        <p:spPr>
          <a:xfrm>
            <a:off x="2571840" y="3214800"/>
            <a:ext cx="5000400" cy="25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Ingresa un 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Gano yo con el 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6 Llamada con línea 2 (sin borde)"/>
          <p:cNvSpPr/>
          <p:nvPr/>
        </p:nvSpPr>
        <p:spPr>
          <a:xfrm>
            <a:off x="500040" y="4572000"/>
            <a:ext cx="1643040" cy="357120"/>
          </a:xfr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Comput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7 Llamada con línea 2 (sin borde)"/>
          <p:cNvSpPr/>
          <p:nvPr/>
        </p:nvSpPr>
        <p:spPr>
          <a:xfrm>
            <a:off x="6929280" y="2643120"/>
            <a:ext cx="1643400" cy="357120"/>
          </a:xfr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Perso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8 CuadroTexto"/>
          <p:cNvSpPr/>
          <p:nvPr/>
        </p:nvSpPr>
        <p:spPr>
          <a:xfrm>
            <a:off x="1000080" y="6357960"/>
            <a:ext cx="814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Gill Sans MT"/>
              </a:rPr>
              <a:t>Programa Jalisco</a:t>
            </a: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:  El computador jamás pierde porque siempre pone un número mayor en 1 al que ingresa el usu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443F-E67B-40C3-9845-D1C75CB3645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Fin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1428840" y="6215040"/>
            <a:ext cx="7407360" cy="365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20e04"/>
                </a:solidFill>
                <a:latin typeface="Gill Sans MT"/>
              </a:rPr>
              <a:t>El Presente es la única salida del Pasado y la única entrada al Futu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01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702" name="5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6CA2-2635-402C-B3E4-1803FD2C08D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Gill Sans MT"/>
              </a:rPr>
              <a:t>Algoritmo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 una serie de etapas (pasos, instrucciones) que debe realizar (ejecutar) el computador para resolver un problem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 MT"/>
              </a:rPr>
              <a:t>¿Cuáles son las etapas para resolver el problema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C962-17F0-49FB-88A1-4B7F4964B6E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lgoritmo que resuelve el problem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scribir (mostrar) en la pantalla del computador la frase: “Ingresa un Número:”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Leer (obtener) el número ingresado por la persona usando el teclad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scribir (mostrar) en la pantalla una línea con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 la frase “Gano yo con el” y el número (ingresado por la persona) más un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7D30-F0DB-4DB6-9D24-A8593B5BDA8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Gill Sans MT"/>
              </a:rPr>
              <a:t>Programa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 la traducción del algoritmo que resuelve el problema expresado en algún lenguaje de program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 MT"/>
              </a:rPr>
              <a:t>Usaremos como lenguaje de programació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 MT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36EE-73D7-43A9-A7E9-E225F8F63A6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grama que representa el algoritmo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“Ingresa un Númer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n = U.readInt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“Gano yo con el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n+1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4 Llamada con línea 2 (sin borde)"/>
          <p:cNvSpPr/>
          <p:nvPr/>
        </p:nvSpPr>
        <p:spPr>
          <a:xfrm>
            <a:off x="7072200" y="2286000"/>
            <a:ext cx="1643040" cy="357120"/>
          </a:xfr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Escribe en panta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5 Llamada con línea 2 (sin borde)"/>
          <p:cNvSpPr/>
          <p:nvPr/>
        </p:nvSpPr>
        <p:spPr>
          <a:xfrm>
            <a:off x="5072040" y="3071880"/>
            <a:ext cx="2214720" cy="357120"/>
          </a:xfr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Lee desde el tecl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CC89-3DA4-4A14-B645-0ABFF2F7A68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JAV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Lenguaje de programación creado en 1994 por SUN Microsystem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s un superconjunto de C (1971) y subconjunto de C++ (1983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s un lenguaje orientado a objeto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acilidades para modelar/simular problemas real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romueve la reutilización (herencia) de program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Lenguaje orientado a redes y web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acilidades para insertar programas en páginas web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mputación concurrente y distribuid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68DF-C34F-4864-9BAF-69E4AFBE3C6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JAV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(continuación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Inspirado en el idioma inglé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int, print, read,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Uso de Notación matemátic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xpresiones: n+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unciones: print(…), readInt(…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Instrucciones terminan con punto y coma (;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alabra con significados especiales (int, print, …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Uso de minúsculas (salvo en casos especial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 (interpretación) precis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Instrucciones con significado/efecto bien definid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D88B-CD86-4DB8-88FB-6C2C8116B5A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18:40Z</dcterms:created>
  <dc:creator>Andrés Muñoz Ordenes</dc:creator>
  <dc:description/>
  <dc:language>en-US</dc:language>
  <cp:lastModifiedBy>Andrés Muñoz Ordenes</cp:lastModifiedBy>
  <dcterms:modified xsi:type="dcterms:W3CDTF">2007-03-07T15:34:19Z</dcterms:modified>
  <cp:revision>57</cp:revision>
  <dc:subject/>
  <dc:title>CC1001 – Computación I Clase 0</dc:title>
</cp:coreProperties>
</file>