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2A7C-7B26-4842-B0BA-F5E7B7667FDE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DC07-10AD-40C9-AA05-CE3787F5134F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110-C3AD-410C-98B4-74B53736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79CF-86D0-4671-90F8-10854E24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315F01-C8EB-40B5-9B41-DD5048B2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40D74-BBE4-4325-893D-760C939E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7DEA7-D73F-4DC9-9FD9-32E36EA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E3DB2-190C-4686-8876-E039281D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C72C6-9B85-42AC-A25B-DF579E41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7FF6C-0CE6-4E53-B9BE-B7122F5E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47214-D982-452D-833B-F4CF0068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5CFB7-131F-46BF-8811-6939DB1F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42767-D0B3-4411-A5EB-1C7D42C4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3985C-7A2E-4A29-A395-4ECB1DB3D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A0F-0E62-48D0-A132-5773D6C3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F61C0-F983-4138-BE7C-7A56838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4180B-83B2-4273-844F-B341E1C8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E3CFA8-A6C8-4278-9D4D-7CBFD593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A95ED-B7C9-40DE-A440-5951DDAF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AF3D9-694C-4878-B45E-F4CFA178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F5F87-FB7A-4708-A0BB-6C238D1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533BE-B43F-4515-8DF9-1AC15F53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E3F3D-30D2-4B09-B57E-90A564AF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1A20-29B5-43A2-824D-345CDFDA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013AB-1502-4C2F-86D5-920CE362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4BA1-9E0A-4A2A-B422-02DFE89A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CB805-1266-47C1-AD0F-DED9B6182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FF00A-CBC8-4045-8684-01FF8F12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0255D-49C8-430A-857D-FF09B467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F3B669-E8EC-4C62-B73E-BD34A671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F4E92-9C41-4F1A-A97F-BAA4F7B7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9D8DF-3712-4DDF-A004-4583C4D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2DB5-D4E7-46D4-9570-A720CD70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6A85-A52D-4663-AD0C-F14F461F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245B7-6C4E-4987-9681-0E800E2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A2672-195F-4DA4-A589-41C0BD13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2E07-AA95-4191-ADAA-D6D2289E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98A8F-1D92-42DA-8547-B2682EB9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EABB7-5EF8-4E1D-BC62-354277A39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B69BE-34B2-4D08-BB68-E9557B1E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9BD32E-E32D-4CB4-A91C-3353CA7FD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BD69A1-EAF8-4F3C-B37C-B1B44168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E6B29-EE0A-482B-8EBC-C0CB73D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EFB85-0F54-4DE0-83E2-984BB9EB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ED2B9-0C52-4C94-878B-8FCE575A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ADBA6-5F83-42E4-82B0-65F4661F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05C1D-C508-4A9D-BD68-5814441E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B6F-0B8E-4A31-ACAE-3FA56E45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66C2D-D689-4C19-9C24-0754C471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C373A-2E9B-4FF6-BBA9-048FA5D8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4C622-56B2-4C13-A036-BFDDCDAA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83497-298E-4895-A40C-5C23AC7F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6CEE6-1975-4F47-9D5C-C9E51535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6A41-48CC-4C6E-95EA-7166E418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C6F4-A3BE-4DE4-9168-E8EC4C4C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02A5-0306-4A44-B4BE-5AACF05F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3B44-6D16-49B3-AA6B-86526936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7EC-278C-42F1-8D9B-36619788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3B5-2D8B-49EF-8412-BB704D68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A6CD-FF5B-4BE3-BA16-628DCE6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8AB8-23F2-4A35-BC2F-E8AC614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2EF9-BEE9-4363-A959-56092594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D16E-CF6E-40FF-9DD8-E15908E5D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658D-C17E-44DE-B4A3-DE7D49F6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F738-141B-4672-9C34-FC3FE8E1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A1DC2-2851-4D03-8B0B-DB3B9B53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D1A79-D07B-4280-9A9A-5CC99AA0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2072D-B7E7-4C60-8133-F8DF55F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BDD1-6310-474F-82C8-380E88D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9300-5762-4176-ACA0-6E29119B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6EB4-749E-4A2F-BFC3-1E3E8E4C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B6CD-B434-41EA-8497-E9CAA321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8096D-11C2-4760-B279-6737C832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B8ED-3394-4EBE-A854-BF77C44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E7F7-6CB1-455B-92B0-45902D85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C36BA-D8B5-4D4E-856F-0E8FD5A79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FFD4-F99D-4C83-A365-D1BA5A98F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FCD27-C7D4-466F-8075-D609FBFC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3657F-F4EF-4119-BB0C-ABEFF85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515A6-4E65-4A3A-8A2D-43AFCA2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5B0-F531-4D9D-82BD-03CAEC43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9A381-3651-41A7-BB5F-67C0E6DD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F3BC1-D637-463C-BB51-9B877B60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7B754-1FDB-4317-8D37-BAA2862CF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FE41-23E8-4054-A59A-1C2FC8E8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787AF-ECF4-432E-8AFC-E34059C1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D68B1-C402-4470-B2FC-E81E8D26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4AA1-BA6D-4810-8D10-24EF38C4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07B3-4EBB-42DE-999D-4AA2ABE6E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6B4D2-D0FC-46DC-924F-A553FBB4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26647-1F53-4031-AAA8-D9F94269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D062-0D14-4909-8339-A88B8D0F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4A6EC-C815-489B-AE6D-688A81AB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09B6-F791-4A8F-BE3E-F5FAC09E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0944-F0EE-482B-8671-A946FA957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927B2-0580-4464-98F9-64DA3E4A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87916-C8EC-4339-89EA-8AB94E34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F8DD-3DF6-4401-A269-EE576AC4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FA0C8-BDCF-418F-B67C-FB224431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920BF-F9BE-41E9-9E00-53544F7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03FA3-714F-4944-8B50-D2DF0651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3E9F3-BC8D-40BC-8E0B-E9272268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0E10-D959-47B3-8776-848D8F8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E0646-41D7-4FA7-8860-C02CCA7F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35AA-7FA7-42D2-B9F5-785021D7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A4E7-9C93-4E1A-9457-1B2B31DC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08053-57E9-4645-B1A4-A8CD4D07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662E9-73D5-4289-869C-7C3EDA1C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85B6-3902-4B67-8A3F-2ED16BD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78590-2782-41E3-901B-EA5967FA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D99FA-3DF7-4491-99B3-9D8C466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D7A16-60BD-4445-A350-2076A0E4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51540-6BE3-4421-A66E-265EAC1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4729-686E-4EED-B67D-55C4131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81779-6F65-4FD9-8E74-327F095E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3B1A2-7663-4AD2-8CC8-3B5FAF34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73F4-1820-4A96-84D7-F19D088F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ECB46-C779-406B-9CD7-816FE3BA1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0CB5D-08FF-4DCE-A120-73E2076D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BF81B-85FD-40DE-8E21-0CC4D5F3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77D9-2D83-4816-9F08-4F8709F4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A2212-44DA-4577-A501-712FEAF2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DACF2-4291-414E-BE19-98C39F72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9A14F-4BAF-4E5C-A149-6063200A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2AF5-C6CD-4A1B-A778-5CD026AA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DECBF-131F-45C1-979C-38602CA4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41DA-7113-489D-89EB-7ABB16E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E3CE9-6B58-4131-B5E9-76966BA7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46BD-8F14-43C1-B38D-335B39A0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5524D-EBFF-416C-8CD6-B01543172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E74D3-ECA8-4FC6-A961-A14F0E71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78C1B-26E8-4BE4-9F4C-465C402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99F8-0217-47CC-91A5-EC0CF574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982B8-68A2-44AE-AF8B-2B06933C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F22C9-36D5-4093-A0CF-914FD765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B1B9-12D8-4D3A-AAD7-0F504CFB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CA403-1AD6-47AA-ACC1-191AB7E1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F7231-40EA-4F21-BC8C-75A1A96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2EEB44-9C99-47CC-A397-4C28A31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48678-41CE-469A-AFED-2EE54DB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B1C72-2540-4661-BBF0-247C83BF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01429-55F2-4D5A-B0CE-5E7F103B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EB67-E1E0-41E0-90C1-3B101BBD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280BA9-DA60-49C0-9838-5C5BD1BA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26625-36D8-4A7D-B6BA-CD2F862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60006-B8C6-4410-99F8-973C1875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01E-DD9B-4459-B6AA-5487210C8A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E1F2-9365-4A64-ACF1-6B1A04739FC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354-9CE2-4070-8304-B5BF5309718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4959-6AF1-44EA-9325-E1432F0831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902-5910-47D9-B192-25CC25FFA33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6E6-C19D-4D62-A9C0-6D769E3272F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369F-B6DD-420D-83A6-5C0630ACAD7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9AF9-B528-469A-AD5C-405666DE1D3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67FA-F011-4B77-9F23-B3E62839E11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69F6-87E3-4934-84F6-AD54CBDA95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F53C-7B38-469F-B95C-1199212DD6D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88B1-AFDA-4388-8BCD-3ECA5443980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04E1-AD4C-4242-9AC8-3D71A13292B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CBC5-59AC-4854-9E9D-E7818438244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EAD-A0E8-4FD9-A45B-39B3FB2919B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C5D-AB3C-4D92-8772-134E3A4DDBF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951B-0DE2-4C14-8881-50253B670C5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C6B7-DF2E-4F5C-8E83-881F03815AA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B95D-5CEC-49BA-B1FC-5E8D7133AD1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AC8-DB47-47A7-AE7F-D1D437C763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84F1-FEEA-4B9E-996C-C9BE4CA5CDD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B2ED-F928-4B3C-97A2-4053A78939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959-29F1-4A37-868E-3A73545A3E7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6837-B7B5-4F71-8946-7B8A164575C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7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4D01-25E8-4370-948E-7FAEA0BEFD8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nalicemos nuestro código en detal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(método) que escribe el parámetro (argumento) en la pantalla del computad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n la pantalla la frase encerrada entre las comillas (“”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…”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9122-BE7F-4853-827B-1DDB2AC7DC0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ción (reserva de memoria) de un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clara (define)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mo una variable de tipo ente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tipo&gt; &lt;variable&gt;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dato a definir (int o double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int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entero sin punto decim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double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: número real (con punto decimal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 (letra seguida de letras, dígitos o _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682E-F12F-442C-A10C-0A45FD57E8C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Variable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ción simbólica de un valor (núme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Representa una ubicación (celda) en la memoria del computado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pacidad: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u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valor/número (del tipo declarad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iene la capacidad de variar (cambiar) su val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2428920" y="3500280"/>
            <a:ext cx="5357880" cy="3062520"/>
          </a:xfrm>
          <a:prstGeom prst="rect">
            <a:avLst/>
          </a:prstGeom>
          <a:ln w="0">
            <a:noFill/>
          </a:ln>
        </p:spPr>
      </p:pic>
      <p:sp>
        <p:nvSpPr>
          <p:cNvPr id="619" name="5 CuadroTexto"/>
          <p:cNvSpPr/>
          <p:nvPr/>
        </p:nvSpPr>
        <p:spPr>
          <a:xfrm>
            <a:off x="4214880" y="39290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6 Rectángulo"/>
          <p:cNvSpPr/>
          <p:nvPr/>
        </p:nvSpPr>
        <p:spPr>
          <a:xfrm>
            <a:off x="3571920" y="4572000"/>
            <a:ext cx="35712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8 Conector recto de flecha"/>
          <p:cNvCxnSpPr/>
          <p:nvPr/>
        </p:nvCxnSpPr>
        <p:spPr>
          <a:xfrm>
            <a:off x="2857680" y="4071600"/>
            <a:ext cx="714960" cy="50076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2" name="10 CuadroTexto"/>
          <p:cNvSpPr/>
          <p:nvPr/>
        </p:nvSpPr>
        <p:spPr>
          <a:xfrm>
            <a:off x="1928880" y="37861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11 Rectángulo"/>
          <p:cNvSpPr/>
          <p:nvPr/>
        </p:nvSpPr>
        <p:spPr>
          <a:xfrm>
            <a:off x="5000760" y="5143680"/>
            <a:ext cx="928440" cy="35712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4" name="12 Conector recto de flecha"/>
          <p:cNvCxnSpPr/>
          <p:nvPr/>
        </p:nvCxnSpPr>
        <p:spPr>
          <a:xfrm flipH="1" flipV="1">
            <a:off x="5928840" y="5500080"/>
            <a:ext cx="1286640" cy="286200"/>
          </a:xfrm>
          <a:prstGeom prst="straightConnector1">
            <a:avLst/>
          </a:prstGeom>
          <a:ln w="38160">
            <a:solidFill>
              <a:srgbClr val="3891a7"/>
            </a:solidFill>
            <a:miter/>
            <a:tailEnd len="lg" type="stealth" w="lg"/>
          </a:ln>
        </p:spPr>
      </p:cxnSp>
      <p:sp>
        <p:nvSpPr>
          <p:cNvPr id="625" name="13 CuadroTexto"/>
          <p:cNvSpPr/>
          <p:nvPr/>
        </p:nvSpPr>
        <p:spPr>
          <a:xfrm>
            <a:off x="7215120" y="55720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1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1900-C572-426C-9C0F-4990503451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 indent="-273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ctura de valor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pera que el usuario ingrese un número y un 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 el número y lo entrega como resultado de la fun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número se guarda (asigna a)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3880" indent="-27396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9320" indent="-2214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&lt;variable&gt; = &lt;U.readTipo&gt;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identificador que define el nombre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63800" indent="-167760">
              <a:lnSpc>
                <a:spcPct val="9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U.readTipo&gt;: método de lectura que indica el tipo de dato que le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Int() lee un enter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lnSpc>
                <a:spcPct val="9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U.readDouble() lee un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93ED-7E70-4DFE-A130-B0DE439ADED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el valor de n incrementado en 1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úa la expresión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 +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con el valor de la variable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e su resultado en la pantal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áxi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&lt;expresion&gt;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ritmética a evaluar para imprimi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B5E1-D883-4085-B1E2-898E3318474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Expresión Aritmétic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s expresiones aritméticas funcionan igual como las conocemos y son de la for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[operando] [operador] [operando]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dores soportado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Adición: +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Sustracción: 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ultiplicación: *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ivisión: /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perando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Variabl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stante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xpresiones con/sin paréntesis (por ejemplo 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a*b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1" lang="es-ES" sz="1600" spc="-1" strike="noStrike">
                <a:solidFill>
                  <a:srgbClr val="000000"/>
                </a:solidFill>
                <a:latin typeface="Gill Sans MT"/>
              </a:rPr>
              <a:t> a+(b/c)</a:t>
            </a: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Se resuelven con las mismas reglas aritméticas que ya conocemos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8" name="1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A278-7BFF-4A2D-AFEB-ADD3241F96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s posible abreviar las instrucciones para “usar” menos líneas de códi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int 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C805-49D0-44DB-A89D-99A1FB372A3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equivalente 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“Gano yo con el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operador “+” de convierte en un operador de concatenación cuando lo utilizamos con textos en comilla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l paréntesis obliga a evaluar primer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(n+1)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antes de concaternarlo, y por lo tanto, es una adición en vez de concatenación (entero + entero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350B-2027-46C1-A3C3-8C89367A515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Consolas"/>
              </a:rPr>
              <a:t>U.println(“Gano yo con el “ + (n+1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9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uando se usa el “print” solo, el cursor se queda parado en la misma línea ya escrita, pero al fin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65040" indent="-2826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n este método provocamos que al final del texto que se debe mostrar se posicione el cursor al comienzo de una siguiente línea (print line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CB13-6151-460D-AC76-EAF57A7C759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4 Rectángulo redondeado"/>
          <p:cNvSpPr/>
          <p:nvPr/>
        </p:nvSpPr>
        <p:spPr>
          <a:xfrm>
            <a:off x="1928880" y="2428920"/>
            <a:ext cx="671508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perímetro y área de un cír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Radi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FE16-34AD-408E-BC35-1F616CCA017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7B1B-D0DF-40DA-ADBD-F509CA7C77C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Calcular perímetro y área de un círculo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Radio: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eer un número para el radio desde el tecla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Perímetro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 2 multiplicado por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y multiplicado por el radio leído (fórmula del perímetro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“Área =”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en pantalla el resultado d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 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multiplicado por el radio leído elevado al cuadrado (fórmula del áre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0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3B97-92ED-42F7-B435-6F74BE5D1F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enter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r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3.1416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3.1416*r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ta es la forma con abreviaturas. Ojo que el número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que estamos utilizando es una aproximación, más que el número complet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1F4C-3BAE-4858-8CD4-F0A5DF69365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rrores típicos al momento de revisar una solución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 seguir fielmente el diálogo propuest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scribir la línea de títul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con mayúsculas las instruccio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ínea de título con print en vez de printl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pregunta con println y no con pri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Nombrar inadecuadamente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la letra grieg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cribir 3,1416 en vez de 3.141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quivocarse en el valor de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por ejemplo 3.146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Olvidar el operador de multiplicación (*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ar notación inexistente para elevar al cuadrado (r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o r^2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573B-C38B-4D7F-AE66-C9832C5F04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Supongamos que el radio es r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Calcular perímetro y área de un círculo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double r = U.readDouble(“Radi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Perímetro = “ + (2*Math.PI*r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ln(“Área = “ + (Math.PI*Math.pow(r,2)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de agregar el cambio de tipo, incorporamos métodos y valores de la librería matemática Math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8527-FA69-465B-AD77-705119D9EBE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Valor predefinido para </a:t>
            </a:r>
            <a:r>
              <a:rPr b="0" lang="el-GR" sz="2000" spc="-1" strike="noStrike">
                <a:solidFill>
                  <a:srgbClr val="000000"/>
                </a:solidFill>
                <a:latin typeface="Corbel"/>
              </a:rPr>
              <a:t>π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(3.14159265358979323846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s una constante real (valor inmodificabl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Math.pow(x, 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alcula y entrega una potencia de un valor o variable (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Gill Sans MT"/>
              </a:rPr>
              <a:t>y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ón es predefinida, es decir, viene con el lenguaje JAV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D555-EB55-4590-A117-677C313CED2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 u="sng">
                <a:solidFill>
                  <a:srgbClr val="000000"/>
                </a:solidFill>
                <a:uFillTx/>
                <a:latin typeface="Gill Sans MT"/>
              </a:rPr>
              <a:t>Problema 3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: Inventar un problema, diseñar el diálogo y escribir el programa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4 Rectángulo redondeado"/>
          <p:cNvSpPr/>
          <p:nvPr/>
        </p:nvSpPr>
        <p:spPr>
          <a:xfrm>
            <a:off x="1928880" y="21430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5 CuadroTexto"/>
          <p:cNvSpPr/>
          <p:nvPr/>
        </p:nvSpPr>
        <p:spPr>
          <a:xfrm>
            <a:off x="1000080" y="6357960"/>
            <a:ext cx="814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Hint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Recuerda que para este problema es necesario saber las fórmulas del área y del perímetro de un círcu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BCA0-5227-477A-8472-B0B7A78AA1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Jalisco comple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Jalisco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 programa debe estar contenido en una clase y guardado en un archivo con el mismo nombre de la clase (Jalisco.jav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demás el código debe ser escrito dentro de un método </a:t>
            </a:r>
            <a:r>
              <a:rPr b="1" lang="es-ES" sz="2000" spc="-1" strike="noStrike">
                <a:solidFill>
                  <a:srgbClr val="000000"/>
                </a:solidFill>
                <a:latin typeface="Gill Sans MT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EE6E-07F7-4B64-818D-EF20E91803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intaxis básica de una clase “ejecutable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class </a:t>
            </a: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nombre_de_la_clase&gt; 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{ // solo se debe reemplazar el nombr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 continuación viene el método principal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que la hace “ejecutable”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static public void main(String[] args) throws IOException {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74960" indent="-1695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Consolas"/>
              </a:rPr>
              <a:t>&lt;programa&gt;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aquí va todo el program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867960" indent="-22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Todos los programas (al menos al principio del curso) los definiremos de la misma forma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6760" indent="-2314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 puede agregar “comentarios” con los caracteres // lo que permite escribir una línea de comentario. Múltiples líneas requieren el // al principi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E7F2-FC67-49AD-9A8A-0A81106B70C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 clase 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import java.io.*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class U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BufferedReader teclado = new BufferedReader(new InputStreamReader(System.in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Int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Int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int readDouble(String x) throws IOException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print(x); return Integer.parseDouble(teclado.readLine()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tatic public void println(String x) {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System.out.println(x)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398B-BF2D-40F7-80BA-C3E9F819907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lementos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ara utilizar los programas, se debe primero guardar la clase U en un archivo U.java en el mismo directorio que tu program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la clase U están todas las funciones que se requieren para escribir en pantalla y leer desde el teclado número enteros (int) y reales (doub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uedes utilizar la misma clase U.java escrita para muchos program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9B49-E95F-4F69-9A6C-E59693E272A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Instruir al computador para que establezca el siguiente diálogo con una persona (usuario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Rectángulo redondeado"/>
          <p:cNvSpPr/>
          <p:nvPr/>
        </p:nvSpPr>
        <p:spPr>
          <a:xfrm>
            <a:off x="2571840" y="3214800"/>
            <a:ext cx="5000400" cy="2500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gresa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Gano yo con el 1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6 Llamada con línea 2 (sin borde)"/>
          <p:cNvSpPr/>
          <p:nvPr/>
        </p:nvSpPr>
        <p:spPr>
          <a:xfrm>
            <a:off x="500040" y="4572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Comput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7 Llamada con línea 2 (sin borde)"/>
          <p:cNvSpPr/>
          <p:nvPr/>
        </p:nvSpPr>
        <p:spPr>
          <a:xfrm>
            <a:off x="6929280" y="2643120"/>
            <a:ext cx="164340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Perso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8 CuadroTexto"/>
          <p:cNvSpPr/>
          <p:nvPr/>
        </p:nvSpPr>
        <p:spPr>
          <a:xfrm>
            <a:off x="1000080" y="6357960"/>
            <a:ext cx="814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Gill Sans MT"/>
              </a:rPr>
              <a:t>Programa Jalisco</a:t>
            </a:r>
            <a:r>
              <a:rPr b="0" lang="es-ES" sz="1200" spc="-1" strike="noStrike">
                <a:solidFill>
                  <a:srgbClr val="000000"/>
                </a:solidFill>
                <a:latin typeface="Gill Sans MT"/>
              </a:rPr>
              <a:t>:  El computador jamás pierde porque siempre pone un número mayor en 1 al que ingresa el usu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E99-F38E-4E25-A459-4F0B6A993C7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01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702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019-FFA4-416D-8B05-543921F7B98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Algoritmo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una serie de etapas (pasos, instrucciones) que debe realizar (ejecutar) el computador para resolver un problem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¿Cuáles son las etapas para resolver el problema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4558-8E31-427A-8542-94BC34F5D14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lgoritmo que resuelve el problem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del computador la frase: “Ingresa un Número:”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er (obtener) el número ingresado por la persona usando el teclad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cribir (mostrar) en la pantalla una línea con</a:t>
            </a: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la frase “Gano yo con el” y el número (ingresado por la persona) más un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13E-A2D6-4E6F-A7B7-7BC3EE05660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Gill Sans MT"/>
              </a:rPr>
              <a:t>Programa</a:t>
            </a: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la traducción del algoritmo que resuelve el problema expresado en algún lenguaje de program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Gill Sans MT"/>
              </a:rPr>
              <a:t>Usaremos como lenguaje de programación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Gill Sans MT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8CDD-FAC6-43AC-B6E5-7BCBCD7AE9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grama que representa el algoritmo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Ingresa un Número: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int n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n = U.readInt(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“Gano yo con el “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U.print(n+1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4 Llamada con línea 2 (sin borde)"/>
          <p:cNvSpPr/>
          <p:nvPr/>
        </p:nvSpPr>
        <p:spPr>
          <a:xfrm>
            <a:off x="7072200" y="2286000"/>
            <a:ext cx="164304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Escribe en panta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5 Llamada con línea 2 (sin borde)"/>
          <p:cNvSpPr/>
          <p:nvPr/>
        </p:nvSpPr>
        <p:spPr>
          <a:xfrm>
            <a:off x="5072040" y="3071880"/>
            <a:ext cx="2214720" cy="357120"/>
          </a:xfr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Gill Sans MT"/>
              </a:rPr>
              <a:t>Lee desde el tec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1F0C-828C-4259-B697-3535800104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de programación creado en 1994 por SUN Microsyste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superconjunto de C (1971) y subconjunto de C++ (1983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s un lenguaje orientado a objet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modelar/simular problemas re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romueve la reutilización (herencia) de programa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Lenguaje orientado a redes y web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acilidades para insertar programas en páginas we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Computación concurrente y distribuid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E25-2544-419E-8DBF-42DFD2330F1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JAV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inuació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spirado en el idioma inglé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t, print, read,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Uso de Notación matemá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xpresiones: n+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Funciones: print(…), readInt(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terminan con punto y coma (;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Palabra con significados especiales (int, print, …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Uso de minúsculas (salvo en casos especial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 (interpretación) precis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Instrucciones con significado/efecto bien definid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B19-21E9-47F7-88CC-99F16808910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7T15:34:19Z</dcterms:modified>
  <cp:revision>57</cp:revision>
  <dc:subject/>
  <dc:title>CC1001 – Computación I Clase 0</dc:title>
</cp:coreProperties>
</file>