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B68D-5C10-4A0D-A6E6-27ACAF43BDF0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9F9A-42EA-478F-804A-1B45EA833870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0AC-FB3A-4922-BF92-8C90D764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F23-7BA1-4D50-B4B0-8D504B2C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ACDE3-83B7-4F5E-A42E-F152CC2F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987E9-5FFA-4771-AEE8-030B6E5C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82AFE-ECDF-4B8C-9092-D7D81B89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24BFC-ACA1-4C12-A2E6-BA5EABC6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68B9C-A7D5-4A01-BBE4-3EB1057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F35E4-91E4-4864-A159-E16BC1B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4C274-406D-4041-90DD-F74E20E1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AC72A-C893-4312-B0A6-0F6360B0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B8696-E03E-4646-A0E4-9ACCED45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D0466-7CCB-40C0-B2E3-AA033345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674-5B26-4AC2-AF2F-23FC698B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AD1C4-3529-4682-AC38-9F92B90F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A9B26-9764-467B-9228-E10218C6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C2A61-9760-44EF-A4B5-832F5E80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0E86A-0096-4DBC-9961-E0544C92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36627-98D7-409F-8C7B-F6656423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BD6CB-DF00-4E44-B12E-8F141880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12F9D-1619-4BE7-A44E-15E43B14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17ADD-4207-49D1-9B38-F4E21388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D75DD-AD66-49BE-A0F2-ED92A148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E2A29-101C-4545-8868-2816C449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F3F-3FF0-4D9D-B24D-44540118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037D9-9A74-422A-8A5E-3ED77D41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74A80-4DEF-4EB2-B29C-490F9708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69C7B-AAEF-4ECD-BA6B-751DE92E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58002-C32B-4BC8-802E-C50FF397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72F65-A618-42EC-B4EA-82B6688D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2C749-F6AB-48A4-8F2A-AE85BC93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5D896-DF54-4FEE-8AB0-80408EDF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DA1D5-0838-4CAA-BD46-739236E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7F563-CF90-4AE5-B057-C77D1659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079F9-0DB9-4696-B6A8-F43F1285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8563-F3BE-4762-B7AB-0265F881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8D4A8-5993-4D41-A047-844D9140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9FFC0-7034-440C-AA42-BDBD57C3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C47EF-2B6D-47BD-9D60-1A05FD39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C6EAF-EFFA-4CA3-BC05-B5711E4D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F0833-38DA-4424-8627-3F15590B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63625-058E-4BD8-AD9C-90F0AE42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B0144-E2FC-4B11-9F5B-8D865AC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179CC-F924-40EB-A10C-0BF0EBD9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EBA37-6726-4256-AC6D-7C1BFFB3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823C0-E760-4997-9B96-40A3931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B1AC-14ED-41CA-A016-3C4861DA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866A2-1A57-4A60-8E35-6D70F980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47D78-3F58-4331-873C-8E50FC2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CCB71-797C-4C83-953B-2FCBEEE2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298A3-7BDA-4D0C-B839-5DFF0DDE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F6C59-01CB-421E-923C-7C4DAE12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7105-BDD9-4560-B01F-8AA6F549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C34F-D3A2-44DF-8275-9C5CCD3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780D-EA0C-4AB6-9CE3-40FC30A2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47FC-415F-46D1-B04A-EE634DF8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F9CB-8583-4EED-A00B-103FBDCF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9B6-2311-4C8B-AB15-AC5D0BA4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B483-A419-4166-803A-373ED53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7503-FCB8-4116-86B4-BD0C34D3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9D5-A0CE-4A6D-A272-8F1A9C0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C796-1DE8-41BC-8FDB-6991E63B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F8BB-467E-489F-9A38-556914E5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B81C1-2B2E-433C-807E-2D5CCA32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DB52-C354-4FF1-B25B-73F2D358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39FC-3FE7-41AC-8002-5A1BDC49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7524-950C-427C-842B-CA8548B6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53BC4-07FA-4A2C-A034-4D42E9F5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14F-6819-48B4-B2B4-F8768884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4E1C-B77B-4D74-A2F5-A846CEC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AE1C-66BE-40B1-A311-12B2C4E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FBF8-B840-407A-B89C-CCB77447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A9CA-2AB8-416A-A4E7-4223E475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9AB8-3394-4A24-BBCB-3DC63D04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672CF-13BD-474B-986A-C760233A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E565-E028-4674-9081-70C4D758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A3E87-C66D-473B-A03F-5BB0AA7D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C807-6AC2-4722-B6E7-41633B2D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1C46-8D81-4B83-BADD-3DD01487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2A4-448A-4069-86FF-FEACEC2E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DC4C6-6898-439B-8237-C67A96DC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402D-F9C0-4BF1-BAD5-B45553D4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8F314-A383-47D2-A385-F164F66E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5268-D832-4E67-BA65-382B023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7BE02-D512-4BA6-91D1-1F08BC19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0F8C-9039-499D-93CC-350ADFCC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F9BD-3B6B-4BB9-BC29-16414F79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3F2A-B2DE-4E59-8978-2C77DCAF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3D628-29D5-47DD-AE72-AAFB24E2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FDBCD-D260-4CC9-BBF1-5EAFB3BA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983-D183-4277-B105-D20900C4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27FE-F7ED-42E8-92BD-8BF0D5B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1CB70-562C-44B9-AFFE-4486A293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CC148-5291-4D38-91BD-5488632F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7E7C-5FE7-4B67-9859-9ACF3DC1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A2E0D-634A-4A2F-9313-5C61503D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1886-C903-45A4-9A06-87D7B862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1471-CA18-45EA-AF2B-8882E57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AE3F0-2FDA-446E-9719-F0535DF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6ECB8-E76B-4A00-A7FF-56F59CA8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DE431-A0EE-4139-9F53-4C545DD9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A69-AA86-44C8-89D0-BA5B0D64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40D0D-F058-4744-83F6-F2F7FCD6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6080D-7296-408E-AE9D-98E66296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A325-0EED-41A9-8E49-359750A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93F1-3913-43B2-B8AF-3243A321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35DBF-F6E5-46AE-97DF-06E65CED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89103-2FA0-494D-8280-D30FED7D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3DE32-CA1F-447F-9BE8-CC1379B0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7F5D-286D-42A1-B5AD-EB3B0C8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5E89-6268-40F6-BF57-5834C286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9B81B-4E17-4C86-B757-110E621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82E-58ED-4D65-8D2A-C371BDAA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15FEF-0FF5-4C63-8066-034D6B3C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250E9-20D6-4B11-9F0B-2D765A3C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386EC-FB2F-4CEF-867D-5D4D3F73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DAF9D-E733-4D85-A637-FD248A1C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79AD5-1DB5-4594-907A-060F8C97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8A8F1-8E60-4337-8AFC-52FD64E4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78A41-B8D2-4B09-B1C5-4531A73D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5A4C-E0F2-4C66-BF80-20C03157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4C8E8-4978-413D-BEA7-48CF051A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29C60-E4A5-48EB-899B-598A39D6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62A-F4B5-483F-B257-E35884CE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704EA-75B5-450C-BB42-5519BF5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EE1B-BFC2-4A0D-8D9E-50D44CF4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8C93D-4A68-462E-985A-3EBAEFE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2CF50-0CD0-4093-BE32-A34E716B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54D3-CBCD-4240-B2D8-8014184C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8C28E-43BB-49C7-A7BC-E5341C0D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B60EC-366E-414F-8E62-6F24656B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7F5B-7CCC-4766-A379-65652A05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A55CC-A138-42B2-A6CC-951C30BF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ABB3F-5CF3-4248-8CD4-8F8DD36B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885-C1D6-48BC-8CBF-379DB4A2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CE1F3-44F3-4222-91DC-397FD52E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0FCB6-6418-43C5-949F-A13AD474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E827-3FB2-4D3F-BD41-E1A111E9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63016-AFA8-4D4F-8402-DD209443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6FAF2-0B38-4C4E-923B-37D4FBD1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1CC47-ED9C-4D31-89FB-07D4156A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56603-F50F-401D-8D05-18A1F557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51854-FA86-45E5-9717-D188B4DA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A2CE7-988C-45DB-8951-7268A084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AD4C8-B2CC-49A1-8AB1-5B1A202F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051B-2F25-4054-A5DD-2A0AE0C9C2D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6AEE-1B59-4BEC-864D-FCB537495A0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3190-0900-4F8A-8B22-A992C894450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B8F5-51E9-491E-89B6-E771698CDB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E668-933F-483D-890E-BB7EF782ADD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5E2B-1A33-4254-8A16-BB71C520670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E7B5-73A3-45CF-A431-3C16FD29CD2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0C92-F65D-4BD9-9A21-6579C0A8D95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6F25-41D7-4624-A9D0-032212034D1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0B02-45BD-4187-93A7-B56AA0EEB39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4177-6D85-453A-8E09-BD0C984FCE9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7F3D-D069-4CA2-AADD-1C6682C01AE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E085-2F65-4BD7-9853-2518F722428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4A98-92C3-4B0B-BBC0-8C0E6D7DF8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FA8F-51A9-417F-A1CE-2EA3969673C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728B-8CF7-4512-911A-53355E6A415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7B8E-A57D-4313-BA6E-3246B4E93C0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B076-A0FE-4824-9A14-103620E89F4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5CCC-1826-47A7-BA54-4831527BE87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9B2-5574-491B-B5BB-94BC3E2830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D334-9E6A-4E64-8089-330AB57A138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F29D-D0AA-4C5B-B9A9-BA129E7E930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711B-A035-471F-B3FF-25C01C18579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1243-38F3-4891-99F4-9FA7E776562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5FBD-E329-4ABE-9297-905AA990293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cemos nuestro código en detal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(método) que escribe el parámetro (argumento) en la pantalla del computad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n la pantalla la frase encerrada entre las comillas (“”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…”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4C13-9F45-4BE0-A3A3-19D908A918B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ción (reserva de memoria) de un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 (define)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mo una variable de tipo ente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tipo&gt; &lt;variable&gt;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dato a definir (int o doubl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entero sin punto decim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double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real (con punto decimal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 (letra seguida de letras, dígitos o _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3B93-33CF-4F2D-B89F-B85E5DC495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Variable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 una ubicación (celda) en la memoria del computad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pacidad: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valor/número (del tipo declarad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iene la capacidad de variar (cambiar) su val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2428920" y="3500280"/>
            <a:ext cx="5357880" cy="3062520"/>
          </a:xfrm>
          <a:prstGeom prst="rect">
            <a:avLst/>
          </a:prstGeom>
          <a:ln w="0">
            <a:noFill/>
          </a:ln>
        </p:spPr>
      </p:pic>
      <p:sp>
        <p:nvSpPr>
          <p:cNvPr id="619" name="5 CuadroTexto"/>
          <p:cNvSpPr/>
          <p:nvPr/>
        </p:nvSpPr>
        <p:spPr>
          <a:xfrm>
            <a:off x="4214880" y="39290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6 Rectángulo"/>
          <p:cNvSpPr/>
          <p:nvPr/>
        </p:nvSpPr>
        <p:spPr>
          <a:xfrm>
            <a:off x="3571920" y="4572000"/>
            <a:ext cx="35712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8 Conector recto de flecha"/>
          <p:cNvCxnSpPr/>
          <p:nvPr/>
        </p:nvCxnSpPr>
        <p:spPr>
          <a:xfrm>
            <a:off x="2857680" y="4071600"/>
            <a:ext cx="714960" cy="5007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2" name="10 CuadroTexto"/>
          <p:cNvSpPr/>
          <p:nvPr/>
        </p:nvSpPr>
        <p:spPr>
          <a:xfrm>
            <a:off x="1928880" y="3786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11 Rectángulo"/>
          <p:cNvSpPr/>
          <p:nvPr/>
        </p:nvSpPr>
        <p:spPr>
          <a:xfrm>
            <a:off x="5000760" y="5143680"/>
            <a:ext cx="92844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12 Conector recto de flecha"/>
          <p:cNvCxnSpPr/>
          <p:nvPr/>
        </p:nvCxnSpPr>
        <p:spPr>
          <a:xfrm flipH="1" flipV="1">
            <a:off x="5928840" y="5500080"/>
            <a:ext cx="1286640" cy="2862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5" name="13 CuadroTexto"/>
          <p:cNvSpPr/>
          <p:nvPr/>
        </p:nvSpPr>
        <p:spPr>
          <a:xfrm>
            <a:off x="7215120" y="5572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1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192C-1CE6-4F71-A67F-AC3EE13995E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ctura de valor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pera que el usuario ingrese un número y un EN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 el número y lo entrega como resultado de la fun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número se guarda (asigna a)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variable&gt; = &lt;U.readTipo&gt;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U.readTipo&gt;: método de lectura que indica el tipo de dato que le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Int() lee un enter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Double() lee un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386-9E53-4D78-9038-ECB9C103263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l valor de n incrementado en 1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úa la expresió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 +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n el valor de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su resultado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&lt;expresion&gt;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ritmética a evaluar para imprimi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F0D3-025E-4A1B-B606-B53785120E2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Expresión Aritmétic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s expresiones aritméticas funcionan igual como las conocemos y son de la for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[operando] [operador] [operando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dores soportado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dición: 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ustracción: 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ultiplicación: *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ivisión: /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nd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Variabl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stant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xpresiones con/sin paréntesi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a*b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 a+(b/c)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Se resuelven con las mismas reglas aritméticas que ya conocemo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1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D93A-3697-4D61-B14D-35E73D4A883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s posible abreviar las instrucciones para “usar” menos líneas de códi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EB90-82F8-428F-BBB8-3FDD341B7E3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operador “+” de convierte en un operador de concatenación cuando lo utilizamos con textos en comill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paréntesis obliga a evaluar primer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(n+1)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antes de concaternarlo, y por lo tanto, es una adición en vez de concatenación (entero + entero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0B78-7177-4A98-A12E-767AFF47F5C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ln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uando se usa el “print” solo, el cursor se queda parado en la misma línea ya escrita, pero al fin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 este método provocamos que al final del texto que se debe mostrar se posicione el cursor al comienzo de una siguiente línea (print line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AA51-EB71-46ED-8EDC-71882763CD9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4 Rectángulo redondeado"/>
          <p:cNvSpPr/>
          <p:nvPr/>
        </p:nvSpPr>
        <p:spPr>
          <a:xfrm>
            <a:off x="1928880" y="2428920"/>
            <a:ext cx="671508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perímetro y área de un cír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Radi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C38-F38B-437B-B9B9-04096AEBDD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F15B-91EB-46DB-9394-1F191FE80E8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Calcular perímetro y área de un círculo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Radio: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r un número para el radio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Perímetro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 2 multiplicado por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y multiplicado por el radio leído (fórmula del perímet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Área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ultiplicado por el radio leído elevado al cuadrado (fórmula del áre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912B-5609-4B63-B8DF-C206C7D616C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ente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r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3.1416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3.1416*r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ta es la forma con abreviaturas. Ojo que 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que estamos utilizando es una aproximación, más que el número complet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BCF2-7450-4E2F-80F7-C7DEE8CD5C2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rrores típicos al momento de revisar una solució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 seguir fielmente el diálogo propues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scribir la línea de títu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con mayúsculas las instrucc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ínea de título con print en vez de printl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pregunta con println y no con pri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mbrar inadecuadamente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etra grieg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3,1416 en vez de 3.14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quivocarse en el valor de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por ejemplo 3.146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l operador de multiplicación (*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ar notación inexistente para elevar al cuadrado (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o r^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07F0-3356-4392-A404-9D3D4605098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re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double r = U.readDouble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Math.PI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Math.PI*Math.pow(r,2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de agregar el cambio de tipo, incorporamos métodos y valores de la librería matemática Math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4D98-B021-4D46-982A-077ECEDBD44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lor predefinido par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3.14159265358979323846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una constante real (valor inmodific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ow(x, 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lcula y entrega una potencia de un valor o variable (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es predefinida, es decir, viene con el lenguaje JA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AFA6-D3DB-40C0-A002-3F315BBA0B3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3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Inventar un problema, diseñar el diálogo y escribir el programa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4 Rectángulo redondeado"/>
          <p:cNvSpPr/>
          <p:nvPr/>
        </p:nvSpPr>
        <p:spPr>
          <a:xfrm>
            <a:off x="1928880" y="21430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20DE-36EF-4F04-A092-B5C169CC3E0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Jalisco comple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Jalisco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 programa debe estar contenido en una clase y guardado en un archivo con el mismo nombre de la clase (Jalisco.jav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el código debe ser escrito dentro de un métod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70A2-6841-4939-B157-288F4953AE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intaxis básica de una clase “ejecutable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</a:t>
            </a: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nombre_de_la_clase&gt;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{ // solo se debe reemplazar el nombr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 continuación viene el método principal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que la hace “ejecutable”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programa&gt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quí va todo el program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s los programas (al menos al principio del curso) los definiremos de la misma form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 puede agregar “comentarios” con los caracteres // lo que permite escribir una línea de comentario. Múltiples líneas requieren el // al principi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F833-2A2A-4EAB-AB78-E51C5F45A1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 clase 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class U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BufferedReader teclado = new BufferedReader(new InputStreamReader(System.in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ln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ln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3264-51C7-4677-B60E-8911A52FB10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ara utilizar los programas, se debe primero guardar la clase U en un archivo U.java en el mismo directorio que tu progr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la clase U están todas las funciones que se requieren para escribir en pantalla y leer desde el teclado número enteros (int) y reales (doub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uedes utilizar la misma clase U.java escrita para muchos program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8FD1-0523-45C6-8BA4-3A31851DF14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Instruir al computador para que establezca el siguiente diálogo con una persona (usuario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Rectángulo redondeado"/>
          <p:cNvSpPr/>
          <p:nvPr/>
        </p:nvSpPr>
        <p:spPr>
          <a:xfrm>
            <a:off x="2571840" y="3214800"/>
            <a:ext cx="500040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a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Gano yo con el 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6 Llamada con línea 2 (sin borde)"/>
          <p:cNvSpPr/>
          <p:nvPr/>
        </p:nvSpPr>
        <p:spPr>
          <a:xfrm>
            <a:off x="500040" y="4572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7 Llamada con línea 2 (sin borde)"/>
          <p:cNvSpPr/>
          <p:nvPr/>
        </p:nvSpPr>
        <p:spPr>
          <a:xfrm>
            <a:off x="6929280" y="2643120"/>
            <a:ext cx="164340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Pers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8 CuadroTexto"/>
          <p:cNvSpPr/>
          <p:nvPr/>
        </p:nvSpPr>
        <p:spPr>
          <a:xfrm>
            <a:off x="1000080" y="6357960"/>
            <a:ext cx="814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Programa Jalisco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 El computador jamás pierde porque siempre pone un número mayor en 1 al que ingresa el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140E-EC20-4AEE-91C9-8E38BA6915D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702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A9A-8D96-4A9E-87CD-416AA92C5BD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una serie de etapas (pasos, instrucciones) que debe realizar (ejecutar) el computador para resolver un problem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¿Cuáles son las etapas para resolver el problema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18C4-053D-44E2-866B-EB824C59DF6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lgoritmo que resuelve el problem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del computador la frase: “Ingresa un Número: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er (obtener) el número ingresado por la persona usando el tecl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una línea con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la frase “Gano yo con el” y el número (ingresado por la persona) más u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8C16-D502-49C7-995E-F1CC81C7A5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Programa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la traducción del algoritmo que resuelve el problema expresado en algún lenguaje de program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Usaremos como lenguaje de programa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FB05-660E-4B09-9125-3B69FB5CAD9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que representa el algoritm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4 Llamada con línea 2 (sin borde)"/>
          <p:cNvSpPr/>
          <p:nvPr/>
        </p:nvSpPr>
        <p:spPr>
          <a:xfrm>
            <a:off x="7072200" y="2286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Escribe en pant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5 Llamada con línea 2 (sin borde)"/>
          <p:cNvSpPr/>
          <p:nvPr/>
        </p:nvSpPr>
        <p:spPr>
          <a:xfrm>
            <a:off x="5072040" y="3071880"/>
            <a:ext cx="221472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Lee desde el tec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0133-94E4-4D6C-88A9-7463D0CE658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de programación creado en 1994 por SUN Microsyst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superconjunto de C (1971) y subconjunto de C++ (198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lenguaje orientado a obje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modelar/simular problemas rea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mueve la reutilización (herencia) de program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orientado a redes y web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insertar programas en páginas we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 concurrente y distribui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E474-A062-4E15-9AD6-032716B1777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inuació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pirado en el idioma inglé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t, print, read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Uso de Notación matemá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presiones: n+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ones: print(…), readInt(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terminan con punto y coma (;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alabra con significados especiales (int, print, 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o de minúsculas (salvo en casos especial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 (interpretación) preci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con significado/efecto bien defini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ACEE-40CC-4810-8A49-F6D3AAA0A44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5:34:19Z</dcterms:modified>
  <cp:revision>57</cp:revision>
  <dc:subject/>
  <dc:title>CC1001 – Computación I Clase 0</dc:title>
</cp:coreProperties>
</file>