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A912-3C0D-4743-93C7-CCCE99F9D430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FB6E-FBB6-45FC-A3B3-7016B8553A51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B8B-2479-4A80-8C59-954BAB3D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9DBA-6E3C-4A62-985B-C8675F69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BEBD1-5B46-48EA-9F44-CDA40BC7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B63E3-5A71-4D52-8C9F-6EF1F19F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DEB94-8D7D-41D1-98C0-34A607D5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E3DD4-B9A4-4C88-8757-676C0E9A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58ED7-C2F8-4E7B-986D-1A82D985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73BE1-5133-403C-93BD-07517E98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92EC0-CC53-4614-B038-2C39497F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F04F3-A96A-41E7-AD4B-5DD9B327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327D6-4CA1-4B17-B3D1-1E1C7AAF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F7B4A-B8E9-4D8C-A2FB-48062515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62A-CACF-4FD4-9544-9A768A82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841E6-1A74-4344-8783-73068EB0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295D5-4119-490A-9EBA-5934E726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7AE37-E63C-4928-A759-6258D73F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0E5DC-3922-4255-88E7-A4593F6E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013C5-85F7-433B-B41B-AB919FD4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065CD-BFEB-4C1B-AA48-0EE6B076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00391-9864-4009-B4A8-6A5E96C8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5E212-5FCA-4930-90F3-5B035E01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F795C-D426-45CF-8748-B489F375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D3D36-A853-4FBB-AB3B-48F94794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822C-E0C5-49D9-9C8E-A23CBFA0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A1BE2-E863-495F-B563-C4CEAB34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A89DD-6CC8-49B2-B3C7-E123F5D9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C2763-B489-4623-A8F6-2FB09F69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32E59-690A-4B59-AEAD-01864397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9ABC6-F09A-4C1A-95E8-348F95B6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5EBAB-8E14-47E4-B78F-95756684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B3F3F-8317-4E27-A4D7-02EA8DA7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BFBAE-34A7-49E9-B3CF-11BCBC25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5EA29-ED01-40EA-BA44-B0E1BF3D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CFE79-A87D-46C0-B6DD-4A546154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7847-A87E-43B4-9D10-48B17308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4381A-6119-43DE-A13E-7DEAC49F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CE039-805A-41E1-A057-CEC993EE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C96A7-F2A0-4E3D-9649-D1D504BB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67920-D95E-4941-A527-50A7E150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5B2CD-5754-47DE-B8B8-6EBE8AD9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20902-E7AB-4508-A3F3-A9275F10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CEB0A-F60E-494B-BEA8-0D9D7AA7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07787-0DE3-495D-A36D-53CB829A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428A0-CA22-433F-B4B1-B4585FF7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E2CED-F62C-4C13-903D-236259E2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DB66-46B5-4C72-B057-5347973D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B9747-8257-4634-BBD8-1BAF7AEC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62ECF-E13B-4D7B-97F4-E0B579D7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8F695-2E5B-43CE-824C-7E5C38E3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468D7-C5E8-48FC-BCB1-2A775054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CD5AE-D017-42E7-AC36-95584837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D7B1-2821-4449-ACC4-97E5F1DC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CB26-10BD-40C4-8413-873528E1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438B-9E07-4412-853B-F433C91A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81CA-E722-41D4-8B45-477BAD38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4003-5510-44E9-94AE-C5E4F7A8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10E9-EC2A-4076-BEA8-8EF6BC82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047C-574C-48E9-B5C8-A4A129D5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AD84-EF23-4C2B-8A3E-A1A116E3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8523-D9A1-4FD9-97E5-AE57A0BC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27F5-71AB-4EDC-A9A7-05F8F004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738F-7F96-40CE-8410-7D8EEC9A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68B7D-148D-423A-ACBF-03159709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ACF56-549C-40D3-99D0-B43D3E22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C2802-6D7C-4B28-9276-A50250B1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4027F-0432-4FE4-A7CE-ED28A09F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99C85-46D7-43C8-847C-F71571A9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B2AE-A65E-4D4B-B341-AD385154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51127-41D9-4413-A46A-ED28B6E0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88683-186D-45EB-A6E4-71A72D4A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EFCF3-3970-4453-AD9E-F98E9478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6B4CA-02F4-460D-9202-A4177DB6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7043B-A69E-49F4-817D-724FFA9E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E04AB-4A30-4A36-A5FA-A336082E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9F613-68AD-4170-9D66-B3237EB4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8C575-C262-4665-9C3A-53DDD9C8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2D225-B656-474D-B2B8-027F8D78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FE333-A2B4-4EDA-9339-D0476807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3C7E-5F60-423D-A42A-184B121C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EB31E-B5E8-45DF-B46E-7EF48FEB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044F5-D46D-4AAF-8014-76149EE2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45E7F-BD3F-4EA9-852C-F6EF432A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65FA7-5988-47FB-9DDE-A44102A1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F7190-146A-4AD2-A13F-BE8372ED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6E7D7-3B53-476D-9570-D911DDEF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8B09E-F85A-42C3-BE73-89938549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10533-1470-4220-9724-AF8AC924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0E876-FD80-4E83-95F6-4566C604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2BEEC-EDA1-4CC4-8AE3-DF4AF3C6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697-C641-4040-9008-4A2118F6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4F18E-2AE0-4911-95D3-3A6E2FEE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0898A-F3C9-4C7A-9C1C-AE12B470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84397-9788-40E1-9CDA-B8D2DC33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26C37-9CF7-4E88-AC94-0CAACD5D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C1BB9-DDEF-495B-91BA-DFCD9B1D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A3D70-69D1-468F-8246-7B2C37FE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4D29B-A5CE-40F7-A47C-6DB64CE3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506C6-53D2-4E3A-9441-9DCE60B9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5FCCF-D2FC-417F-B695-462B5699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62182-E3E9-4261-8CEE-8422A2A6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33FE-8220-4A55-8499-BF3D297F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3BD22-A15A-4261-BE2D-61E66E98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01083-3C35-46D8-BC53-AFDE67F6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A3AD8-66FF-49EF-BA26-6A1521C3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23D5E-1EF7-457C-830F-9A6EF11B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31BD8-D8DC-48A2-811C-2D42B9E8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2158B-4DE5-46B1-8581-1F433353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1431F-C399-4E28-A883-A73D5710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580CE-E6D6-4F30-98F3-2B3D2928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D3C87-DFA4-47CB-B6C3-2947B32B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6E0F6-0596-43DD-949A-2AF040D0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3E0B-C54E-4517-9AD2-39EAF447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12AD1-E6CE-4649-A07C-CA22149E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B9A30-3C09-47CD-B2F4-2D5C6F27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DB06F-DF07-48FF-9B57-3434FB4C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E6A6E-681C-46CC-AAF1-C8474C90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6AA94-15E3-43CC-9B69-516F4A5B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433AB-A542-4C6B-9162-E5D551BF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B312F-4207-4740-AA20-39AF625C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25DE5-0B01-4BA6-9ADB-A6B714DB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FCDE0-15BF-4932-9DE8-77EBBEDE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FC5C9-09C2-47C8-A391-79AFBAAC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5F19-7130-4CDA-87C2-474CEF40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7DDDD-7F78-48D4-8BFB-40451329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07303-BAB5-4EEA-B638-F2BE9A1F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6DCF0-7DC4-4FF9-A9C6-A1B2612D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AA322-CA2A-4297-9DF9-2FD72404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56038-ED73-49F9-976A-137BF962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E9CAF-0C94-4CFE-B97F-654C477D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DDBCB-C35B-4764-9EB0-2AD780D5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5259C-D3FC-4E6E-9CC1-B2E96FC6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E4687-6354-4E47-89FB-219667BE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DF0C8-6EAC-4C55-9D56-E13C3A1A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339E-D659-4734-93DD-19FDF942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3BB5E-4890-4061-8882-A1BDC2A7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09C59-9D9B-4CCB-A215-AB128F17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07A7B-7BD4-4238-8720-EF4458EE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A1F6D-ED4A-4556-9E60-46B45703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66FD3-0FB7-4083-8A84-28C5FDF0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B43FF-F5C5-4260-87AE-D1B833CC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1A1EE-5312-4EA2-A8AF-56C89DB8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3B57C-8062-4160-B3C2-F49529A0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6BEA4-CD16-4AAB-B753-34E257D5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47E85-E08F-4D39-A1A5-53820E31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AF1D-DB1A-46BB-B6BA-8CAFB28CAA4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8980-9744-4263-9A52-6C39C9417A1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9DD9-CF2F-4097-99FE-1854791D7FA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8DF8-F277-4EE2-88E3-7598F3579A3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86C0-ED28-4553-8E9D-95AAB7A3ACB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C367-3E52-48A2-9DA6-97C5E64031B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4A1C-EF22-45A2-9B4A-97902B86C887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D85F-C874-4B54-AFA8-165F6CEAA65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6A07-8181-4B15-B80E-977EF82E061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EAF8-8CD2-4B70-A017-8F18BB59D12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1867-5BCF-452C-8AE7-0730A6213A27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830C-16DE-4775-9F52-BA08B827078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945B-0131-4A0A-80C0-F3397BD1417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67EC-34E5-40BC-ABF8-A2FC027EE4A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D50A-1255-4A59-B284-ED8872CEABD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572F-A162-4119-8660-1BC518A533F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52C9-B718-4C66-BC53-2D8B8795B77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1386-FF1F-4EE0-A79C-8065238E7FF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7D71-282B-461F-9F61-429537A4D67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7E62-D53C-4464-9711-56FC11ECEF6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B565-DB39-4FED-9CAC-1D89135D01A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A04D-A3C7-439C-9D29-E0AE6CDE05E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E49C-CE7A-4CCD-93C1-7E94DC8DAF4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DA6E-267D-4A2D-BD1B-9FCE60E7424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lase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28840" y="5000400"/>
            <a:ext cx="7407360" cy="157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Fecha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7 de Marzo de 200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Sección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rofesor:  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rés Muñoz Orden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E-Mail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munoz@dcc.uchile.c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ágina Web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http://ucursos.ing.uchile.cl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5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C441-9664-4DB9-907F-4578D0C33AC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nalicemos nuestro código en detal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“Ingresa un Númer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unción (método) que escribe el parámetro (argumento) en la pantalla del computad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e en la pantalla la frase encerrada entre las comillas (“”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áxi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“…”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8940-3124-426E-BE8D-D04C48F4F29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claración (reserva de memoria) de una vari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clara (define)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como una variable de tipo ente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áxi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&lt;tipo&gt; &lt;variable&gt;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tipo&gt;: tipo de dato a definir (int o double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int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: número entero sin punto decim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double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: número real (con punto decimal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variable&gt;: identificador que define el nombre de la variable (letra seguida de letras, dígitos o _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1ED2-8913-4089-A532-4AC5F9C04DA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Variable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Representación simbólica de un valor (número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Representa una ubicación (celda) en la memoria del computado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apacidad: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un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valor/número (del tipo declarado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iene la capacidad de variar (cambiar) su val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8" name="Picture 2" descr=""/>
          <p:cNvPicPr/>
          <p:nvPr/>
        </p:nvPicPr>
        <p:blipFill>
          <a:blip r:embed="rId2"/>
          <a:stretch/>
        </p:blipFill>
        <p:spPr>
          <a:xfrm>
            <a:off x="2428920" y="3500280"/>
            <a:ext cx="5357880" cy="3062520"/>
          </a:xfrm>
          <a:prstGeom prst="rect">
            <a:avLst/>
          </a:prstGeom>
          <a:ln w="0">
            <a:noFill/>
          </a:ln>
        </p:spPr>
      </p:pic>
      <p:sp>
        <p:nvSpPr>
          <p:cNvPr id="619" name="5 CuadroTexto"/>
          <p:cNvSpPr/>
          <p:nvPr/>
        </p:nvSpPr>
        <p:spPr>
          <a:xfrm>
            <a:off x="4214880" y="39290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6 Rectángulo"/>
          <p:cNvSpPr/>
          <p:nvPr/>
        </p:nvSpPr>
        <p:spPr>
          <a:xfrm>
            <a:off x="3571920" y="4572000"/>
            <a:ext cx="357120" cy="3571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8 Conector recto de flecha"/>
          <p:cNvCxnSpPr/>
          <p:nvPr/>
        </p:nvCxnSpPr>
        <p:spPr>
          <a:xfrm>
            <a:off x="2857680" y="4071600"/>
            <a:ext cx="714960" cy="5007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lg" type="stealth" w="lg"/>
          </a:ln>
        </p:spPr>
      </p:cxnSp>
      <p:sp>
        <p:nvSpPr>
          <p:cNvPr id="622" name="10 CuadroTexto"/>
          <p:cNvSpPr/>
          <p:nvPr/>
        </p:nvSpPr>
        <p:spPr>
          <a:xfrm>
            <a:off x="1928880" y="37861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11 Rectángulo"/>
          <p:cNvSpPr/>
          <p:nvPr/>
        </p:nvSpPr>
        <p:spPr>
          <a:xfrm>
            <a:off x="5000760" y="5143680"/>
            <a:ext cx="928440" cy="3571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4" name="12 Conector recto de flecha"/>
          <p:cNvCxnSpPr/>
          <p:nvPr/>
        </p:nvCxnSpPr>
        <p:spPr>
          <a:xfrm flipH="1" flipV="1">
            <a:off x="5928840" y="5500080"/>
            <a:ext cx="1286640" cy="2862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lg" type="stealth" w="lg"/>
          </a:ln>
        </p:spPr>
      </p:cxnSp>
      <p:sp>
        <p:nvSpPr>
          <p:cNvPr id="625" name="13 CuadroTexto"/>
          <p:cNvSpPr/>
          <p:nvPr/>
        </p:nvSpPr>
        <p:spPr>
          <a:xfrm>
            <a:off x="7215120" y="55720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1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46C2-7A49-44D8-9469-43CA7A6EEC4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n = U.readInt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lnSpc>
                <a:spcPct val="9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353880" indent="-273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ectura de valor desde el teclad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53880" indent="-273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pera que el usuario ingrese un número y un EN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ee el número y lo entrega como resultado de la fun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l número se guarda (asigna a) la variable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53880" indent="-273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áxi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&lt;variable&gt; = &lt;U.readTipo&gt;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63800" indent="-167760">
              <a:lnSpc>
                <a:spcPct val="9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variable&gt;: identificador que define el nombre de la variabl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63800" indent="-167760">
              <a:lnSpc>
                <a:spcPct val="9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U.readTipo&gt;: método de lectura que indica el tipo de dato que le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lnSpc>
                <a:spcPct val="9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U.readInt() lee un enter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lnSpc>
                <a:spcPct val="9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U.readDouble() lee un re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75E6-E00C-4A29-8067-EBFFBDE76E5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n+1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e el valor de n incrementado en 1 en la pantal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valúa la expresión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n + 1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con el valor de la variable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e su resultado en la pantal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áxi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&lt;expresion&gt;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expresion&gt;: expresión aritmética a evaluar para imprimi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0A58-A853-42DE-A5B0-0F1EA81DE8F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Expresión Aritmética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as expresiones aritméticas funcionan igual como las conocemos y son de la for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[operando] [operador] [operando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Operadores soportado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Adición: +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ustracción: -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Multiplicación: *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División: /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Operand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Variables (por ejemplo </a:t>
            </a: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Constantes (por ejemplo </a:t>
            </a: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xpresiones con/sin paréntesis (por ejemplo </a:t>
            </a: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a*b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 a+(b/c)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Se resuelven con las mismas reglas aritméticas que ya conocemos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1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F172-B00E-4BC4-8013-92607A891E5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ambién es posible abreviar las instrucciones para “usar” menos líneas de códig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int n = U.readInt(“Ingresa un Númer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 equivalente 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“Ingresa un Númer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int n = U.readInt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91BB-A713-420A-885B-CAC03F4AF8A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“Gano yo con el “ + (n+1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 equivalente 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“Gano yo con el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n+1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l operador “+” de convierte en un operador de concatenación cuando lo utilizamos con textos en comilla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l paréntesis obliga a evaluar primero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(n+1)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antes de concaternarlo, y por lo tanto, es una adición en vez de concatenación (entero + entero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1A06-E62F-4533-B2ED-371F5E87BE7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ln(“Gano yo con el “ + (n+1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uando se usa el “print” solo, el cursor se queda parado en la misma línea ya escrita, pero al final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 este método provocamos que al final del texto que se debe mostrar se posicione el cursor al comienzo de una siguiente línea (print line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BCCC-CEB3-4717-B16B-17DE9A4B02E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Escribir un programa que establezca el siguiente diálog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4" name="4 Rectángulo redondeado"/>
          <p:cNvSpPr/>
          <p:nvPr/>
        </p:nvSpPr>
        <p:spPr>
          <a:xfrm>
            <a:off x="1928880" y="2428920"/>
            <a:ext cx="6715080" cy="25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alcular perímetro y área de un círc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Radi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Perímetro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Área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5 CuadroTexto"/>
          <p:cNvSpPr/>
          <p:nvPr/>
        </p:nvSpPr>
        <p:spPr>
          <a:xfrm>
            <a:off x="1000080" y="6357960"/>
            <a:ext cx="81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Gill Sans MT"/>
              </a:rPr>
              <a:t>Hint</a:t>
            </a: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: Recuerda que para este problema es necesario saber las fórmulas del área y del perímetro de un círcu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8B8A-94F5-4B03-96FC-B096FA73C61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 esta clas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Trabajo Práctic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mplementos de la Cl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C032-728C-4E0D-9370-3F3AB047CF8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Algoritmo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“Calcular perímetro y área de un círculo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“Radio: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eer un número para el radio desde el teclad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“Perímetro =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el resultado de 2 multiplicado por número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y multiplicado por el radio leído (fórmula del perímetro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“Área =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el resultado del número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multiplicado por el radio leído elevado al cuadrado (fórmula del áre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0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98BB-739C-42B8-9C6D-CD1A816BC33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Solución 1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Supongamos que el radio es enter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Calcular perímetro y área de un círculo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“Radi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int r = U.readInt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Perímetro = “ + (2*3.1416*r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Área = “ + (3.1416*r*r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ta es la forma con abreviaturas. Ojo que el número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que estamos utilizando es una aproximación, más que el número complet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908C-AC3A-44FC-9903-1B418C0B03D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rrores típicos al momento de revisar una solución: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 seguir fielmente el diálogo propues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Olvidar escribir la línea de títul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con mayúsculas las instruccion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la línea de título con print en vez de printl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pregunta con println y no con pri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mbrar inadecuadamente la vari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la letra griega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3,1416 en vez de 3.141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quivocarse en el valor de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(por ejemplo 3.1461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Olvidar el operador de multiplicación (*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Usar notación inexistente para elevar al cuadrado (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o r^2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2AB3-459C-48C6-BA4B-BBCFD07F907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Solución 2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Supongamos que el radio es re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Calcular perímetro y área de un círculo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double r = U.readDouble(“Radi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Perímetro = “ + (2*Math.PI*r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Área = “ + (Math.PI*Math.pow(r,2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Además de agregar el cambio de tipo, incorporamos métodos y valores de la librería matemática Math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EB32-4B72-49E7-B371-23F63C09E45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Math.P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lor predefinido para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(3.14159265358979323846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 una constante real (valor inmodificabl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Math.pow(x, 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alcula y entrega una potencia de un valor o variable (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Gill Sans MT"/>
              </a:rPr>
              <a:t>y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unción es predefinida, es decir, viene con el lenguaje JAV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FF40-4882-450B-95EF-AD0603EBB1C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abajo Prác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00"/>
                </a:solidFill>
                <a:uFillTx/>
                <a:latin typeface="Gill Sans MT"/>
              </a:rPr>
              <a:t>Problema 1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: Escribir un programa que establezca el siguiente diálogo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00"/>
                </a:solidFill>
                <a:uFillTx/>
                <a:latin typeface="Gill Sans MT"/>
              </a:rPr>
              <a:t>Problema 2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: Diseñar un diálogo y escribir un programa que calcule la velocidad de un móvil en km/h, dadas las distancia (en metros) y el tiempo (en segundos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00"/>
                </a:solidFill>
                <a:uFillTx/>
                <a:latin typeface="Gill Sans MT"/>
              </a:rPr>
              <a:t>Problema 3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: Inventar un problema, diseñar el diálogo y escribir el programa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4 Rectángulo redondeado"/>
          <p:cNvSpPr/>
          <p:nvPr/>
        </p:nvSpPr>
        <p:spPr>
          <a:xfrm>
            <a:off x="1928880" y="2143080"/>
            <a:ext cx="671508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alcular el perímetro y área de un rectá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Larg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Anch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Perímetro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Área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5 CuadroTexto"/>
          <p:cNvSpPr/>
          <p:nvPr/>
        </p:nvSpPr>
        <p:spPr>
          <a:xfrm>
            <a:off x="1000080" y="6357960"/>
            <a:ext cx="81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Gill Sans MT"/>
              </a:rPr>
              <a:t>Hint</a:t>
            </a: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: Recuerda que para este problema es necesario saber las fórmulas del área y del perímetro de un círcu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3558-756F-485D-840D-6FBBA0F0FDC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lementos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grama Jalisco complet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lass Jalisco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void main(String[] args) throws IOException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Ingresa un Númer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 = U.readInt(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Gano yo con el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n+1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odo programa debe estar contenido en una clase y guardado en un archivo con el mismo nombre de la clase (Jalisco.jav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Además el código debe ser escrito dentro de un método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main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3E9D-9FA5-4805-A266-127B440B437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lementos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intaxis básica de una clase “ejecutable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lass </a:t>
            </a:r>
            <a:r>
              <a:rPr b="0" lang="es-ES" sz="1400" spc="-1" strike="noStrike">
                <a:solidFill>
                  <a:srgbClr val="ff0000"/>
                </a:solidFill>
                <a:latin typeface="Consolas"/>
              </a:rPr>
              <a:t>&lt;nombre_de_la_clase&gt;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{ // solo se debe reemplazar el nombr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A continuación viene el método principal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que la hace “ejecutable”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void main(String[] args) throws IOException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74960" indent="-1695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Consolas"/>
              </a:rPr>
              <a:t>&lt;programa&gt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aquí va todo el program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odos los programas (al menos al principio del curso) los definiremos de la misma forma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 puede agregar “comentarios” con los caracteres // lo que permite escribir una línea de comentario. Múltiples líneas requieren el // al principi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66A0-08CB-4B69-B2EA-96B1C5AECCD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lementos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La clase 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import java.io.*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class U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BufferedReader teclado = new BufferedReader(new InputStreamReader(System.in)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int readInt() throws IOException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return Integer.parseInt(teclado.readLine()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int readInt(String x) throws IOException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print(x); return Integer.parseInt(teclado.readLine()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int readDouble() throws IOException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return Integer.parseDouble(teclado.readLine()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int readDouble(String x) throws IOException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print(x); return Integer.parseDouble(teclado.readLine()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void print(String x)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ystem.out.print(x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void println(String x)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ystem.out.println(x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19E9-4A1A-4A63-A6EE-2E93AF78932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lementos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ara utilizar los programas, se debe primero guardar la clase U en un archivo U.java en el mismo directorio que tu progra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n la clase U están todas las funciones que se requieren para escribir en pantalla y leer desde el teclado número enteros (int) y reales (doubl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uedes utilizar la misma clase U.java escrita para muchos program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F6DF-6FC7-437A-9328-46F9F0DB108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blema: Instruir al computador para que establezca el siguiente diálogo con una persona (usuario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4 Rectángulo redondeado"/>
          <p:cNvSpPr/>
          <p:nvPr/>
        </p:nvSpPr>
        <p:spPr>
          <a:xfrm>
            <a:off x="2571840" y="3214800"/>
            <a:ext cx="5000400" cy="25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Ingresa un 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Gano yo con el 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6 Llamada con línea 2 (sin borde)"/>
          <p:cNvSpPr/>
          <p:nvPr/>
        </p:nvSpPr>
        <p:spPr>
          <a:xfrm>
            <a:off x="500040" y="4572000"/>
            <a:ext cx="1643040" cy="357120"/>
          </a:xfr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Comput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7 Llamada con línea 2 (sin borde)"/>
          <p:cNvSpPr/>
          <p:nvPr/>
        </p:nvSpPr>
        <p:spPr>
          <a:xfrm>
            <a:off x="6929280" y="2643120"/>
            <a:ext cx="1643400" cy="357120"/>
          </a:xfr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Perso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8 CuadroTexto"/>
          <p:cNvSpPr/>
          <p:nvPr/>
        </p:nvSpPr>
        <p:spPr>
          <a:xfrm>
            <a:off x="1000080" y="6357960"/>
            <a:ext cx="814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Gill Sans MT"/>
              </a:rPr>
              <a:t>Programa Jalisco</a:t>
            </a: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:  El computador jamás pierde porque siempre pone un número mayor en 1 al que ingresa el usu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AC85-F226-45CA-9E42-306D25AE10D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Fin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1428840" y="6215040"/>
            <a:ext cx="7407360" cy="365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20e04"/>
                </a:solidFill>
                <a:latin typeface="Gill Sans MT"/>
              </a:rPr>
              <a:t>El Presente es la única salida del Pasado y la única entrada al Futu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01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702" name="5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554E-B1F4-4FDA-ADA2-97803F7FB49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Gill Sans MT"/>
              </a:rPr>
              <a:t>Algoritmo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 una serie de etapas (pasos, instrucciones) que debe realizar (ejecutar) el computador para resolver un problem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 MT"/>
              </a:rPr>
              <a:t>¿Cuáles son las etapas para resolver el problema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AC92-2CC0-49E1-961B-06C0B01C7D4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lgoritmo que resuelve el problem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scribir (mostrar) en la pantalla del computador la frase: “Ingresa un Número:”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Leer (obtener) el número ingresado por la persona usando el teclad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scribir (mostrar) en la pantalla una línea con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 la frase “Gano yo con el” y el número (ingresado por la persona) más un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8C9C-D1EA-4211-BFDB-A7C1F6FBEE5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Gill Sans MT"/>
              </a:rPr>
              <a:t>Programa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 la traducción del algoritmo que resuelve el problema expresado en algún lenguaje de program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 MT"/>
              </a:rPr>
              <a:t>Usaremos como lenguaje de programació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 MT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8C13-13D5-4C98-957B-7A9B981F18C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grama que representa el algoritmo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“Ingresa un Númer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n = U.readInt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“Gano yo con el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n+1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4 Llamada con línea 2 (sin borde)"/>
          <p:cNvSpPr/>
          <p:nvPr/>
        </p:nvSpPr>
        <p:spPr>
          <a:xfrm>
            <a:off x="7072200" y="2286000"/>
            <a:ext cx="1643040" cy="357120"/>
          </a:xfr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Escribe en panta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5 Llamada con línea 2 (sin borde)"/>
          <p:cNvSpPr/>
          <p:nvPr/>
        </p:nvSpPr>
        <p:spPr>
          <a:xfrm>
            <a:off x="5072040" y="3071880"/>
            <a:ext cx="2214720" cy="357120"/>
          </a:xfr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Lee desde el tecl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B286-9446-44A8-9C2A-7B8E7C3F789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JAV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Lenguaje de programación creado en 1994 por SUN Microsystem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s un superconjunto de C (1971) y subconjunto de C++ (1983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s un lenguaje orientado a objeto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acilidades para modelar/simular problemas real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romueve la reutilización (herencia) de program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Lenguaje orientado a redes y web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acilidades para insertar programas en páginas web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mputación concurrente y distribuid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64E0-A6E2-44CE-9CD3-1C3DF624D79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JAV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(continuación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Inspirado en el idioma inglé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int, print, read,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Uso de Notación matemátic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xpresiones: n+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unciones: print(…), readInt(…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Instrucciones terminan con punto y coma (;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alabra con significados especiales (int, print, …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Uso de minúsculas (salvo en casos especial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 (interpretación) precis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Instrucciones con significado/efecto bien definid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FFEA-DB65-418B-B912-C72717EC156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18:40Z</dcterms:created>
  <dc:creator>Andrés Muñoz Ordenes</dc:creator>
  <dc:description/>
  <dc:language>en-US</dc:language>
  <cp:lastModifiedBy>Andrés Muñoz Ordenes</cp:lastModifiedBy>
  <dcterms:modified xsi:type="dcterms:W3CDTF">2007-03-07T15:34:19Z</dcterms:modified>
  <cp:revision>57</cp:revision>
  <dc:subject/>
  <dc:title>CC1001 – Computación I Clase 0</dc:title>
</cp:coreProperties>
</file>